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D8B-4625-433D-9F28-12A1E823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DEF-8418-4BCB-B2E2-09E54422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D39-6CB9-4849-AC47-42D4696B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362-64A4-403A-8D67-D1FE1B19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A71-B9D6-4D35-BD37-F70A73CE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2C3-71C6-4E8F-8003-3637A5F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CC0-F69A-4E0B-8F9E-3A2CFCB1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E00-D7EA-4F1D-AEE9-AC84AAD0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6DB-16F3-4962-866B-DEE6BEC6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788-A5D2-44E7-B55C-33C6877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502-8326-4172-8171-ADD35F1F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E58-3665-4E54-8035-EBDCFFA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EA4A-681C-4681-A398-105BBA0A479F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ción del Costo de Capital obtenido con CAPM y APT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0160" y="1557360"/>
            <a:ext cx="8534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l costo de capital mediante los modelos CAPM y APT para datos de 1989 (fuente: McKinse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2421000"/>
          <a:ext cx="8353080" cy="4149720"/>
        </p:xfrm>
        <a:graphic>
          <a:graphicData uri="http://schemas.openxmlformats.org/drawingml/2006/table">
            <a:tbl>
              <a:tblPr/>
              <a:tblGrid>
                <a:gridCol w="3508920"/>
                <a:gridCol w="1569960"/>
                <a:gridCol w="1326240"/>
                <a:gridCol w="1947960"/>
              </a:tblGrid>
              <a:tr h="1070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APT-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untos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s de Corret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eléctr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s y beb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fores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as petrole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ahorro y prést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88800"/>
            <a:ext cx="8534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PT no se pregunta cuáles portafolios son eficientes. En lugar de eso, supone que el retorno esperado de cada activo depende de una serie de variables macroeconómicas (“factores”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decir, el APT establece que el premio por riesgo esperado de un activo depende del premio por riesgo asociado a cada factor y de la sensibilidad del activo a cada factor (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fortunadamente, el APT no dice cuáles son los factores subyace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85880" y="3246480"/>
                <a:ext cx="1809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ponemos que el retorno de un activo puede ser descompuesto en dos componentes, una esperada y una incierta, se puede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 = E(r) + U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demás suponemos que la incerteza proviene de dos 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información que afecta específicamente a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mercado, y afecta a todas las inversiones, e incluye cambios no anticipados en variables económicas tales como PGB, inflación, tasas de interés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332080" y="3068640"/>
                <a:ext cx="23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incorporar esto al model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 = E(r) + m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: componente de riesgo de mercado no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: componente específica de la fi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E(r) + (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…..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eoría de Valoración por Arbitraje parte suponiendo que la rentabilidad de una acción depende de varios factores macroeconómicos y de otros específicos 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lógica detrás del Modelo APT es la misma del CAPM, los inversionistas son recompensados por tomar un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CAPM, un factor (la sensibilidad al portafolio de mercado) captura el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ontraste, en el APT, la medida de este riesgo no diversificable viene de múltiple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delo APT es construido a partir de la premisa de que los inversionistas toman ventaja de las oportunidades de arbitr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plicación del modelo A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3416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ton y Gruber aplicaron el modelo APT a empresas de servicios de electricidad y gas de Nueva York para el período 1978-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on 6 factores como c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pread de tasas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tornos de largo plazo menos retornos de corto plazo de bonos del tesoro ameri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asa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retorno de bonos del tesoro americano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GB re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las proyección de crecimiento del producto geográfico bruto real de EE.U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 de Camb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valor del US$ relativo a una canasta de mone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f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pronóstico de la inflación de EE.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ercado resi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ariación del retorno de mercado no explicada por los cinco factores anter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 (promedio) ob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700280"/>
          <a:ext cx="8325000" cy="4908240"/>
        </p:xfrm>
        <a:graphic>
          <a:graphicData uri="http://schemas.openxmlformats.org/drawingml/2006/table">
            <a:tbl>
              <a:tblPr/>
              <a:tblGrid>
                <a:gridCol w="1828800"/>
                <a:gridCol w="2000160"/>
                <a:gridCol w="2414520"/>
                <a:gridCol w="2081520"/>
              </a:tblGrid>
              <a:tr h="678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por riesgo del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sgo del factor (b</a:t>
                      </a:r>
                      <a:r>
                        <a:rPr b="1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ad de ta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o 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=8.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ación del Costo de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74280"/>
            <a:ext cx="85341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informac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n anterior, es posible estimar el Costo de Capital de una empresa de serv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 tasa de retorno esperada se puede calcular a parti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....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sabe que la tasa del Bono del Tesoro americano a 1 año en Dicienbre de 1990 era de 7% anual. Por lo ta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premio por riesgo esperado = 7 + 8.53 = 15.53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3 factores de Fama y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3416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amos, específicamente, el modelo de 3 factores formulado por Fama y Fre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mañ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bro/mercad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ntabilidad del índice de mercado menos la tasa libre de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tamañ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firmas pequeñas menos retornos de firmas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libro-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las acciones con alto valor libro/mercado menos retorno de acciones con bajo valor libro/mer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período 1963-1994, se encontró que los premios por riesgo del mercado, tamaño y libro-mercado fueron de 5.2%, 3.2% y 5.4% anua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3:21:49Z</dcterms:created>
  <dc:creator>IVAN ALVAREZ VALDES</dc:creator>
  <dc:description/>
  <dc:language>en-US</dc:language>
  <cp:lastModifiedBy>IVAN ALVAREZ VALDES</cp:lastModifiedBy>
  <dcterms:modified xsi:type="dcterms:W3CDTF">2005-05-03T00:51:57Z</dcterms:modified>
  <cp:revision>10</cp:revision>
  <dc:subject/>
  <dc:title>Modelo de Valoración por Arbitraje</dc:title>
</cp:coreProperties>
</file>