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6057-547B-4BB5-A379-CAC0FFDA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8928-6A1E-4DCC-9C41-33E736C7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F4F6-BC24-4765-8319-B92910E0F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9AF3-10F2-406F-B0C3-1734D1894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899A-9DB2-4385-9265-2ECD02EA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8B91-FDCC-4858-A82C-A1C67981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C19F-4573-47D5-8195-0443FA6E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1F75-9914-429C-B929-D5E0DE42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3CE2-9974-412C-A8EB-1D0AF4A7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E1D0-FB88-4503-AA67-99869B76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D4B2-DC27-43CD-808B-45220491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7DCB-4348-4B1D-B713-606154BC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5D6A-F930-494D-ABAE-E3B134FD328E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bitrage Pricing Theory (AP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mparación del Costo de Capital obtenido con CAPM y APT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0160" y="1557360"/>
            <a:ext cx="85345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imación del costo de capital mediante los modelos CAPM y APT para datos de 1989 (fuente: McKinse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95280" y="2421000"/>
          <a:ext cx="8353080" cy="4149720"/>
        </p:xfrm>
        <a:graphic>
          <a:graphicData uri="http://schemas.openxmlformats.org/drawingml/2006/table">
            <a:tbl>
              <a:tblPr/>
              <a:tblGrid>
                <a:gridCol w="3508920"/>
                <a:gridCol w="1569960"/>
                <a:gridCol w="1326240"/>
                <a:gridCol w="1947960"/>
              </a:tblGrid>
              <a:tr h="10706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erencia APT-CAP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untos 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as de Correta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ios eléctric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mentos y bebi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os forest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erí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4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ías petroler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tuciones de ahorro y présta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Arbitrage Pricing Theory (AP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88800"/>
            <a:ext cx="853416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APT no se pregunta cuáles portafolios son eficientes. En lugar de eso, supone que el retorno esperado de cada activo depende de una serie de variables macroeconómicas (“factores”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actor 1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+ 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actor 2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+ ...+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actor k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decir, el APT establece que el premio por riesgo esperado de un activo depende del premio por riesgo asociado a cada factor y de la sensibilidad del activo a cada factor (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..., 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afortunadamente, el APT no dice cuáles son los factores subyacen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685880" y="3246480"/>
                <a:ext cx="18097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actor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actor</m:t>
                            </m:r>
                            <m:r>
                              <m:t xml:space="preserve"> 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Arbitrage Pricing Theory (AP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91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suponemos que el retorno de un activo puede ser descompuesto en dos componentes, una esperada y una incierta, se puede escribi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r = E(r) + U 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además suponemos que la incerteza proviene de dos fu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información que afecta específicamente a l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l mercado, y afecta a todas las inversiones, e incluye cambios no anticipados en variables económicas tales como PGB, inflación, tasas de interés, entre ot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332080" y="3068640"/>
                <a:ext cx="230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Arbitrage Pricing Theory (AP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 incorporar esto al modelo se tie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 = E(r) + m +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: componente de riesgo de mercado no anticip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: componente específica de la fir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 E(r) + (b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+…..+b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 +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actor 1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+ 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actor 2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+ ...+b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actor k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Arbitrage Pricing Theory (AP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Teoría de Valoración por Arbitraje parte suponiendo que la rentabilidad de una acción depende de varios factores macroeconómicos y de otros específicos a l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lógica detrás del Modelo APT es la misma del CAPM, los inversionistas son recompensados por tomar un riesgo no diversific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el CAPM, un factor (la sensibilidad al portafolio de mercado) captura el riesgo no diversific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contraste, en el APT, la medida de este riesgo no diversificable viene de múltiples fact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modelo APT es construido a partir de la premisa de que los inversionistas toman ventaja de las oportunidades de arbitra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Aplicación del modelo A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534160" cy="50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ton y Gruber aplicaron el modelo APT a empresas de servicios de electricidad y gas de Nueva York para el período 1978-199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dentificaron 6 factores como cla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pread de tasas de interé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Retornos de largo plazo menos retornos de corto plazo de bonos del tesoro americ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Tasa de interé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Cambio en el retorno de bonos del tesoro americano de corto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PGB re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Cambio en las proyección de crecimiento del producto geográfico bruto real de EE.U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Tipo de Camb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Cambio en el valor del US$ relativo a una canasta de mone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Infl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Cambio en el pronóstico de la inflación de EE.U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Mercado residu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Variación del retorno de mercado no explicada por los cinco factores anteri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Resultados (promedio) obten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95280" y="1700280"/>
          <a:ext cx="8325000" cy="4908240"/>
        </p:xfrm>
        <a:graphic>
          <a:graphicData uri="http://schemas.openxmlformats.org/drawingml/2006/table">
            <a:tbl>
              <a:tblPr/>
              <a:tblGrid>
                <a:gridCol w="1828800"/>
                <a:gridCol w="2000160"/>
                <a:gridCol w="2414520"/>
                <a:gridCol w="2081520"/>
              </a:tblGrid>
              <a:tr h="6786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mio por riesgo del fa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esgo del factor (b</a:t>
                      </a:r>
                      <a:r>
                        <a:rPr b="1" lang="pt-BR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mio x ries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6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ead de tas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a de Inter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e Camb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B re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l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uo Merc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=8.5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terminación del Costo de Capi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574280"/>
            <a:ext cx="8534160" cy="49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 la informac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ón anterior, es posible estimar el Costo de Capital de una empresa de servi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a tasa de retorno esperada se puede calcular a partir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= 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F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+ .... + b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(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F6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sabe que la tasa del Bono del Tesoro americano a 1 año en Dicienbre de 1990 era de 7% anual. Por lo tan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= r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+ premio por riesgo esperado = 7 + 8.53 = 15.53% 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odelo de 3 factores de Fama y Fren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534160" cy="53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eamos, específicamente, el modelo de 3 factores formulado por Fama y Fren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erca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+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amaño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+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ibro/mercado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Factor mercad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rentabilidad del índice de mercado menos la tasa libre de ries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Factor tamañ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retornos de firmas pequeñas menos retornos de firmas gran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Factor libro-mercad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retornos de las acciones con alto valor libro/mercado menos retorno de acciones con bajo valor libro/merca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el período 1963-1994, se encontró que los premios por riesgo del mercado, tamaño y libro-mercado fueron de 5.2%, 3.2% y 5.4% anual, respectiv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23:21:49Z</dcterms:created>
  <dc:creator>IVAN ALVAREZ VALDES</dc:creator>
  <dc:description/>
  <dc:language>en-US</dc:language>
  <cp:lastModifiedBy>IVAN ALVAREZ VALDES</cp:lastModifiedBy>
  <dcterms:modified xsi:type="dcterms:W3CDTF">2005-05-03T00:51:57Z</dcterms:modified>
  <cp:revision>10</cp:revision>
  <dc:subject/>
  <dc:title>Modelo de Valoración por Arbitraje</dc:title>
</cp:coreProperties>
</file>