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46B3-1520-487E-B3DB-C808799D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978B-A944-47CA-96F0-F88267B3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07B-75A3-4B3C-B203-55B832A6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43A3-1522-4C12-B814-0C77CB53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9BD4-A2B3-4B06-94B4-DBCD314E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785-4BBD-4059-896E-52FD79D0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519-2268-47AA-9B6D-F8ADAFD4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398-5170-45CE-AF92-734CDC5C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CBD-D60F-42A9-A9D3-2E476935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CAA-2DC5-4286-BF03-BC9ABA2F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A16-BFB6-4CFB-8F6F-6CAE05FB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524-ACA9-4A84-A10B-96359000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F8D8-5A44-4327-80F8-FA606CE6F661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aración del Costo de Capital obtenido con CAPM y APT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0160" y="1557360"/>
            <a:ext cx="85345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imación del costo de capital mediante los modelos CAPM y APT para datos de 1989 (fuente: McKinse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5280" y="2421000"/>
          <a:ext cx="8353080" cy="4149720"/>
        </p:xfrm>
        <a:graphic>
          <a:graphicData uri="http://schemas.openxmlformats.org/drawingml/2006/table">
            <a:tbl>
              <a:tblPr/>
              <a:tblGrid>
                <a:gridCol w="3508920"/>
                <a:gridCol w="1569960"/>
                <a:gridCol w="1326240"/>
                <a:gridCol w="1947960"/>
              </a:tblGrid>
              <a:tr h="1070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 APT-CA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untos 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as de Corret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eléctri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mentos y bebi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s fores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er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ías petrole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ahorro y présta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88800"/>
            <a:ext cx="853416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APT no se pregunta cuáles portafolios son eficientes. En lugar de eso, supone que el retorno esperado de cada activo depende de una serie de variables macroeconómicas (“factores”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1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2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...+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k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decir, el APT establece que el premio por riesgo esperado de un activo depende del premio por riesgo asociado a cada factor y de la sensibilidad del activo a cada factor (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...,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fortunadamente, el APT no dice cuáles son los factores subyace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685880" y="3246480"/>
                <a:ext cx="1809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ctor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ctor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uponemos que el retorno de un activo puede ser descompuesto en dos componentes, una esperada y una incierta, se puede escribi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 = E(r) + U 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además suponemos que la incerteza proviene de dos fu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información que afecta específicamente a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mercado, y afecta a todas las inversiones, e incluye cambios no anticipados en variables económicas tales como PGB, inflación, tasas de interés, entre o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332080" y="3068640"/>
                <a:ext cx="230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incorporar esto al modelo se 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 = E(r) + m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: componente de riesgo de mercado no anticip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: componente específica de la fir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E(r) + (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…..+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1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2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...+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k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Teoría de Valoración por Arbitraje parte suponiendo que la rentabilidad de una acción depende de varios factores macroeconómicos y de otros específicos a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lógica detrás del Modelo APT es la misma del CAPM, los inversionistas son recompensados por tomar un riesgo no diversific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CAPM, un factor (la sensibilidad al portafolio de mercado) captura el riesgo no diversific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contraste, en el APT, la medida de este riesgo no diversificable viene de múltiples fa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odelo APT es construido a partir de la premisa de que los inversionistas toman ventaja de las oportunidades de arbitr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plicación del modelo A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34160" cy="50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ton y Gruber aplicaron el modelo APT a empresas de servicios de electricidad y gas de Nueva York para el período 1978-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dentificaron 6 factores como cl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pread de tasas de interé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Retornos de largo plazo menos retornos de corto plazo de bonos del tesoro americ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asa de interé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el retorno de bonos del tesoro americano de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GB re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las proyección de crecimiento del producto geográfico bruto real de EE.U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ipo de Camb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el valor del US$ relativo a una canasta de mone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fl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el pronóstico de la inflación de EE.U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ercado resi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Variación del retorno de mercado no explicada por los cinco factores anteri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sultados (promedio) obte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1700280"/>
          <a:ext cx="8325000" cy="4908240"/>
        </p:xfrm>
        <a:graphic>
          <a:graphicData uri="http://schemas.openxmlformats.org/drawingml/2006/table">
            <a:tbl>
              <a:tblPr/>
              <a:tblGrid>
                <a:gridCol w="1828800"/>
                <a:gridCol w="2000160"/>
                <a:gridCol w="2414520"/>
                <a:gridCol w="2081520"/>
              </a:tblGrid>
              <a:tr h="678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por riesgo del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sgo del factor (b</a:t>
                      </a:r>
                      <a:r>
                        <a:rPr b="1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x ries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ead de ta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a de Inter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Camb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B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o Mer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=8.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ación del Costo de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74280"/>
            <a:ext cx="853416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 la informac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ón anterior, es posible estimar el Costo de Capital de una empresa de servi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 tasa de retorno esperada se puede calcular a parti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=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+ .... + b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(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6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sabe que la tasa del Bono del Tesoro americano a 1 año en Dicienbre de 1990 era de 7% anual. Por lo ta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=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+ premio por riesgo esperado = 7 + 8.53 = 15.53% 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delo de 3 factores de Fama y Fre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3416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amos, específicamente, el modelo de 3 factores formulado por Fama y Fren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erca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amañ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ibro/mercad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Factor mercad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rentabilidad del índice de mercado menos la tasa libre de ries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Factor tamañ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retornos de firmas pequeñas menos retornos de firmas gran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Factor libro-mercad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retornos de las acciones con alto valor libro/mercado menos retorno de acciones con bajo valor libro/merc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el período 1963-1994, se encontró que los premios por riesgo del mercado, tamaño y libro-mercado fueron de 5.2%, 3.2% y 5.4% anual, respect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23:21:49Z</dcterms:created>
  <dc:creator>IVAN ALVAREZ VALDES</dc:creator>
  <dc:description/>
  <dc:language>en-US</dc:language>
  <cp:lastModifiedBy>IVAN ALVAREZ VALDES</cp:lastModifiedBy>
  <dcterms:modified xsi:type="dcterms:W3CDTF">2005-05-03T00:51:57Z</dcterms:modified>
  <cp:revision>10</cp:revision>
  <dc:subject/>
  <dc:title>Modelo de Valoración por Arbitraje</dc:title>
</cp:coreProperties>
</file>