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ED7-9C23-46C1-B71A-57FDFDC1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CC9-273B-4093-BE06-1196F4DE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AE5-4898-4A56-AA99-A403FD74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9DC-E43E-4D7A-A685-BF86E5E8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BDB-B69A-4EDB-9C9B-F8427AB5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66D-F623-4D99-832D-10C37E80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215-E023-40F0-9C45-E6A69C2B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372-E744-4464-A056-5A643269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C79-C58B-4CFC-9955-520C670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E69-9BA8-4165-A168-EB582F12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072-96FE-4640-9D32-28FC6C8D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029-9D32-439F-B6FE-0FDD69D8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E59A-6748-41BE-A46D-FD6766534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auta Exame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mestre Otoño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tuación Futura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lla de Deci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7520" y="2637000"/>
            <a:ext cx="100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6370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4" idx="3"/>
            <a:endCxn id="70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2" idx="3"/>
            <a:endCxn id="73" idx="2"/>
          </p:cNvCxnSpPr>
          <p:nvPr/>
        </p:nvCxnSpPr>
        <p:spPr>
          <a:xfrm flipV="1">
            <a:off x="5940360" y="3212280"/>
            <a:ext cx="216720" cy="122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6076440" y="3355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0" idx="0"/>
            <a:endCxn id="71" idx="1"/>
          </p:cNvCxnSpPr>
          <p:nvPr/>
        </p:nvCxnSpPr>
        <p:spPr>
          <a:xfrm flipH="1" flipV="1" rot="5400000">
            <a:off x="2876760" y="3468960"/>
            <a:ext cx="122472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4565160" y="2925360"/>
            <a:ext cx="367560" cy="1513800"/>
          </a:xfrm>
          <a:prstGeom prst="bentConnector3">
            <a:avLst>
              <a:gd name="adj1" fmla="val 497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71" idx="2"/>
          </p:cNvCxnSpPr>
          <p:nvPr/>
        </p:nvCxnSpPr>
        <p:spPr>
          <a:xfrm flipH="1" flipV="1">
            <a:off x="4061520" y="3212280"/>
            <a:ext cx="1878840" cy="1226520"/>
          </a:xfrm>
          <a:prstGeom prst="bentConnector4">
            <a:avLst>
              <a:gd name="adj1" fmla="val -12073"/>
              <a:gd name="adj2" fmla="val 61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2709720" y="3429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30686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1" idx="3"/>
            <a:endCxn id="73" idx="1"/>
          </p:cNvCxnSpPr>
          <p:nvPr/>
        </p:nvCxnSpPr>
        <p:spPr>
          <a:xfrm>
            <a:off x="4565160" y="2925360"/>
            <a:ext cx="1086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2" idx="3"/>
            <a:endCxn id="75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70" idx="0"/>
            <a:endCxn id="72" idx="1"/>
          </p:cNvCxnSpPr>
          <p:nvPr/>
        </p:nvCxnSpPr>
        <p:spPr>
          <a:xfrm flipH="1" rot="16200000">
            <a:off x="4032360" y="3537000"/>
            <a:ext cx="289440" cy="1512000"/>
          </a:xfrm>
          <a:prstGeom prst="bentConnector4">
            <a:avLst>
              <a:gd name="adj1" fmla="val -79202"/>
              <a:gd name="adj2" fmla="val 665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5" idx="2"/>
            <a:endCxn id="72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endCxn id="73" idx="0"/>
          </p:cNvCxnSpPr>
          <p:nvPr/>
        </p:nvCxnSpPr>
        <p:spPr>
          <a:xfrm>
            <a:off x="6011640" y="1773000"/>
            <a:ext cx="144720" cy="86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6154200" y="1628640"/>
            <a:ext cx="99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73" idx="3"/>
            <a:endCxn id="72" idx="0"/>
          </p:cNvCxnSpPr>
          <p:nvPr/>
        </p:nvCxnSpPr>
        <p:spPr>
          <a:xfrm flipH="1">
            <a:off x="5436720" y="2925720"/>
            <a:ext cx="1223280" cy="1224720"/>
          </a:xfrm>
          <a:prstGeom prst="bentConnector4">
            <a:avLst>
              <a:gd name="adj1" fmla="val -18545"/>
              <a:gd name="adj2" fmla="val 768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139440" y="3801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148428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CIA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L SE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lla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57520" y="2637000"/>
            <a:ext cx="100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26370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3"/>
            <a:endCxn id="98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1" idx="2"/>
          </p:cNvCxnSpPr>
          <p:nvPr/>
        </p:nvCxnSpPr>
        <p:spPr>
          <a:xfrm flipV="1">
            <a:off x="5940360" y="3212280"/>
            <a:ext cx="216720" cy="122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76440" y="3355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98" idx="0"/>
            <a:endCxn id="99" idx="1"/>
          </p:cNvCxnSpPr>
          <p:nvPr/>
        </p:nvCxnSpPr>
        <p:spPr>
          <a:xfrm flipH="1" flipV="1" rot="5400000">
            <a:off x="2876760" y="3468960"/>
            <a:ext cx="122472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0" idx="1"/>
          </p:cNvCxnSpPr>
          <p:nvPr/>
        </p:nvCxnSpPr>
        <p:spPr>
          <a:xfrm>
            <a:off x="4565160" y="2925360"/>
            <a:ext cx="367560" cy="1513800"/>
          </a:xfrm>
          <a:prstGeom prst="bentConnector3">
            <a:avLst>
              <a:gd name="adj1" fmla="val 497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0" idx="3"/>
            <a:endCxn id="99" idx="2"/>
          </p:cNvCxnSpPr>
          <p:nvPr/>
        </p:nvCxnSpPr>
        <p:spPr>
          <a:xfrm flipH="1" flipV="1">
            <a:off x="4061520" y="3212280"/>
            <a:ext cx="1878840" cy="1226520"/>
          </a:xfrm>
          <a:prstGeom prst="bentConnector4">
            <a:avLst>
              <a:gd name="adj1" fmla="val -12073"/>
              <a:gd name="adj2" fmla="val 61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709720" y="3429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30686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3"/>
            <a:endCxn id="101" idx="1"/>
          </p:cNvCxnSpPr>
          <p:nvPr/>
        </p:nvCxnSpPr>
        <p:spPr>
          <a:xfrm>
            <a:off x="4565160" y="2925360"/>
            <a:ext cx="1086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0" idx="3"/>
            <a:endCxn id="103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98" idx="0"/>
            <a:endCxn id="100" idx="1"/>
          </p:cNvCxnSpPr>
          <p:nvPr/>
        </p:nvCxnSpPr>
        <p:spPr>
          <a:xfrm flipH="1" rot="16200000">
            <a:off x="4032360" y="3537000"/>
            <a:ext cx="289440" cy="1512000"/>
          </a:xfrm>
          <a:prstGeom prst="bentConnector4">
            <a:avLst>
              <a:gd name="adj1" fmla="val -79202"/>
              <a:gd name="adj2" fmla="val 665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3" idx="2"/>
            <a:endCxn id="100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148428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CIA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L SE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3"/>
            <a:endCxn id="101" idx="0"/>
          </p:cNvCxnSpPr>
          <p:nvPr/>
        </p:nvCxnSpPr>
        <p:spPr>
          <a:xfrm>
            <a:off x="6011640" y="1773000"/>
            <a:ext cx="144720" cy="86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154200" y="1628640"/>
            <a:ext cx="99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1" idx="3"/>
            <a:endCxn id="100" idx="0"/>
          </p:cNvCxnSpPr>
          <p:nvPr/>
        </p:nvCxnSpPr>
        <p:spPr>
          <a:xfrm flipH="1">
            <a:off x="5436720" y="2925720"/>
            <a:ext cx="1223280" cy="1224720"/>
          </a:xfrm>
          <a:prstGeom prst="bentConnector4">
            <a:avLst>
              <a:gd name="adj1" fmla="val -18545"/>
              <a:gd name="adj2" fmla="val 768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6139440" y="3801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1" idx="0"/>
            <a:endCxn id="119" idx="1"/>
          </p:cNvCxnSpPr>
          <p:nvPr/>
        </p:nvCxnSpPr>
        <p:spPr>
          <a:xfrm flipV="1" rot="16200000">
            <a:off x="5147640" y="1627920"/>
            <a:ext cx="864360" cy="1153440"/>
          </a:xfrm>
          <a:prstGeom prst="bentConnector4">
            <a:avLst>
              <a:gd name="adj1" fmla="val 23333"/>
              <a:gd name="adj2" fmla="val 119825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4000680" y="1709640"/>
            <a:ext cx="85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Rep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Gest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01" idx="3"/>
            <a:endCxn id="103" idx="0"/>
          </p:cNvCxnSpPr>
          <p:nvPr/>
        </p:nvCxnSpPr>
        <p:spPr>
          <a:xfrm>
            <a:off x="6659640" y="2925720"/>
            <a:ext cx="1513440" cy="1224720"/>
          </a:xfrm>
          <a:prstGeom prst="bentConnector2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95280" y="249228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Ver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155736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1" idx="0"/>
            <a:endCxn id="128" idx="1"/>
          </p:cNvCxnSpPr>
          <p:nvPr/>
        </p:nvCxnSpPr>
        <p:spPr>
          <a:xfrm flipV="1" rot="16200000">
            <a:off x="3924720" y="405000"/>
            <a:ext cx="791280" cy="3672720"/>
          </a:xfrm>
          <a:prstGeom prst="bentConnector4">
            <a:avLst>
              <a:gd name="adj1" fmla="val 31907"/>
              <a:gd name="adj2" fmla="val 106224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83120" y="1144440"/>
            <a:ext cx="605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requerimientos de información son (por ejemplo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ocer situación de un despacho deter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tener parámetros de control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#reclamos, tpos transcurrido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19400" y="4240080"/>
            <a:ext cx="67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costos y beneficios son (por ejempl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sión en tecnología de información (Hardware, Softwar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icaciones), capacitación, y beneficios tales como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jor atención a clientes que redunda en elemento de atr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nuevos clientes (mayores ven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Entidad Re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05000" y="1971720"/>
            <a:ext cx="6534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0000" y="148464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se agr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a entidad resu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que se desprende de recla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contiene atributos tales como # reclamos por loc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promedio de resolución de reclam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# reclamos no resueltos por local, et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Act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63640" y="4214880"/>
            <a:ext cx="1440000" cy="1952640"/>
            <a:chOff x="1763640" y="4214880"/>
            <a:chExt cx="1440000" cy="1952640"/>
          </a:xfrm>
        </p:grpSpPr>
        <p:sp>
          <p:nvSpPr>
            <p:cNvPr id="138" name=""/>
            <p:cNvSpPr/>
            <p:nvPr/>
          </p:nvSpPr>
          <p:spPr>
            <a:xfrm>
              <a:off x="2050920" y="514980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43088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3640" y="421488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6560" y="57992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69080" y="4076640"/>
            <a:ext cx="1439640" cy="1952640"/>
            <a:chOff x="5869080" y="4076640"/>
            <a:chExt cx="1439640" cy="1952640"/>
          </a:xfrm>
        </p:grpSpPr>
        <p:sp>
          <p:nvSpPr>
            <p:cNvPr id="143" name=""/>
            <p:cNvSpPr/>
            <p:nvPr/>
          </p:nvSpPr>
          <p:spPr>
            <a:xfrm>
              <a:off x="6156000" y="5011560"/>
              <a:ext cx="86184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6000" y="4292640"/>
              <a:ext cx="8618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9080" y="4076640"/>
              <a:ext cx="143964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1640" y="5661000"/>
              <a:ext cx="11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1622520"/>
            <a:ext cx="1440000" cy="1952640"/>
            <a:chOff x="1763640" y="1622520"/>
            <a:chExt cx="1440000" cy="1952640"/>
          </a:xfrm>
        </p:grpSpPr>
        <p:sp>
          <p:nvSpPr>
            <p:cNvPr id="148" name=""/>
            <p:cNvSpPr/>
            <p:nvPr/>
          </p:nvSpPr>
          <p:spPr>
            <a:xfrm>
              <a:off x="2050920" y="255744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0920" y="183852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62252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6560" y="320688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97440" y="1628640"/>
            <a:ext cx="1440000" cy="1952640"/>
            <a:chOff x="5797440" y="1628640"/>
            <a:chExt cx="1440000" cy="1952640"/>
          </a:xfrm>
        </p:grpSpPr>
        <p:sp>
          <p:nvSpPr>
            <p:cNvPr id="153" name=""/>
            <p:cNvSpPr/>
            <p:nvPr/>
          </p:nvSpPr>
          <p:spPr>
            <a:xfrm>
              <a:off x="6084720" y="256356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4720" y="184464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7440" y="162864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0360" y="3213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708360" y="342900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2"/>
            <a:endCxn id="140" idx="3"/>
          </p:cNvCxnSpPr>
          <p:nvPr/>
        </p:nvCxnSpPr>
        <p:spPr>
          <a:xfrm flipH="1">
            <a:off x="3203280" y="4076640"/>
            <a:ext cx="122616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7" idx="2"/>
            <a:endCxn id="145" idx="1"/>
          </p:cNvCxnSpPr>
          <p:nvPr/>
        </p:nvCxnSpPr>
        <p:spPr>
          <a:xfrm>
            <a:off x="4429080" y="4076280"/>
            <a:ext cx="14403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57" idx="0"/>
            <a:endCxn id="150" idx="3"/>
          </p:cNvCxnSpPr>
          <p:nvPr/>
        </p:nvCxnSpPr>
        <p:spPr>
          <a:xfrm flipH="1" flipV="1">
            <a:off x="3203280" y="2414160"/>
            <a:ext cx="1226160" cy="10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57" idx="0"/>
            <a:endCxn id="155" idx="1"/>
          </p:cNvCxnSpPr>
          <p:nvPr/>
        </p:nvCxnSpPr>
        <p:spPr>
          <a:xfrm flipV="1">
            <a:off x="4428720" y="2420640"/>
            <a:ext cx="1369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250920" y="472428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989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3280" y="1989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96360" y="4437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2"/>
            <a:endCxn id="140" idx="1"/>
          </p:cNvCxnSpPr>
          <p:nvPr/>
        </p:nvCxnSpPr>
        <p:spPr>
          <a:xfrm flipV="1">
            <a:off x="1258920" y="5006520"/>
            <a:ext cx="5054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3" idx="2"/>
            <a:endCxn id="150" idx="1"/>
          </p:cNvCxnSpPr>
          <p:nvPr/>
        </p:nvCxnSpPr>
        <p:spPr>
          <a:xfrm>
            <a:off x="1258920" y="2385720"/>
            <a:ext cx="5054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4" idx="5"/>
            <a:endCxn id="155" idx="3"/>
          </p:cNvCxnSpPr>
          <p:nvPr/>
        </p:nvCxnSpPr>
        <p:spPr>
          <a:xfrm flipH="1">
            <a:off x="7236720" y="2385720"/>
            <a:ext cx="43092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5" idx="5"/>
            <a:endCxn id="145" idx="3"/>
          </p:cNvCxnSpPr>
          <p:nvPr/>
        </p:nvCxnSpPr>
        <p:spPr>
          <a:xfrm flipH="1">
            <a:off x="7308360" y="4833720"/>
            <a:ext cx="43272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bios Distrib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entralizar recepción telefónica de rec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sibilidad de reportes centralizados a nivel compañ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éplica distribuida en vez de centralización (menor dependencia de las comunicaciones). En todo caso, podría ser centralizado tambi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Fu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514980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4869000"/>
            <a:ext cx="1440000" cy="9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6560" y="57992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011560"/>
            <a:ext cx="8618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9080" y="4724280"/>
            <a:ext cx="1439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255744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2349360"/>
            <a:ext cx="1440000" cy="8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6560" y="32068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256392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7440" y="2349360"/>
            <a:ext cx="1440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42900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fo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2"/>
            <a:endCxn id="174" idx="3"/>
          </p:cNvCxnSpPr>
          <p:nvPr/>
        </p:nvCxnSpPr>
        <p:spPr>
          <a:xfrm flipH="1">
            <a:off x="3203280" y="4076280"/>
            <a:ext cx="12261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5" idx="2"/>
            <a:endCxn id="177" idx="1"/>
          </p:cNvCxnSpPr>
          <p:nvPr/>
        </p:nvCxnSpPr>
        <p:spPr>
          <a:xfrm>
            <a:off x="4429080" y="4076640"/>
            <a:ext cx="144036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5" idx="0"/>
            <a:endCxn id="180" idx="3"/>
          </p:cNvCxnSpPr>
          <p:nvPr/>
        </p:nvCxnSpPr>
        <p:spPr>
          <a:xfrm flipH="1" flipV="1">
            <a:off x="3203280" y="2777760"/>
            <a:ext cx="122616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5" idx="0"/>
            <a:endCxn id="183" idx="1"/>
          </p:cNvCxnSpPr>
          <p:nvPr/>
        </p:nvCxnSpPr>
        <p:spPr>
          <a:xfrm flipV="1">
            <a:off x="4428720" y="2780640"/>
            <a:ext cx="1369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3995640" y="1700280"/>
            <a:ext cx="1152720" cy="792000"/>
          </a:xfrm>
          <a:prstGeom prst="parallelogram">
            <a:avLst>
              <a:gd name="adj" fmla="val 363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90" idx="4"/>
            <a:endCxn id="185" idx="0"/>
          </p:cNvCxnSpPr>
          <p:nvPr/>
        </p:nvCxnSpPr>
        <p:spPr>
          <a:xfrm flipH="1">
            <a:off x="4428360" y="2492280"/>
            <a:ext cx="14364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Proce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ción D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Lla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r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onar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imiento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alternativas de diseñ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entralizar datos de clientes, productos y recursos de la empresa, localizando los datos de reclamos y despac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plicar todos los datos en todas las local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.- Falso, debido a que además depende de las otras vistas (procesos, interfaces) y niv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.- Verdadero. El nivel de negocio o conceptual es input para el nivel lógico (sistema de información); aporta los diseños a nivel de sistema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.- los tópicos son customización, integración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y actualización (up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istema/Proceso 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Atención de Reclamos del Servicio de 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eja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se a tener un objetivo general de excelencia en el servicio al cliente, este proceso carece de objetivos específicos medibles y por lo tanto no puede gestionar el proceso, por lo que no puede administrar ni predecir la calidad de los resultados. No existe entonces mecanismos de control de los recl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administración no dispone de información de gestión (no está considerado en el medioamb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das de Efe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 explí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ientes, sistema de ventas,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de Procesos 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45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tuación Actual (Un lo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3"/>
            <a:endCxn id="49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6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3"/>
            <a:endCxn id="52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9" idx="3"/>
            <a:endCxn id="50" idx="1"/>
          </p:cNvCxnSpPr>
          <p:nvPr/>
        </p:nvCxnSpPr>
        <p:spPr>
          <a:xfrm>
            <a:off x="3924360" y="4438440"/>
            <a:ext cx="10087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2"/>
            <a:endCxn id="50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rección de Camb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origen del cambio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blemas de servicio debido a la falta de alineamiento del proceso con la estrategia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dirección del cambio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jorar el control del proceso para asegurar que el cliente es atendido dentro de los estándares de servicio a cliente defi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uevo Sistema/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o de Atención de Reclamos por Servicios de Despa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alizar y gestionar efectiva y eficientemente la atención de reclamos por servicios de despa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gistrar los reclamos de despa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rmitir el seguimiento de los reclamos para controlar que estos sean atendidos dentro de los estándares de calidad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lucionar los recla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% reclamos no registrados por mes (proce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actualización de estados no supere x hr (proce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respuesta no supere y hr (incluye cliente sin respuesta)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solución no supere z hr (incluye clientes sin solución)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atraso en solución no supere w hr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% reclamos por cliente 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lientes, sistema de ventas, gerencia, área de gestión de calidad de servicio al cliente (si existe), departamento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bios Propuestos 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gregar fun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gistrar Recl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iz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portes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portar a Gerencia y/o Area Calidad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mbios en políticas y estándares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portar al Cliente estado del recl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jor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2:08:57Z</dcterms:created>
  <dc:creator>Marco Antonio Ponce</dc:creator>
  <dc:description/>
  <dc:language>en-US</dc:language>
  <cp:lastModifiedBy> nn</cp:lastModifiedBy>
  <dcterms:modified xsi:type="dcterms:W3CDTF">2005-07-07T16:01:40Z</dcterms:modified>
  <cp:revision>31</cp:revision>
  <dc:subject/>
  <dc:title>Slide 1</dc:title>
</cp:coreProperties>
</file>