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ACE-BA9A-4B3C-BB8C-13671F76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E43-2170-4CAF-BBA5-2177405E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E78-70F7-4C32-8BA8-8A9E815C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5DC-607E-48A6-B05F-B0C31ABB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676-3C2B-43AE-9A97-8CB371EC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5D4-9E4F-423A-93D7-869C3E7F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B3A-0FF9-47A3-BE81-750D71B5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79A-56D2-4C9F-A5A2-F8F86B35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8A4-5BD0-4045-87D1-F87D6E7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6B9-9EC6-4801-9EDB-F815B0A3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C26-CFE1-4F3D-B38E-124AAA2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6AE7-EC9E-42A1-B06A-C0D5539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064-BBD4-4C98-88D1-94C07F1B7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auta Exame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mestre Otoño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tuación Futura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lla de Deci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4" idx="3"/>
            <a:endCxn id="70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2" idx="3"/>
            <a:endCxn id="73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0" idx="0"/>
            <a:endCxn id="71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1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1" idx="3"/>
            <a:endCxn id="73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2" idx="3"/>
            <a:endCxn id="75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0" idx="0"/>
            <a:endCxn id="72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5" idx="2"/>
            <a:endCxn id="72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endCxn id="73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73" idx="3"/>
            <a:endCxn id="72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lla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3"/>
            <a:endCxn id="98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1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8" idx="0"/>
            <a:endCxn id="99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0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3"/>
            <a:endCxn id="99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3"/>
            <a:endCxn id="101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3"/>
            <a:endCxn id="103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98" idx="0"/>
            <a:endCxn id="100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3" idx="2"/>
            <a:endCxn id="10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3"/>
            <a:endCxn id="101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1" idx="3"/>
            <a:endCxn id="100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1" idx="0"/>
            <a:endCxn id="119" idx="1"/>
          </p:cNvCxnSpPr>
          <p:nvPr/>
        </p:nvCxnSpPr>
        <p:spPr>
          <a:xfrm flipV="1" rot="16200000">
            <a:off x="5147640" y="1627920"/>
            <a:ext cx="864360" cy="1153440"/>
          </a:xfrm>
          <a:prstGeom prst="bentConnector4">
            <a:avLst>
              <a:gd name="adj1" fmla="val 23333"/>
              <a:gd name="adj2" fmla="val 119825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000680" y="1709640"/>
            <a:ext cx="85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1" idx="3"/>
            <a:endCxn id="103" idx="0"/>
          </p:cNvCxnSpPr>
          <p:nvPr/>
        </p:nvCxnSpPr>
        <p:spPr>
          <a:xfrm>
            <a:off x="6659640" y="2925720"/>
            <a:ext cx="1513440" cy="1224720"/>
          </a:xfrm>
          <a:prstGeom prst="bentConnector2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95280" y="24922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55736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1" idx="0"/>
            <a:endCxn id="128" idx="1"/>
          </p:cNvCxnSpPr>
          <p:nvPr/>
        </p:nvCxnSpPr>
        <p:spPr>
          <a:xfrm flipV="1" rot="16200000">
            <a:off x="3924720" y="405000"/>
            <a:ext cx="791280" cy="3672720"/>
          </a:xfrm>
          <a:prstGeom prst="bentConnector4">
            <a:avLst>
              <a:gd name="adj1" fmla="val 31907"/>
              <a:gd name="adj2" fmla="val 106224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83120" y="1144440"/>
            <a:ext cx="60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requerimientos de información son (por ejemplo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er situación de un despacho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er parámetros de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#reclamos, tpos transcurrido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9400" y="4240080"/>
            <a:ext cx="67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costos y beneficios son (por ejempl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sión en tecnología de información (Hardware, Softwar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icaciones), capacitación, y beneficios tales como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 atención a clientes que redunda en elemento de atr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nuevos clientes (mayores ve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Entidad Re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05000" y="1971720"/>
            <a:ext cx="653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148464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se agr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a entidad resu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que se desprende de recla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contiene atributos tales como # reclamos por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promedio de resolución de recla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# reclamos no resueltos por local, et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63640" y="4214880"/>
            <a:ext cx="1440000" cy="1952640"/>
            <a:chOff x="1763640" y="4214880"/>
            <a:chExt cx="1440000" cy="1952640"/>
          </a:xfrm>
        </p:grpSpPr>
        <p:sp>
          <p:nvSpPr>
            <p:cNvPr id="138" name=""/>
            <p:cNvSpPr/>
            <p:nvPr/>
          </p:nvSpPr>
          <p:spPr>
            <a:xfrm>
              <a:off x="2050920" y="514980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43088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421488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6560" y="5799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9080" y="4076640"/>
            <a:ext cx="1439640" cy="1952640"/>
            <a:chOff x="5869080" y="4076640"/>
            <a:chExt cx="1439640" cy="1952640"/>
          </a:xfrm>
        </p:grpSpPr>
        <p:sp>
          <p:nvSpPr>
            <p:cNvPr id="143" name=""/>
            <p:cNvSpPr/>
            <p:nvPr/>
          </p:nvSpPr>
          <p:spPr>
            <a:xfrm>
              <a:off x="6156000" y="5011560"/>
              <a:ext cx="86184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000" y="4292640"/>
              <a:ext cx="8618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9080" y="4076640"/>
              <a:ext cx="143964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1640" y="5661000"/>
              <a:ext cx="11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1622520"/>
            <a:ext cx="1440000" cy="1952640"/>
            <a:chOff x="1763640" y="1622520"/>
            <a:chExt cx="1440000" cy="1952640"/>
          </a:xfrm>
        </p:grpSpPr>
        <p:sp>
          <p:nvSpPr>
            <p:cNvPr id="148" name=""/>
            <p:cNvSpPr/>
            <p:nvPr/>
          </p:nvSpPr>
          <p:spPr>
            <a:xfrm>
              <a:off x="2050920" y="255744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0920" y="183852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62252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320688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97440" y="1628640"/>
            <a:ext cx="1440000" cy="1952640"/>
            <a:chOff x="5797440" y="1628640"/>
            <a:chExt cx="1440000" cy="1952640"/>
          </a:xfrm>
        </p:grpSpPr>
        <p:sp>
          <p:nvSpPr>
            <p:cNvPr id="153" name=""/>
            <p:cNvSpPr/>
            <p:nvPr/>
          </p:nvSpPr>
          <p:spPr>
            <a:xfrm>
              <a:off x="6084720" y="256356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184464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162864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0360" y="3213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40" idx="3"/>
          </p:cNvCxnSpPr>
          <p:nvPr/>
        </p:nvCxnSpPr>
        <p:spPr>
          <a:xfrm flipH="1">
            <a:off x="3203280" y="4076640"/>
            <a:ext cx="122616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7" idx="2"/>
            <a:endCxn id="145" idx="1"/>
          </p:cNvCxnSpPr>
          <p:nvPr/>
        </p:nvCxnSpPr>
        <p:spPr>
          <a:xfrm>
            <a:off x="4429080" y="4076280"/>
            <a:ext cx="1440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7" idx="0"/>
            <a:endCxn id="150" idx="3"/>
          </p:cNvCxnSpPr>
          <p:nvPr/>
        </p:nvCxnSpPr>
        <p:spPr>
          <a:xfrm flipH="1" flipV="1">
            <a:off x="3203280" y="2414160"/>
            <a:ext cx="1226160" cy="10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7" idx="0"/>
            <a:endCxn id="155" idx="1"/>
          </p:cNvCxnSpPr>
          <p:nvPr/>
        </p:nvCxnSpPr>
        <p:spPr>
          <a:xfrm flipV="1">
            <a:off x="4428720" y="2420640"/>
            <a:ext cx="1369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250920" y="472428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328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4437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2"/>
            <a:endCxn id="140" idx="1"/>
          </p:cNvCxnSpPr>
          <p:nvPr/>
        </p:nvCxnSpPr>
        <p:spPr>
          <a:xfrm flipV="1">
            <a:off x="1258920" y="5006520"/>
            <a:ext cx="5054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3" idx="2"/>
            <a:endCxn id="150" idx="1"/>
          </p:cNvCxnSpPr>
          <p:nvPr/>
        </p:nvCxnSpPr>
        <p:spPr>
          <a:xfrm>
            <a:off x="1258920" y="2385720"/>
            <a:ext cx="505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4" idx="5"/>
            <a:endCxn id="155" idx="3"/>
          </p:cNvCxnSpPr>
          <p:nvPr/>
        </p:nvCxnSpPr>
        <p:spPr>
          <a:xfrm flipH="1">
            <a:off x="7236720" y="2385720"/>
            <a:ext cx="4309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5" idx="5"/>
            <a:endCxn id="145" idx="3"/>
          </p:cNvCxnSpPr>
          <p:nvPr/>
        </p:nvCxnSpPr>
        <p:spPr>
          <a:xfrm flipH="1">
            <a:off x="7308360" y="4833720"/>
            <a:ext cx="4327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entralizar recepción telefónica de rec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sibilidad de reportes centralizados a nivel compañ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éplica distribuida en vez de centralización (menor dependencia de las comunicaciones). En todo caso, podría ser centralizado tambi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Fu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514980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869000"/>
            <a:ext cx="1440000" cy="9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57992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011560"/>
            <a:ext cx="8618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9080" y="4724280"/>
            <a:ext cx="1439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255744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2349360"/>
            <a:ext cx="144000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6560" y="3206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56392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2349360"/>
            <a:ext cx="1440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f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2"/>
            <a:endCxn id="174" idx="3"/>
          </p:cNvCxnSpPr>
          <p:nvPr/>
        </p:nvCxnSpPr>
        <p:spPr>
          <a:xfrm flipH="1">
            <a:off x="3203280" y="4076280"/>
            <a:ext cx="12261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5" idx="2"/>
            <a:endCxn id="177" idx="1"/>
          </p:cNvCxnSpPr>
          <p:nvPr/>
        </p:nvCxnSpPr>
        <p:spPr>
          <a:xfrm>
            <a:off x="4429080" y="4076640"/>
            <a:ext cx="144036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80" idx="3"/>
          </p:cNvCxnSpPr>
          <p:nvPr/>
        </p:nvCxnSpPr>
        <p:spPr>
          <a:xfrm flipH="1" flipV="1">
            <a:off x="3203280" y="2777760"/>
            <a:ext cx="122616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5" idx="0"/>
            <a:endCxn id="183" idx="1"/>
          </p:cNvCxnSpPr>
          <p:nvPr/>
        </p:nvCxnSpPr>
        <p:spPr>
          <a:xfrm flipV="1">
            <a:off x="4428720" y="2780640"/>
            <a:ext cx="1369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3995640" y="1700280"/>
            <a:ext cx="1152720" cy="792000"/>
          </a:xfrm>
          <a:prstGeom prst="parallelogram">
            <a:avLst>
              <a:gd name="adj" fmla="val 36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90" idx="4"/>
            <a:endCxn id="185" idx="0"/>
          </p:cNvCxnSpPr>
          <p:nvPr/>
        </p:nvCxnSpPr>
        <p:spPr>
          <a:xfrm flipH="1">
            <a:off x="4428360" y="2492280"/>
            <a:ext cx="14364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Proc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ción D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Lla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imiento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alternativas de diseñ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ntralizar datos de clientes, productos y recursos de la empresa, localizando los datos de reclamos y despa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plicar todos los datos en todas las local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.- Falso, debido a que además depende de las otras vistas (procesos, interfaces) y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.- Verdadero. El nivel de negocio o conceptual es input para el nivel lógico (sistema de información); aporta los diseños a nivel de sistema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.- los tópicos son customización, integración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actualización (up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/Proceso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Atención de Reclamos del Servicio de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ja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se a tener un objetivo general de excelencia en el servicio al cliente, este proceso carece de objetivos específicos medibles y por lo tanto no puede gestionar el proceso, por lo que no puede administrar ni predecir la calidad de los resultados. No existe entonces mecanismos de control de los recl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administración no dispone de información de gestión (no está considerado en el medio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das de Efe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explí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ientes, sistema de ventas,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Procesos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4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tuación Actual (Un lo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3"/>
            <a:endCxn id="49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6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3"/>
            <a:endCxn id="52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3"/>
            <a:endCxn id="50" idx="1"/>
          </p:cNvCxnSpPr>
          <p:nvPr/>
        </p:nvCxnSpPr>
        <p:spPr>
          <a:xfrm>
            <a:off x="3924360" y="4438440"/>
            <a:ext cx="1008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2"/>
            <a:endCxn id="5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rección de Camb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orige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blemas de servicio debido a la falta de alineamiento del proceso con la estrategia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direcció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ar el control del proceso para asegurar que el cliente es atendido dentro de los estándares de servicio a cliente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uevo Sistema/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 de Atención de Reclamos por Servicios de Despa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alizar y gestionar efectiva y eficientemente la atención de reclamos por servicios de despa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ar los reclamos de despa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mitir el seguimiento de los reclamos para controlar que estos sean atendidos dentro de los estándares de 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onar los recl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no registrados por mes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ctualización de estados no supere x hr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respuesta no supere y hr (incluye cliente sin respuesta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solución no supere z hr (incluye clientes sin solución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traso en solución no supere w hr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por cliente 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lientes, sistema de ventas, gerencia, área de gestión de calidad de servicio al cliente (si existe), departamento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Propuestos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gregar fun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gistrar Recl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iz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portes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 Gerencia y/o Area Calidad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mbios en políticas y estándares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l Cliente estado del rec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08:57Z</dcterms:created>
  <dc:creator>Marco Antonio Ponce</dc:creator>
  <dc:description/>
  <dc:language>en-US</dc:language>
  <cp:lastModifiedBy> nn</cp:lastModifiedBy>
  <dcterms:modified xsi:type="dcterms:W3CDTF">2005-07-07T16:01:40Z</dcterms:modified>
  <cp:revision>31</cp:revision>
  <dc:subject/>
  <dc:title>Slide 1</dc:title>
</cp:coreProperties>
</file>