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A6CB-9D22-40F7-A912-6011D588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60CE-BEB5-40B2-B2E4-16E004F6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F1A3-854B-49DC-BA8A-5167CC99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FDCC-5696-4B62-B6C7-0147E6A5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BAD-CC97-413A-9A7A-E7F62FDC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2945-AA53-4A41-BFF9-017711D5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EB1-CD97-43C8-8094-D3B5990C8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4856-A528-4587-830D-D0EF0416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C178-30EA-4198-8B2E-D221A4F9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AEB-3D85-4DAD-A0AC-69032315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DE2B-16EB-4628-AE8E-BF8EC64F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4B52-D352-4798-BD65-6EB991EE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E23A-48CE-450F-A1B7-D186752BD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auta Examen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emestre Otoño 200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ituación Futura 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all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4" idx="3"/>
            <a:endCxn id="70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2" idx="3"/>
            <a:endCxn id="73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0" idx="0"/>
            <a:endCxn id="71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1" idx="3"/>
            <a:endCxn id="72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3"/>
            <a:endCxn id="71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stCxn id="71" idx="3"/>
            <a:endCxn id="73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2" idx="3"/>
            <a:endCxn id="75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70" idx="0"/>
            <a:endCxn id="72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5" idx="2"/>
            <a:endCxn id="72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endCxn id="73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>
            <a:stCxn id="73" idx="3"/>
            <a:endCxn id="72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alla de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57520" y="2637000"/>
            <a:ext cx="100800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gistr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651640" y="2637000"/>
            <a:ext cx="1008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3"/>
            <a:endCxn id="98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1" idx="2"/>
          </p:cNvCxnSpPr>
          <p:nvPr/>
        </p:nvCxnSpPr>
        <p:spPr>
          <a:xfrm flipV="1">
            <a:off x="5940360" y="3212280"/>
            <a:ext cx="216720" cy="122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076440" y="335592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>
            <a:stCxn id="98" idx="0"/>
            <a:endCxn id="99" idx="1"/>
          </p:cNvCxnSpPr>
          <p:nvPr/>
        </p:nvCxnSpPr>
        <p:spPr>
          <a:xfrm flipH="1" flipV="1" rot="5400000">
            <a:off x="2876760" y="3468960"/>
            <a:ext cx="1224720" cy="137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9" idx="3"/>
            <a:endCxn id="100" idx="1"/>
          </p:cNvCxnSpPr>
          <p:nvPr/>
        </p:nvCxnSpPr>
        <p:spPr>
          <a:xfrm>
            <a:off x="4565160" y="2925360"/>
            <a:ext cx="367560" cy="1513800"/>
          </a:xfrm>
          <a:prstGeom prst="bentConnector3">
            <a:avLst>
              <a:gd name="adj1" fmla="val 4970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0" idx="3"/>
            <a:endCxn id="99" idx="2"/>
          </p:cNvCxnSpPr>
          <p:nvPr/>
        </p:nvCxnSpPr>
        <p:spPr>
          <a:xfrm flipH="1" flipV="1">
            <a:off x="4061520" y="3212280"/>
            <a:ext cx="1878840" cy="1226520"/>
          </a:xfrm>
          <a:prstGeom prst="bentConnector4">
            <a:avLst>
              <a:gd name="adj1" fmla="val -12073"/>
              <a:gd name="adj2" fmla="val 618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2709720" y="3429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16360" y="306864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"/>
          <p:cNvCxnSpPr>
            <a:stCxn id="99" idx="3"/>
            <a:endCxn id="101" idx="1"/>
          </p:cNvCxnSpPr>
          <p:nvPr/>
        </p:nvCxnSpPr>
        <p:spPr>
          <a:xfrm>
            <a:off x="4565160" y="2925360"/>
            <a:ext cx="10868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0" idx="3"/>
            <a:endCxn id="103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98" idx="0"/>
            <a:endCxn id="100" idx="1"/>
          </p:cNvCxnSpPr>
          <p:nvPr/>
        </p:nvCxnSpPr>
        <p:spPr>
          <a:xfrm flipH="1" rot="16200000">
            <a:off x="4032360" y="3537000"/>
            <a:ext cx="289440" cy="1512000"/>
          </a:xfrm>
          <a:prstGeom prst="bentConnector4">
            <a:avLst>
              <a:gd name="adj1" fmla="val -79202"/>
              <a:gd name="adj2" fmla="val 665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03" idx="2"/>
            <a:endCxn id="10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03640" y="1484280"/>
            <a:ext cx="1008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CIA y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L SER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9" idx="3"/>
            <a:endCxn id="101" idx="0"/>
          </p:cNvCxnSpPr>
          <p:nvPr/>
        </p:nvCxnSpPr>
        <p:spPr>
          <a:xfrm>
            <a:off x="6011640" y="1773000"/>
            <a:ext cx="144720" cy="864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154200" y="1628640"/>
            <a:ext cx="99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olí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tención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01" idx="3"/>
            <a:endCxn id="100" idx="0"/>
          </p:cNvCxnSpPr>
          <p:nvPr/>
        </p:nvCxnSpPr>
        <p:spPr>
          <a:xfrm flipH="1">
            <a:off x="5436720" y="2925720"/>
            <a:ext cx="1223280" cy="1224720"/>
          </a:xfrm>
          <a:prstGeom prst="bentConnector4">
            <a:avLst>
              <a:gd name="adj1" fmla="val -18545"/>
              <a:gd name="adj2" fmla="val 768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6139440" y="3801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scala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01" idx="0"/>
            <a:endCxn id="119" idx="1"/>
          </p:cNvCxnSpPr>
          <p:nvPr/>
        </p:nvCxnSpPr>
        <p:spPr>
          <a:xfrm flipV="1" rot="16200000">
            <a:off x="5147640" y="1627920"/>
            <a:ext cx="864360" cy="1153440"/>
          </a:xfrm>
          <a:prstGeom prst="bentConnector4">
            <a:avLst>
              <a:gd name="adj1" fmla="val 23333"/>
              <a:gd name="adj2" fmla="val 119825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4000680" y="1709640"/>
            <a:ext cx="85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por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Gest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Recla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01" idx="3"/>
            <a:endCxn id="103" idx="0"/>
          </p:cNvCxnSpPr>
          <p:nvPr/>
        </p:nvCxnSpPr>
        <p:spPr>
          <a:xfrm>
            <a:off x="6659640" y="2925720"/>
            <a:ext cx="1513440" cy="1224720"/>
          </a:xfrm>
          <a:prstGeom prst="bentConnector2">
            <a:avLst/>
          </a:prstGeom>
          <a:ln w="936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95280" y="2492280"/>
            <a:ext cx="97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Verif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99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155736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EP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01" idx="0"/>
            <a:endCxn id="128" idx="1"/>
          </p:cNvCxnSpPr>
          <p:nvPr/>
        </p:nvCxnSpPr>
        <p:spPr>
          <a:xfrm flipV="1" rot="16200000">
            <a:off x="3924720" y="405000"/>
            <a:ext cx="791280" cy="3672720"/>
          </a:xfrm>
          <a:prstGeom prst="bentConnector4">
            <a:avLst>
              <a:gd name="adj1" fmla="val 31907"/>
              <a:gd name="adj2" fmla="val 106224"/>
            </a:avLst>
          </a:prstGeom>
          <a:ln w="936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83120" y="1144440"/>
            <a:ext cx="6054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requerimientos de información son (por ejemplo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ocer situación de un despacho determ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btener parámetros de control de gest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#reclamos, tpos transcurridos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19400" y="4240080"/>
            <a:ext cx="673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Los costos y beneficios son (por ejemplo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versión en tecnología de información (Hardware, Softwar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icaciones), capacitación, y beneficios tales como u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jor atención a clientes que redunda en elemento de atrac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nuevos clientes (mayores vent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Entidad Rel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305000" y="1971720"/>
            <a:ext cx="6534000" cy="37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00000" y="1484640"/>
            <a:ext cx="6769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el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ol de gest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se agre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a entidad resu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que se desprende de reclam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e contiene atributos tales como # reclamos por local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empos promedio de resolución de reclamo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# reclamos no resueltos por local, etc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Actu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4214880"/>
            <a:ext cx="1440000" cy="1952640"/>
            <a:chOff x="1763640" y="4214880"/>
            <a:chExt cx="1440000" cy="1952640"/>
          </a:xfrm>
        </p:grpSpPr>
        <p:sp>
          <p:nvSpPr>
            <p:cNvPr id="138" name=""/>
            <p:cNvSpPr/>
            <p:nvPr/>
          </p:nvSpPr>
          <p:spPr>
            <a:xfrm>
              <a:off x="2050920" y="514980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50920" y="443088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3640" y="421488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06560" y="579924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5869080" y="4076640"/>
            <a:ext cx="1439640" cy="1952640"/>
            <a:chOff x="5869080" y="4076640"/>
            <a:chExt cx="1439640" cy="1952640"/>
          </a:xfrm>
        </p:grpSpPr>
        <p:sp>
          <p:nvSpPr>
            <p:cNvPr id="143" name=""/>
            <p:cNvSpPr/>
            <p:nvPr/>
          </p:nvSpPr>
          <p:spPr>
            <a:xfrm>
              <a:off x="6156000" y="5011560"/>
              <a:ext cx="86184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56000" y="4292640"/>
              <a:ext cx="8618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69080" y="4076640"/>
              <a:ext cx="143964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011640" y="566100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63640" y="1622520"/>
            <a:ext cx="1440000" cy="1952640"/>
            <a:chOff x="1763640" y="1622520"/>
            <a:chExt cx="1440000" cy="1952640"/>
          </a:xfrm>
        </p:grpSpPr>
        <p:sp>
          <p:nvSpPr>
            <p:cNvPr id="148" name=""/>
            <p:cNvSpPr/>
            <p:nvPr/>
          </p:nvSpPr>
          <p:spPr>
            <a:xfrm>
              <a:off x="2050920" y="255744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0920" y="183852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62252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06560" y="320688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797440" y="1628640"/>
            <a:ext cx="1440000" cy="1952640"/>
            <a:chOff x="5797440" y="1628640"/>
            <a:chExt cx="1440000" cy="1952640"/>
          </a:xfrm>
        </p:grpSpPr>
        <p:sp>
          <p:nvSpPr>
            <p:cNvPr id="153" name=""/>
            <p:cNvSpPr/>
            <p:nvPr/>
          </p:nvSpPr>
          <p:spPr>
            <a:xfrm>
              <a:off x="6084720" y="2563560"/>
              <a:ext cx="862200" cy="504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De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84720" y="1844640"/>
              <a:ext cx="8622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Tele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7440" y="1628640"/>
              <a:ext cx="1440000" cy="15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40360" y="3213000"/>
              <a:ext cx="11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Loca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ic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2"/>
            <a:endCxn id="140" idx="3"/>
          </p:cNvCxnSpPr>
          <p:nvPr/>
        </p:nvCxnSpPr>
        <p:spPr>
          <a:xfrm flipH="1">
            <a:off x="3203280" y="4076640"/>
            <a:ext cx="1226160" cy="930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57" idx="2"/>
            <a:endCxn id="145" idx="1"/>
          </p:cNvCxnSpPr>
          <p:nvPr/>
        </p:nvCxnSpPr>
        <p:spPr>
          <a:xfrm>
            <a:off x="4429080" y="4076280"/>
            <a:ext cx="144036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57" idx="0"/>
            <a:endCxn id="150" idx="3"/>
          </p:cNvCxnSpPr>
          <p:nvPr/>
        </p:nvCxnSpPr>
        <p:spPr>
          <a:xfrm flipH="1" flipV="1">
            <a:off x="3203280" y="2414160"/>
            <a:ext cx="1226160" cy="10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57" idx="0"/>
            <a:endCxn id="155" idx="1"/>
          </p:cNvCxnSpPr>
          <p:nvPr/>
        </p:nvCxnSpPr>
        <p:spPr>
          <a:xfrm flipV="1">
            <a:off x="4428720" y="2420640"/>
            <a:ext cx="1369080" cy="1008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" name=""/>
          <p:cNvSpPr/>
          <p:nvPr/>
        </p:nvSpPr>
        <p:spPr>
          <a:xfrm>
            <a:off x="250920" y="472428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3280" y="1989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96360" y="4437000"/>
            <a:ext cx="1152360" cy="792360"/>
          </a:xfrm>
          <a:prstGeom prst="parallelogram">
            <a:avLst>
              <a:gd name="adj" fmla="val 363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"/>
          <p:cNvCxnSpPr>
            <a:stCxn id="162" idx="2"/>
            <a:endCxn id="140" idx="1"/>
          </p:cNvCxnSpPr>
          <p:nvPr/>
        </p:nvCxnSpPr>
        <p:spPr>
          <a:xfrm flipV="1">
            <a:off x="1258920" y="5006520"/>
            <a:ext cx="50544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63" idx="2"/>
            <a:endCxn id="150" idx="1"/>
          </p:cNvCxnSpPr>
          <p:nvPr/>
        </p:nvCxnSpPr>
        <p:spPr>
          <a:xfrm>
            <a:off x="1258920" y="2385720"/>
            <a:ext cx="505440" cy="29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164" idx="5"/>
            <a:endCxn id="155" idx="3"/>
          </p:cNvCxnSpPr>
          <p:nvPr/>
        </p:nvCxnSpPr>
        <p:spPr>
          <a:xfrm flipH="1">
            <a:off x="7236720" y="2385720"/>
            <a:ext cx="4309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65" idx="5"/>
            <a:endCxn id="145" idx="3"/>
          </p:cNvCxnSpPr>
          <p:nvPr/>
        </p:nvCxnSpPr>
        <p:spPr>
          <a:xfrm flipH="1">
            <a:off x="7308360" y="4833720"/>
            <a:ext cx="43272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Distrib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entralizar recepción telefónica de recla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osibilidad de reportes centralizados a nivel compañ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éplica distribuida en vez de centralización (menor dependencia de las comunicaciones). En todo caso, podría ser centralizado tambié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Futu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050920" y="514980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4869000"/>
            <a:ext cx="1440000" cy="930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06560" y="57992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56360" y="5011560"/>
            <a:ext cx="86184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9080" y="4724280"/>
            <a:ext cx="143964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566100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0920" y="255744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63640" y="2349360"/>
            <a:ext cx="1440000" cy="85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906560" y="32068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84720" y="2563920"/>
            <a:ext cx="8622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97440" y="2349360"/>
            <a:ext cx="144000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940360" y="32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o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708360" y="3429000"/>
            <a:ext cx="144000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elefon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5" idx="2"/>
            <a:endCxn id="174" idx="3"/>
          </p:cNvCxnSpPr>
          <p:nvPr/>
        </p:nvCxnSpPr>
        <p:spPr>
          <a:xfrm flipH="1">
            <a:off x="3203280" y="4076280"/>
            <a:ext cx="1226160" cy="125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85" idx="2"/>
            <a:endCxn id="177" idx="1"/>
          </p:cNvCxnSpPr>
          <p:nvPr/>
        </p:nvCxnSpPr>
        <p:spPr>
          <a:xfrm>
            <a:off x="4429080" y="4076640"/>
            <a:ext cx="144036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80" idx="3"/>
          </p:cNvCxnSpPr>
          <p:nvPr/>
        </p:nvCxnSpPr>
        <p:spPr>
          <a:xfrm flipH="1" flipV="1">
            <a:off x="3203280" y="2777760"/>
            <a:ext cx="1226160" cy="651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85" idx="0"/>
            <a:endCxn id="183" idx="1"/>
          </p:cNvCxnSpPr>
          <p:nvPr/>
        </p:nvCxnSpPr>
        <p:spPr>
          <a:xfrm flipV="1">
            <a:off x="4428720" y="2780640"/>
            <a:ext cx="1369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" name=""/>
          <p:cNvSpPr/>
          <p:nvPr/>
        </p:nvSpPr>
        <p:spPr>
          <a:xfrm>
            <a:off x="3995640" y="1700280"/>
            <a:ext cx="1152720" cy="792000"/>
          </a:xfrm>
          <a:prstGeom prst="parallelogram">
            <a:avLst>
              <a:gd name="adj" fmla="val 363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"/>
          <p:cNvCxnSpPr>
            <a:stCxn id="190" idx="4"/>
            <a:endCxn id="185" idx="0"/>
          </p:cNvCxnSpPr>
          <p:nvPr/>
        </p:nvCxnSpPr>
        <p:spPr>
          <a:xfrm flipH="1">
            <a:off x="4428360" y="2492280"/>
            <a:ext cx="14364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Proce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ef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ción De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pción Llam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str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ucionar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guimiento Reclam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Distribución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xisten alternativas de diseñ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entralizar datos de clientes, productos y recursos de la empresa, localizando los datos de reclamos y despach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plicar todos los datos en todas las localiz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.- Falso, debido a que además depende de las otras vistas (procesos, interfaces) y nive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b.- Verdadero. El nivel de negocio o conceptual es input para el nivel lógico (sistema de información); aporta los diseños a nivel de sistema administr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.- los tópicos son customización, integración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y actualización (upgrad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Sistema/Proceso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roceso de Atención de Reclamos del Servicio de despa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Quejas de los clie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u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se a tener un objetivo general de excelencia en el servicio al cliente, este proceso carece de objetivos específicos medibles y por lo tanto no puede gestionar el proceso, por lo que no puede administrar ni predecir la calidad de los resultados. No existe entonces mecanismos de control de los reclam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administración no dispone de información de gestión (no está considerado en el medioambi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didas de Efectiv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xplícit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s, sistema de ventas, ger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Modelo de Procesos Act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5450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484360" y="2276640"/>
            <a:ext cx="4824360" cy="33130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ituación Actual (Un loc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916360" y="4149720"/>
            <a:ext cx="100800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ep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Llam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olucion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4149720"/>
            <a:ext cx="10080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3"/>
            <a:endCxn id="49" idx="1"/>
          </p:cNvCxnSpPr>
          <p:nvPr/>
        </p:nvCxnSpPr>
        <p:spPr>
          <a:xfrm>
            <a:off x="1618920" y="4438440"/>
            <a:ext cx="12978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8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76640" y="4437000"/>
            <a:ext cx="78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Recla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3"/>
            <a:endCxn id="52" idx="1"/>
          </p:cNvCxnSpPr>
          <p:nvPr/>
        </p:nvCxnSpPr>
        <p:spPr>
          <a:xfrm>
            <a:off x="5940360" y="4438440"/>
            <a:ext cx="17280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6011640" y="4437000"/>
            <a:ext cx="80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49" idx="3"/>
            <a:endCxn id="50" idx="1"/>
          </p:cNvCxnSpPr>
          <p:nvPr/>
        </p:nvCxnSpPr>
        <p:spPr>
          <a:xfrm>
            <a:off x="3924360" y="4438440"/>
            <a:ext cx="10087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2" idx="2"/>
            <a:endCxn id="50" idx="2"/>
          </p:cNvCxnSpPr>
          <p:nvPr/>
        </p:nvCxnSpPr>
        <p:spPr>
          <a:xfrm rot="5400000">
            <a:off x="6803280" y="3359160"/>
            <a:ext cx="2160" cy="273600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6011280" y="4941720"/>
            <a:ext cx="10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Satisfa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regunt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Dirección de Camb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orige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roblemas de servicio debido a la falta de alineamiento del proceso con la estrategia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dirección del cambio 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ar el control del proceso para asegurar que el cliente es atendido dentro de los estándares de servicio a cliente defi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Nuevo Sistema/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 de Atención de Reclamos por Servicios de Despac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 Ge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y gestionar efectiva y eficientemente la atención de reclamos por servicios de despa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gistrar los reclamos de despa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ermitir el seguimiento de los reclamos para controlar que estos sean atendidos dentro de los estándares de calidad de servi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olucionar los reclam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no registrados por mes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ctualización de estados no supere x hr (proce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respuesta no supere y hr (incluye cliente sin respuesta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solución no supere z hr (incluye clientes sin solución)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T&gt; atraso en solución no supere w hr (resulta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% reclamos por cliente 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lientes, sistema de ventas, gerencia, área de gestión de calidad de servicio al cliente (si existe), departamentos comerc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ambios Propuestos Proce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regar funcion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gistrar Recla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ealizar Segu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portes de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 Gerencia y/o Area Calidad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mbios en políticas y estándares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portar al Cliente estado del recla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jor serv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02:08:57Z</dcterms:created>
  <dc:creator>Marco Antonio Ponce</dc:creator>
  <dc:description/>
  <dc:language>en-US</dc:language>
  <cp:lastModifiedBy> nn</cp:lastModifiedBy>
  <dcterms:modified xsi:type="dcterms:W3CDTF">2005-07-07T16:01:40Z</dcterms:modified>
  <cp:revision>31</cp:revision>
  <dc:subject/>
  <dc:title>Slide 1</dc:title>
</cp:coreProperties>
</file>