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B2FF-160F-4551-81F8-81DDA14F0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3067-77EA-4FD5-A3D6-6964629EB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870C-0B6D-4004-8904-4783AC160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6564-1329-436B-AB0A-E0D624550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31632-134F-404E-94E3-55397451B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D0D54-4D48-4CE7-A47B-0042A9A01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56A52-F1BE-45B0-B332-DF7BA23FC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3FD9F-1D38-4482-9ABD-9F193D245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1DAE8-C065-4009-9AAA-EBEF98BD1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E4C3F-09DD-43EB-9DAA-336102374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01BC2-D553-47B3-94EA-066FE19C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5736-50D0-4656-A202-CF0E975C0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BFCE2-EE8E-4213-AB8A-B4DBDBE79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D12AC-3E53-4977-AAD5-CCD31EF6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8D3C0-FA36-4F43-8707-1434BB0E5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02EEF-E2DF-410F-A802-14EA43A18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0022F-1923-429C-9EFD-17D100DE3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B41B-0388-400F-8F47-E9A0017B7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4557-E33E-4120-92D9-04FB322A3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E839-D373-4C08-B369-37D95EF21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D121-B9A2-4E37-926C-BF2B1E34F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727F-EAFE-4281-8B80-E8EC72D09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CD01-AC8F-4DEB-82AE-86D32CD5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C55B-7923-4087-B5F8-159C3FCC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3D992-D2AB-4136-9D17-3738F9292C6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C4769-E865-486F-BACB-FF12E61766E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cc"/>
                </a:solidFill>
                <a:latin typeface="Tahoma"/>
              </a:rPr>
              <a:t>Presentación Final: Condicion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15 minutos cada grupo (incluye todo el tiempo disponible), se aconseja setear antes las presentaciones y prototip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sistir a todas las presentaciones (14:30 a 16:00 rs.), se exigirá puntuali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Los alumnos, al final de la hora, entregarán la hoja de votación con sus preferenci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Los 2 mejores grupos tienen 1,0 punto adicional en el examen, con máximo de nota 7,0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cc"/>
                </a:solidFill>
                <a:latin typeface="Tahoma"/>
              </a:rPr>
              <a:t>Presentación Final: Temari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Introducción a la empre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Modelo de negoci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Diagnóstico situación actu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Líneas de rediseñ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Diseño propues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Beneficios / Cost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Prototipo de prueba de concep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6T19:24:19Z</dcterms:created>
  <dc:creator>usuario</dc:creator>
  <dc:description/>
  <dc:language>en-US</dc:language>
  <cp:lastModifiedBy>Angela Ulloa</cp:lastModifiedBy>
  <dcterms:modified xsi:type="dcterms:W3CDTF">2005-06-20T01:58:14Z</dcterms:modified>
  <cp:revision>5</cp:revision>
  <dc:subject/>
  <dc:title>Presentación Final: Condiciones</dc:title>
</cp:coreProperties>
</file>