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F6D-2E77-47F9-B54F-B2354714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FA9-79EC-4E07-9413-EB6E7858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2DD-7AD2-4BFD-B585-2E228A5E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945-F2D5-4630-B427-4424F49A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DFFE-7843-4EF6-B80D-617542D3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1F9-DB6A-493E-B5B8-7619224B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1953-4244-4776-8E74-21E7EA04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D0F-3191-410C-8A8B-F46124D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B290-2A4D-4B5B-8F4C-AA6E1B7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1B2-1451-49CF-A5A1-03074103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4BB2-0206-4928-BF33-6BBB6BC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21F-B3C0-47FB-994A-8D1703A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9BB2-81EE-4D1E-93D4-12CCC02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B67D-F35B-4061-A570-A667E4C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9B39-AE23-4A77-A99D-421D7B12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00D-1B26-4157-85CB-AA384CAA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AA3-6B80-452A-9E3F-0B8EF63E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CDC-6CC1-4D41-BA17-1425628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E59-50DE-444E-8259-BC6680C9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406-6A77-44B5-8FD2-54B93E30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675-F938-4358-8196-8261EEF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9AD-893F-413F-979C-A745877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214-9FC0-47E4-9538-41F8139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112-3E07-4D9D-9149-1A39AE5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8C53-E753-4481-BBC6-4DE09A7395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F21-9CB9-4C0B-B518-537FDEC732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Con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5 minutos cada grupo (incluye todo el tiempo disponible), se aconseja setear antes las presentaciones y prototi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istir a todas las presentaciones (14:30 a 16:00 rs.), se exigirá puntu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lumnos, al final de la hora, entregarán la hoja de votación con sus p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2 mejores grupos tienen 1,0 punto adicional en el examen, con máximo de nota 7,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Tem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troducción a l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elo de nego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agnóstico situación a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íneas de re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seño pro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eneficios /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totipo de prueba de conce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6-20T01:58:14Z</dcterms:modified>
  <cp:revision>5</cp:revision>
  <dc:subject/>
  <dc:title>Presentación Final: Condiciones</dc:title>
</cp:coreProperties>
</file>