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4D13-5F39-4404-8332-E1C3E14C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FAB-BF19-45D5-819E-FD38A006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D0C-535A-4411-AAB2-2C9A46E2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AB5-390B-4EF3-92C9-9A8D09FA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A3D0-E40A-41C1-BBAA-1C572F5B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1A45-BC2B-42E2-9739-FC8AC427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38B7-3B6C-4F2E-A87E-CA1A7A67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2F1C-6A39-4080-86EE-B0F46EB4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B317-3A96-406F-B708-3D56B095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752E-8EA2-4854-8286-B6138892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D1A6-8390-4F91-8CA8-88F80705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398-2D25-4369-AACD-3D31ED5E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9E69-37DD-4CFB-BDAB-A1348F5F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0120-2119-445F-812A-ABA522B9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A730-B762-4058-A3B8-10BAA094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1DB9-2041-4759-83CA-8795E1348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BCA2-9C82-4A89-9CD4-2C3E02D6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B8F-D157-45F5-8543-6177C2A2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0A3-36AF-43A3-9135-FBE6A10A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D90-D02B-4916-A184-C6A8BFC9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18F-364B-46F2-8502-322FA047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766-D6EB-41F1-8FBD-5F01E33B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2BE-7A23-4361-8127-818F7F6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5AC-6A43-4A5D-B6AC-F6CBF7AB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36F7-AD55-4FA1-8767-26A700B278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9AE5-3850-48E9-8A29-797B288F3AD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Cond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15 minutos cada grupo (incluye todo el tiempo disponible), se aconseja setear antes las presentaciones y prototip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sistir a todas las presentaciones (14:30 a 16:00 rs.), se exigirá puntua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alumnos, al final de la hora, entregarán la hoja de votación con sus prefere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os 2 mejores grupos tienen 1,0 punto adicional en el examen, con máximo de nota 7,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cc"/>
                </a:solidFill>
                <a:latin typeface="Tahoma"/>
              </a:rPr>
              <a:t>Presentación Final: Temari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Introducción a la empre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odelo de negoc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agnóstico situación act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Líneas de rediseñ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iseño propue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Beneficios / Co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rototipo de prueba de concep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9:24:19Z</dcterms:created>
  <dc:creator>usuario</dc:creator>
  <dc:description/>
  <dc:language>en-US</dc:language>
  <cp:lastModifiedBy>Angela Ulloa</cp:lastModifiedBy>
  <dcterms:modified xsi:type="dcterms:W3CDTF">2005-06-20T01:58:14Z</dcterms:modified>
  <cp:revision>5</cp:revision>
  <dc:subject/>
  <dc:title>Presentación Final: Condiciones</dc:title>
</cp:coreProperties>
</file>