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B429-727F-4826-A2E8-6402A1605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6A77-53B4-4224-BA3D-159938E6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1B4C-38CD-4ED9-9FFB-35987438C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17AC-18C9-4F35-A85C-ED6CCBC1E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9D7B-0E41-40DD-9FD5-36768E508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40B4-FF77-4683-9651-F874C3DD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CD97-3BFF-42AB-99FF-A1B56F8B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966A-BD0B-4D54-9AED-5B92886D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AD29B-3A6D-4FFA-B77A-327FDE53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AE0A-04EA-4325-A69B-C01A9255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27BAF-BDBB-47E8-8586-F87597B2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35F2-A5B1-467D-A9AC-4DD834E8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845E6-7A8D-4CEA-8218-55B91E44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D155-2611-4FFA-8C42-E4F1E9D4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C60B-319A-4601-9CA2-D846DD98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ED1A7-09EA-4022-B4BF-628960B0E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7304-43E7-46B9-A2AF-E3BEE1243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C9AE-CCBF-41CB-8EC1-6C7F9DED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0607-5EC9-4E9C-9A48-15323FF8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261D-FD0A-4841-ADAB-254A398F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009F-D020-4856-925D-F567DD39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2EEA-565E-41EB-B764-A0A080D6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EC2F-6409-4EDB-AA7F-C415FA4A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B704-784F-47E2-B18B-CD0AC2AF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4E6C-3D33-40D8-9378-B3BD365673A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7071-7F57-40EF-9427-221CB1401E9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cc"/>
                </a:solidFill>
                <a:latin typeface="Tahoma"/>
              </a:rPr>
              <a:t>Presentación Final: Condicion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5 minutos cada grupo (incluye todo el tiempo disponible), se aconseja setear antes las presentaciones y prototip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sistir a todas las presentaciones (14:30 a 16:00 rs.), se exigirá puntual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os alumnos, al final de la hora, entregarán la hoja de votación con sus preferenci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os 2 mejores grupos tienen 1,0 punto adicional en el examen, con máximo de nota 7,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cc"/>
                </a:solidFill>
                <a:latin typeface="Tahoma"/>
              </a:rPr>
              <a:t>Presentación Final: Temari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Introducción a la empre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Modelo de negoc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iagnóstico situación actu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Líneas de rediseñ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iseño propues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Beneficios / Cos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rototipo de prueba de concep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9:24:19Z</dcterms:created>
  <dc:creator>usuario</dc:creator>
  <dc:description/>
  <dc:language>en-US</dc:language>
  <cp:lastModifiedBy>Angela Ulloa</cp:lastModifiedBy>
  <dcterms:modified xsi:type="dcterms:W3CDTF">2005-06-20T01:58:14Z</dcterms:modified>
  <cp:revision>5</cp:revision>
  <dc:subject/>
  <dc:title>Presentación Final: Condiciones</dc:title>
</cp:coreProperties>
</file>