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B93-A069-4837-895A-E472FCEA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5D4-EBCA-4E6D-B954-4A5FB6D7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128-E61F-4DEE-A5F7-4AFA02BE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574-8C82-4331-A64B-1782F97F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11D-D6A8-403C-AD25-A9EB021E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FFD-A461-4326-A40C-4EE08971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999-31A6-426A-BD7A-C9C5C7AA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790-D9B7-47CE-9687-026CD3EC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942-6F75-4104-B9E5-6E11B195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A70-A9CE-4874-8635-5421F599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E71-A7AD-4F66-BB43-A70FC690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693-2DBE-431D-8927-E3C8DE25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8ED9-0D80-412C-A1CD-A88A77E57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93960" y="2201760"/>
            <a:ext cx="1530360" cy="693720"/>
          </a:xfrm>
          <a:custGeom>
            <a:avLst/>
            <a:gdLst/>
            <a:ahLst/>
            <a:rect l="l" t="t" r="r" b="b"/>
            <a:pathLst>
              <a:path w="964" h="437">
                <a:moveTo>
                  <a:pt x="6" y="0"/>
                </a:moveTo>
                <a:lnTo>
                  <a:pt x="0" y="437"/>
                </a:lnTo>
                <a:lnTo>
                  <a:pt x="964" y="4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59092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8120" y="2800440"/>
            <a:ext cx="257400" cy="18072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60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8120" y="2838600"/>
            <a:ext cx="180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323960" y="3038400"/>
            <a:ext cx="9720" cy="11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267080" y="3505320"/>
            <a:ext cx="152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373392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36" y="0"/>
                </a:lnTo>
                <a:lnTo>
                  <a:pt x="78" y="78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95880" y="3666960"/>
            <a:ext cx="66600" cy="66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343400" y="4210200"/>
            <a:ext cx="936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304880" y="4856040"/>
            <a:ext cx="9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6160" y="456084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78" y="0"/>
                </a:moveTo>
                <a:lnTo>
                  <a:pt x="42" y="78"/>
                </a:lnTo>
                <a:lnTo>
                  <a:pt x="0" y="0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95880" y="4684680"/>
            <a:ext cx="10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14960" y="1392120"/>
            <a:ext cx="1440" cy="164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80240" y="2266920"/>
            <a:ext cx="54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es miembr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1506600"/>
            <a:ext cx="17136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48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76800" y="17636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19560" y="2486160"/>
            <a:ext cx="181080" cy="247680"/>
          </a:xfrm>
          <a:custGeom>
            <a:avLst/>
            <a:gdLst/>
            <a:ahLst/>
            <a:rect l="l" t="t" r="r" b="b"/>
            <a:pathLst>
              <a:path w="114" h="156">
                <a:moveTo>
                  <a:pt x="0" y="156"/>
                </a:moveTo>
                <a:lnTo>
                  <a:pt x="60" y="0"/>
                </a:lnTo>
                <a:lnTo>
                  <a:pt x="114" y="156"/>
                </a:lnTo>
                <a:lnTo>
                  <a:pt x="0" y="1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57360" y="2486160"/>
            <a:ext cx="104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67400" y="2305080"/>
            <a:ext cx="476280" cy="466560"/>
          </a:xfrm>
          <a:custGeom>
            <a:avLst/>
            <a:gdLst/>
            <a:ahLst/>
            <a:rect l="l" t="t" r="r" b="b"/>
            <a:pathLst>
              <a:path w="300" h="294">
                <a:moveTo>
                  <a:pt x="6" y="252"/>
                </a:moveTo>
                <a:lnTo>
                  <a:pt x="0" y="0"/>
                </a:lnTo>
                <a:lnTo>
                  <a:pt x="300" y="0"/>
                </a:lnTo>
                <a:lnTo>
                  <a:pt x="300" y="294"/>
                </a:lnTo>
                <a:lnTo>
                  <a:pt x="48" y="29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75880" y="2390760"/>
            <a:ext cx="358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upervi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38600" y="2476440"/>
            <a:ext cx="6660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2685960"/>
            <a:ext cx="257040" cy="171720"/>
          </a:xfrm>
          <a:custGeom>
            <a:avLst/>
            <a:gdLst/>
            <a:ahLst/>
            <a:rect l="l" t="t" r="r" b="b"/>
            <a:pathLst>
              <a:path w="162" h="108">
                <a:moveTo>
                  <a:pt x="6" y="0"/>
                </a:moveTo>
                <a:lnTo>
                  <a:pt x="162" y="54"/>
                </a:lnTo>
                <a:lnTo>
                  <a:pt x="0" y="108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71960" y="27338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200400"/>
            <a:ext cx="1455840" cy="800280"/>
          </a:xfrm>
          <a:custGeom>
            <a:avLst/>
            <a:gdLst/>
            <a:ahLst/>
            <a:rect l="l" t="t" r="r" b="b"/>
            <a:pathLst>
              <a:path w="869" h="504">
                <a:moveTo>
                  <a:pt x="0" y="0"/>
                </a:moveTo>
                <a:lnTo>
                  <a:pt x="869" y="0"/>
                </a:lnTo>
                <a:lnTo>
                  <a:pt x="863" y="50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62480" y="4000680"/>
            <a:ext cx="1817640" cy="1217520"/>
          </a:xfrm>
          <a:custGeom>
            <a:avLst/>
            <a:gdLst/>
            <a:ahLst/>
            <a:rect l="l" t="t" r="r" b="b"/>
            <a:pathLst>
              <a:path w="1145" h="767">
                <a:moveTo>
                  <a:pt x="1145" y="0"/>
                </a:moveTo>
                <a:lnTo>
                  <a:pt x="1139" y="767"/>
                </a:lnTo>
                <a:lnTo>
                  <a:pt x="0" y="76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22880" y="4560840"/>
            <a:ext cx="10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1680" y="516096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0"/>
                </a:moveTo>
                <a:lnTo>
                  <a:pt x="78" y="36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105520"/>
            <a:ext cx="75960" cy="150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3040" y="3200400"/>
            <a:ext cx="1511280" cy="1028880"/>
          </a:xfrm>
          <a:custGeom>
            <a:avLst/>
            <a:gdLst/>
            <a:ahLst/>
            <a:rect l="l" t="t" r="r" b="b"/>
            <a:pathLst>
              <a:path w="952" h="648">
                <a:moveTo>
                  <a:pt x="6" y="648"/>
                </a:moveTo>
                <a:lnTo>
                  <a:pt x="0" y="0"/>
                </a:lnTo>
                <a:lnTo>
                  <a:pt x="95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6720" y="3800520"/>
            <a:ext cx="169920" cy="257040"/>
          </a:xfrm>
          <a:custGeom>
            <a:avLst/>
            <a:gdLst/>
            <a:ahLst/>
            <a:rect l="l" t="t" r="r" b="b"/>
            <a:pathLst>
              <a:path w="107" h="162">
                <a:moveTo>
                  <a:pt x="0" y="162"/>
                </a:moveTo>
                <a:lnTo>
                  <a:pt x="54" y="0"/>
                </a:lnTo>
                <a:lnTo>
                  <a:pt x="107" y="162"/>
                </a:lnTo>
                <a:lnTo>
                  <a:pt x="0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4600" y="373392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78120" y="3105000"/>
            <a:ext cx="257400" cy="18108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54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11520" y="31622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69120" y="2125800"/>
            <a:ext cx="47520" cy="18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7600" y="2847960"/>
            <a:ext cx="30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ntra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340320" y="2743200"/>
            <a:ext cx="95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1600" y="3448080"/>
            <a:ext cx="180720" cy="257040"/>
          </a:xfrm>
          <a:custGeom>
            <a:avLst/>
            <a:gdLst/>
            <a:ahLst/>
            <a:rect l="l" t="t" r="r" b="b"/>
            <a:pathLst>
              <a:path w="114" h="162">
                <a:moveTo>
                  <a:pt x="0" y="162"/>
                </a:moveTo>
                <a:lnTo>
                  <a:pt x="54" y="0"/>
                </a:lnTo>
                <a:lnTo>
                  <a:pt x="114" y="162"/>
                </a:lnTo>
                <a:lnTo>
                  <a:pt x="0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69120" y="3352680"/>
            <a:ext cx="108000" cy="95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9040" y="4229280"/>
            <a:ext cx="675000" cy="617400"/>
          </a:xfrm>
          <a:custGeom>
            <a:avLst/>
            <a:gdLst/>
            <a:ahLst/>
            <a:rect l="l" t="t" r="r" b="b"/>
            <a:pathLst>
              <a:path w="425" h="389">
                <a:moveTo>
                  <a:pt x="0" y="0"/>
                </a:moveTo>
                <a:lnTo>
                  <a:pt x="0" y="389"/>
                </a:lnTo>
                <a:lnTo>
                  <a:pt x="413" y="389"/>
                </a:lnTo>
                <a:lnTo>
                  <a:pt x="42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6520" y="470376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mp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2840" y="470376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mpuest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03360" y="4408560"/>
            <a:ext cx="17172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54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60600" y="466560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8640" y="4408560"/>
            <a:ext cx="17136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48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16160" y="466560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752480"/>
            <a:ext cx="95076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86240" y="1752480"/>
            <a:ext cx="35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14440" y="1886040"/>
            <a:ext cx="951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5040" y="1895400"/>
            <a:ext cx="74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7920" y="2019240"/>
            <a:ext cx="74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3680" y="2133720"/>
            <a:ext cx="812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ección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11680" y="2610000"/>
            <a:ext cx="99828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2600" y="2629080"/>
            <a:ext cx="45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11680" y="2762280"/>
            <a:ext cx="998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7320" y="2771640"/>
            <a:ext cx="84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Número 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49840" y="2895480"/>
            <a:ext cx="36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49840" y="301932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pell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7320" y="3143160"/>
            <a:ext cx="919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nción que cump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0920" y="3267000"/>
            <a:ext cx="805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ueldo 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94280" y="1639800"/>
            <a:ext cx="922320" cy="94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90920" y="1658880"/>
            <a:ext cx="31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94280" y="1792440"/>
            <a:ext cx="9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4320" y="1801800"/>
            <a:ext cx="70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4320" y="1925640"/>
            <a:ext cx="70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440" y="2049480"/>
            <a:ext cx="77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ción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55120" y="2173320"/>
            <a:ext cx="76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dad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50440" y="2295360"/>
            <a:ext cx="74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éfono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0080" y="2419200"/>
            <a:ext cx="51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84760" y="3571920"/>
            <a:ext cx="9511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8720" y="359100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84760" y="3724200"/>
            <a:ext cx="951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43800" y="3733920"/>
            <a:ext cx="79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43800" y="3857760"/>
            <a:ext cx="79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41640" y="39816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iqueta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40920" y="4105440"/>
            <a:ext cx="77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Comien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0560" y="422928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2895480"/>
            <a:ext cx="78876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240" y="2895480"/>
            <a:ext cx="50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d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67360" y="3067200"/>
            <a:ext cx="78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120" y="3124080"/>
            <a:ext cx="27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H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200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9200" y="4979880"/>
            <a:ext cx="95076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5240" y="4998960"/>
            <a:ext cx="41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59200" y="5132520"/>
            <a:ext cx="9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1840" y="5141880"/>
            <a:ext cx="80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ombre 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6160" y="5265720"/>
            <a:ext cx="712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sto 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55840" y="3933720"/>
            <a:ext cx="893880" cy="56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1520" y="395280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55840" y="4086360"/>
            <a:ext cx="893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6960" y="4095720"/>
            <a:ext cx="753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6960" y="4219560"/>
            <a:ext cx="753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7320" y="4343400"/>
            <a:ext cx="59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po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97360" y="3981600"/>
            <a:ext cx="884160" cy="44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5920" y="4000680"/>
            <a:ext cx="33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97360" y="4133880"/>
            <a:ext cx="884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9280" y="414324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comien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5680" y="426708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13716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2640" y="35812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6520" y="22860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120" y="8380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3400" y="4495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4400" y="54864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4419720"/>
            <a:ext cx="31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3124080"/>
            <a:ext cx="152640" cy="18108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54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124080"/>
            <a:ext cx="257400" cy="171720"/>
          </a:xfrm>
          <a:custGeom>
            <a:avLst/>
            <a:gdLst/>
            <a:ahLst/>
            <a:rect l="l" t="t" r="r" b="b"/>
            <a:pathLst>
              <a:path w="162" h="108">
                <a:moveTo>
                  <a:pt x="6" y="0"/>
                </a:moveTo>
                <a:lnTo>
                  <a:pt x="162" y="54"/>
                </a:lnTo>
                <a:lnTo>
                  <a:pt x="0" y="108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4840" y="4724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5800" y="1192320"/>
            <a:ext cx="789120" cy="447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7640" y="1154160"/>
            <a:ext cx="789120" cy="44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35320" y="117324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7640" y="1306440"/>
            <a:ext cx="78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45600" y="1316160"/>
            <a:ext cx="67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4520" y="1440000"/>
            <a:ext cx="57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pecial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0:47:08Z</dcterms:created>
  <dc:creator> </dc:creator>
  <dc:description/>
  <dc:language>en-US</dc:language>
  <cp:lastModifiedBy> </cp:lastModifiedBy>
  <dcterms:modified xsi:type="dcterms:W3CDTF">2005-06-02T16:52:01Z</dcterms:modified>
  <cp:revision>5</cp:revision>
  <dc:subject/>
  <dc:title>Presentación de PowerPoint</dc:title>
</cp:coreProperties>
</file>