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6B164-5235-4DFA-82E4-5C5CE71C2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8334B-699E-4D02-83B2-E917C61E4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167B1-1933-43C3-A43F-BFE0E8E0A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BE07F-6ED1-4953-9E7A-AC6078EFE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895A0-D02B-42BC-A922-00F231705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D5814-AD7E-47C3-978D-0362E3F85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6C8C3-DEDA-4013-B5A4-72958B2C7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FD795-E3E4-4694-986E-DE91C617B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03240-14CA-435D-AA37-D0C835B18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0F8B6-3AC6-4DB4-BAF6-3A7404385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19D9F-1995-49EA-9E11-5D554516B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58636-C58E-490E-8BA5-640E76C44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2E1C1-FAA7-45AC-872E-18147F2237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793960" y="2201760"/>
            <a:ext cx="1530360" cy="693720"/>
          </a:xfrm>
          <a:custGeom>
            <a:avLst/>
            <a:gdLst/>
            <a:ahLst/>
            <a:rect l="l" t="t" r="r" b="b"/>
            <a:pathLst>
              <a:path w="964" h="437">
                <a:moveTo>
                  <a:pt x="6" y="0"/>
                </a:moveTo>
                <a:lnTo>
                  <a:pt x="0" y="437"/>
                </a:lnTo>
                <a:lnTo>
                  <a:pt x="964" y="437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666880" y="2590920"/>
            <a:ext cx="2476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678120" y="2800440"/>
            <a:ext cx="257400" cy="180720"/>
          </a:xfrm>
          <a:custGeom>
            <a:avLst/>
            <a:gdLst/>
            <a:ahLst/>
            <a:rect l="l" t="t" r="r" b="b"/>
            <a:pathLst>
              <a:path w="162" h="114">
                <a:moveTo>
                  <a:pt x="162" y="114"/>
                </a:moveTo>
                <a:lnTo>
                  <a:pt x="0" y="60"/>
                </a:lnTo>
                <a:lnTo>
                  <a:pt x="162" y="0"/>
                </a:lnTo>
                <a:lnTo>
                  <a:pt x="162" y="114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678120" y="2838600"/>
            <a:ext cx="1800" cy="104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4323960" y="3038400"/>
            <a:ext cx="9720" cy="117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267080" y="3505320"/>
            <a:ext cx="152640" cy="9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267080" y="3733920"/>
            <a:ext cx="123840" cy="123840"/>
          </a:xfrm>
          <a:custGeom>
            <a:avLst/>
            <a:gdLst/>
            <a:ahLst/>
            <a:rect l="l" t="t" r="r" b="b"/>
            <a:pathLst>
              <a:path w="78" h="78">
                <a:moveTo>
                  <a:pt x="0" y="78"/>
                </a:moveTo>
                <a:lnTo>
                  <a:pt x="36" y="0"/>
                </a:lnTo>
                <a:lnTo>
                  <a:pt x="78" y="78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295880" y="3666960"/>
            <a:ext cx="66600" cy="66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flipH="1" flipV="1">
            <a:off x="4343400" y="4210200"/>
            <a:ext cx="9360" cy="1008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4304880" y="4856040"/>
            <a:ext cx="95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286160" y="4560840"/>
            <a:ext cx="123840" cy="123840"/>
          </a:xfrm>
          <a:custGeom>
            <a:avLst/>
            <a:gdLst/>
            <a:ahLst/>
            <a:rect l="l" t="t" r="r" b="b"/>
            <a:pathLst>
              <a:path w="78" h="78">
                <a:moveTo>
                  <a:pt x="78" y="0"/>
                </a:moveTo>
                <a:lnTo>
                  <a:pt x="42" y="78"/>
                </a:lnTo>
                <a:lnTo>
                  <a:pt x="0" y="0"/>
                </a:lnTo>
                <a:lnTo>
                  <a:pt x="78" y="0"/>
                </a:lnTo>
                <a:close/>
              </a:path>
            </a:pathLst>
          </a:custGeom>
          <a:solidFill>
            <a:srgbClr val="ffffff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295880" y="4684680"/>
            <a:ext cx="104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14960" y="1392120"/>
            <a:ext cx="1440" cy="1646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080240" y="2266920"/>
            <a:ext cx="5403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es miembro d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29280" y="1506600"/>
            <a:ext cx="171360" cy="257040"/>
          </a:xfrm>
          <a:custGeom>
            <a:avLst/>
            <a:gdLst/>
            <a:ahLst/>
            <a:rect l="l" t="t" r="r" b="b"/>
            <a:pathLst>
              <a:path w="108" h="162">
                <a:moveTo>
                  <a:pt x="108" y="6"/>
                </a:moveTo>
                <a:lnTo>
                  <a:pt x="48" y="162"/>
                </a:lnTo>
                <a:lnTo>
                  <a:pt x="0" y="0"/>
                </a:lnTo>
                <a:lnTo>
                  <a:pt x="108" y="6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276800" y="1763640"/>
            <a:ext cx="66600" cy="666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19560" y="2486160"/>
            <a:ext cx="181080" cy="247680"/>
          </a:xfrm>
          <a:custGeom>
            <a:avLst/>
            <a:gdLst/>
            <a:ahLst/>
            <a:rect l="l" t="t" r="r" b="b"/>
            <a:pathLst>
              <a:path w="114" h="156">
                <a:moveTo>
                  <a:pt x="0" y="156"/>
                </a:moveTo>
                <a:lnTo>
                  <a:pt x="60" y="0"/>
                </a:lnTo>
                <a:lnTo>
                  <a:pt x="114" y="156"/>
                </a:lnTo>
                <a:lnTo>
                  <a:pt x="0" y="156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4257360" y="2486160"/>
            <a:ext cx="104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67400" y="2305080"/>
            <a:ext cx="476280" cy="466560"/>
          </a:xfrm>
          <a:custGeom>
            <a:avLst/>
            <a:gdLst/>
            <a:ahLst/>
            <a:rect l="l" t="t" r="r" b="b"/>
            <a:pathLst>
              <a:path w="300" h="294">
                <a:moveTo>
                  <a:pt x="6" y="252"/>
                </a:moveTo>
                <a:lnTo>
                  <a:pt x="0" y="0"/>
                </a:lnTo>
                <a:lnTo>
                  <a:pt x="300" y="0"/>
                </a:lnTo>
                <a:lnTo>
                  <a:pt x="300" y="294"/>
                </a:lnTo>
                <a:lnTo>
                  <a:pt x="48" y="294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475880" y="2390760"/>
            <a:ext cx="358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supervis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638600" y="2476440"/>
            <a:ext cx="66600" cy="66600"/>
          </a:xfrm>
          <a:prstGeom prst="ellipse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14920" y="2685960"/>
            <a:ext cx="257040" cy="171720"/>
          </a:xfrm>
          <a:custGeom>
            <a:avLst/>
            <a:gdLst/>
            <a:ahLst/>
            <a:rect l="l" t="t" r="r" b="b"/>
            <a:pathLst>
              <a:path w="162" h="108">
                <a:moveTo>
                  <a:pt x="6" y="0"/>
                </a:moveTo>
                <a:lnTo>
                  <a:pt x="162" y="54"/>
                </a:lnTo>
                <a:lnTo>
                  <a:pt x="0" y="108"/>
                </a:lnTo>
                <a:lnTo>
                  <a:pt x="6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971960" y="2733840"/>
            <a:ext cx="66600" cy="666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800600" y="3200400"/>
            <a:ext cx="1455840" cy="800280"/>
          </a:xfrm>
          <a:custGeom>
            <a:avLst/>
            <a:gdLst/>
            <a:ahLst/>
            <a:rect l="l" t="t" r="r" b="b"/>
            <a:pathLst>
              <a:path w="869" h="504">
                <a:moveTo>
                  <a:pt x="0" y="0"/>
                </a:moveTo>
                <a:lnTo>
                  <a:pt x="869" y="0"/>
                </a:lnTo>
                <a:lnTo>
                  <a:pt x="863" y="504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362480" y="4000680"/>
            <a:ext cx="1817640" cy="1217520"/>
          </a:xfrm>
          <a:custGeom>
            <a:avLst/>
            <a:gdLst/>
            <a:ahLst/>
            <a:rect l="l" t="t" r="r" b="b"/>
            <a:pathLst>
              <a:path w="1145" h="767">
                <a:moveTo>
                  <a:pt x="1145" y="0"/>
                </a:moveTo>
                <a:lnTo>
                  <a:pt x="1139" y="767"/>
                </a:lnTo>
                <a:lnTo>
                  <a:pt x="0" y="767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122880" y="4560840"/>
            <a:ext cx="104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981680" y="5160960"/>
            <a:ext cx="123840" cy="123840"/>
          </a:xfrm>
          <a:custGeom>
            <a:avLst/>
            <a:gdLst/>
            <a:ahLst/>
            <a:rect l="l" t="t" r="r" b="b"/>
            <a:pathLst>
              <a:path w="78" h="78">
                <a:moveTo>
                  <a:pt x="0" y="0"/>
                </a:moveTo>
                <a:lnTo>
                  <a:pt x="78" y="36"/>
                </a:lnTo>
                <a:lnTo>
                  <a:pt x="0" y="78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105520" y="5105520"/>
            <a:ext cx="75960" cy="1508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813040" y="3200400"/>
            <a:ext cx="1511280" cy="1028880"/>
          </a:xfrm>
          <a:custGeom>
            <a:avLst/>
            <a:gdLst/>
            <a:ahLst/>
            <a:rect l="l" t="t" r="r" b="b"/>
            <a:pathLst>
              <a:path w="952" h="648">
                <a:moveTo>
                  <a:pt x="6" y="648"/>
                </a:moveTo>
                <a:lnTo>
                  <a:pt x="0" y="0"/>
                </a:lnTo>
                <a:lnTo>
                  <a:pt x="952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736720" y="3800520"/>
            <a:ext cx="169920" cy="257040"/>
          </a:xfrm>
          <a:custGeom>
            <a:avLst/>
            <a:gdLst/>
            <a:ahLst/>
            <a:rect l="l" t="t" r="r" b="b"/>
            <a:pathLst>
              <a:path w="107" h="162">
                <a:moveTo>
                  <a:pt x="0" y="162"/>
                </a:moveTo>
                <a:lnTo>
                  <a:pt x="54" y="0"/>
                </a:lnTo>
                <a:lnTo>
                  <a:pt x="107" y="162"/>
                </a:lnTo>
                <a:lnTo>
                  <a:pt x="0" y="16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784600" y="3733920"/>
            <a:ext cx="66600" cy="666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678120" y="3105000"/>
            <a:ext cx="257400" cy="181080"/>
          </a:xfrm>
          <a:custGeom>
            <a:avLst/>
            <a:gdLst/>
            <a:ahLst/>
            <a:rect l="l" t="t" r="r" b="b"/>
            <a:pathLst>
              <a:path w="162" h="114">
                <a:moveTo>
                  <a:pt x="162" y="114"/>
                </a:moveTo>
                <a:lnTo>
                  <a:pt x="0" y="54"/>
                </a:lnTo>
                <a:lnTo>
                  <a:pt x="162" y="0"/>
                </a:lnTo>
                <a:lnTo>
                  <a:pt x="162" y="114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611520" y="3162240"/>
            <a:ext cx="66600" cy="666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369120" y="2125800"/>
            <a:ext cx="47520" cy="1874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177600" y="2847960"/>
            <a:ext cx="303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contrat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6340320" y="2743200"/>
            <a:ext cx="95400" cy="9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321600" y="3448080"/>
            <a:ext cx="180720" cy="257040"/>
          </a:xfrm>
          <a:custGeom>
            <a:avLst/>
            <a:gdLst/>
            <a:ahLst/>
            <a:rect l="l" t="t" r="r" b="b"/>
            <a:pathLst>
              <a:path w="114" h="162">
                <a:moveTo>
                  <a:pt x="0" y="162"/>
                </a:moveTo>
                <a:lnTo>
                  <a:pt x="54" y="0"/>
                </a:lnTo>
                <a:lnTo>
                  <a:pt x="114" y="162"/>
                </a:lnTo>
                <a:lnTo>
                  <a:pt x="0" y="16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369120" y="3352680"/>
            <a:ext cx="108000" cy="954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489040" y="4229280"/>
            <a:ext cx="675000" cy="617400"/>
          </a:xfrm>
          <a:custGeom>
            <a:avLst/>
            <a:gdLst/>
            <a:ahLst/>
            <a:rect l="l" t="t" r="r" b="b"/>
            <a:pathLst>
              <a:path w="425" h="389">
                <a:moveTo>
                  <a:pt x="0" y="0"/>
                </a:moveTo>
                <a:lnTo>
                  <a:pt x="0" y="389"/>
                </a:lnTo>
                <a:lnTo>
                  <a:pt x="413" y="389"/>
                </a:lnTo>
                <a:lnTo>
                  <a:pt x="425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306520" y="4703760"/>
            <a:ext cx="342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compon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922840" y="4703760"/>
            <a:ext cx="522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compuesto d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403360" y="4408560"/>
            <a:ext cx="171720" cy="257040"/>
          </a:xfrm>
          <a:custGeom>
            <a:avLst/>
            <a:gdLst/>
            <a:ahLst/>
            <a:rect l="l" t="t" r="r" b="b"/>
            <a:pathLst>
              <a:path w="108" h="162">
                <a:moveTo>
                  <a:pt x="108" y="6"/>
                </a:moveTo>
                <a:lnTo>
                  <a:pt x="54" y="162"/>
                </a:lnTo>
                <a:lnTo>
                  <a:pt x="0" y="0"/>
                </a:lnTo>
                <a:lnTo>
                  <a:pt x="108" y="6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460600" y="4665600"/>
            <a:ext cx="66600" cy="666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068640" y="4408560"/>
            <a:ext cx="171360" cy="257040"/>
          </a:xfrm>
          <a:custGeom>
            <a:avLst/>
            <a:gdLst/>
            <a:ahLst/>
            <a:rect l="l" t="t" r="r" b="b"/>
            <a:pathLst>
              <a:path w="108" h="162">
                <a:moveTo>
                  <a:pt x="108" y="6"/>
                </a:moveTo>
                <a:lnTo>
                  <a:pt x="48" y="162"/>
                </a:lnTo>
                <a:lnTo>
                  <a:pt x="0" y="0"/>
                </a:lnTo>
                <a:lnTo>
                  <a:pt x="108" y="6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116160" y="4665600"/>
            <a:ext cx="66600" cy="666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286000" y="1752480"/>
            <a:ext cx="950760" cy="6858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586240" y="1752480"/>
            <a:ext cx="3589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vis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314440" y="1886040"/>
            <a:ext cx="951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345040" y="1895400"/>
            <a:ext cx="7491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Número Divis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347920" y="2019240"/>
            <a:ext cx="7491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mbre Divis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353680" y="2133720"/>
            <a:ext cx="8128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Dirección Divis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Paí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811680" y="2610000"/>
            <a:ext cx="998280" cy="81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062600" y="2629080"/>
            <a:ext cx="459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Emplead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811680" y="2762280"/>
            <a:ext cx="9982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847320" y="2771640"/>
            <a:ext cx="8496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 u="sng">
                <a:solidFill>
                  <a:srgbClr val="000000"/>
                </a:solidFill>
                <a:uFillTx/>
                <a:latin typeface="Arial"/>
              </a:rPr>
              <a:t>Número Emplead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849840" y="2895480"/>
            <a:ext cx="361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Nomb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849840" y="3019320"/>
            <a:ext cx="3636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Apellid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847320" y="3143160"/>
            <a:ext cx="919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Función que cump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850920" y="3267000"/>
            <a:ext cx="8053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Sueldo Emplead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894280" y="1639800"/>
            <a:ext cx="922320" cy="9414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90920" y="1658880"/>
            <a:ext cx="3178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ien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894280" y="1792440"/>
            <a:ext cx="922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944320" y="1801800"/>
            <a:ext cx="7077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Número Clien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944320" y="1925640"/>
            <a:ext cx="7077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mbre Clien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950440" y="2049480"/>
            <a:ext cx="7718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rección Clien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955120" y="2173320"/>
            <a:ext cx="7628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ctividad Clien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950440" y="2295360"/>
            <a:ext cx="743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léfono Clien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950080" y="2419200"/>
            <a:ext cx="5173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x Clien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684760" y="3571920"/>
            <a:ext cx="951120" cy="81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958720" y="3591000"/>
            <a:ext cx="4046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yec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684760" y="3724200"/>
            <a:ext cx="9511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743800" y="3733920"/>
            <a:ext cx="7948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Número Proyec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743800" y="3857760"/>
            <a:ext cx="7948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mbre Proyec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741640" y="3981600"/>
            <a:ext cx="808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iqueta Proyec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740920" y="4105440"/>
            <a:ext cx="7718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echa Comienz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740560" y="4229280"/>
            <a:ext cx="6865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echa Térmi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105520" y="2895480"/>
            <a:ext cx="788760" cy="44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240" y="2895480"/>
            <a:ext cx="5050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Dedicac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067360" y="3067200"/>
            <a:ext cx="788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181120" y="3124080"/>
            <a:ext cx="2721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 u="sng">
                <a:solidFill>
                  <a:srgbClr val="000000"/>
                </a:solidFill>
                <a:uFillTx/>
                <a:latin typeface="Arial"/>
              </a:rPr>
              <a:t>Hora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105520" y="320040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859200" y="4979880"/>
            <a:ext cx="950760" cy="44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125240" y="4998960"/>
            <a:ext cx="4168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ctivida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859200" y="5132520"/>
            <a:ext cx="95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921840" y="5141880"/>
            <a:ext cx="8067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Nombre Activida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26160" y="5265720"/>
            <a:ext cx="7124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sto Activida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355840" y="3933720"/>
            <a:ext cx="893880" cy="569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21520" y="3952800"/>
            <a:ext cx="3636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teri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355840" y="4086360"/>
            <a:ext cx="8938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406960" y="4095720"/>
            <a:ext cx="7534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Número Materi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406960" y="4219560"/>
            <a:ext cx="7534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mbre Materi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407320" y="4343400"/>
            <a:ext cx="5904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ipo Materi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97360" y="3981600"/>
            <a:ext cx="884160" cy="4460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165920" y="4000680"/>
            <a:ext cx="3358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echa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897360" y="4133880"/>
            <a:ext cx="884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959280" y="4143240"/>
            <a:ext cx="7506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echa comienz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955680" y="4267080"/>
            <a:ext cx="653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echa térmi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514600" y="13716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25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132640" y="3581280"/>
            <a:ext cx="65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10.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656520" y="2286000"/>
            <a:ext cx="65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25.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038120" y="838080"/>
            <a:ext cx="56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1.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323400" y="4495680"/>
            <a:ext cx="65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20.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884400" y="5486400"/>
            <a:ext cx="73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100.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343400" y="4419720"/>
            <a:ext cx="311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952880" y="3124080"/>
            <a:ext cx="152640" cy="181080"/>
          </a:xfrm>
          <a:custGeom>
            <a:avLst/>
            <a:gdLst/>
            <a:ahLst/>
            <a:rect l="l" t="t" r="r" b="b"/>
            <a:pathLst>
              <a:path w="162" h="114">
                <a:moveTo>
                  <a:pt x="162" y="114"/>
                </a:moveTo>
                <a:lnTo>
                  <a:pt x="0" y="54"/>
                </a:lnTo>
                <a:lnTo>
                  <a:pt x="162" y="0"/>
                </a:lnTo>
                <a:lnTo>
                  <a:pt x="162" y="114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3124080"/>
            <a:ext cx="257400" cy="171720"/>
          </a:xfrm>
          <a:custGeom>
            <a:avLst/>
            <a:gdLst/>
            <a:ahLst/>
            <a:rect l="l" t="t" r="r" b="b"/>
            <a:pathLst>
              <a:path w="162" h="108">
                <a:moveTo>
                  <a:pt x="6" y="0"/>
                </a:moveTo>
                <a:lnTo>
                  <a:pt x="162" y="54"/>
                </a:lnTo>
                <a:lnTo>
                  <a:pt x="0" y="108"/>
                </a:lnTo>
                <a:lnTo>
                  <a:pt x="6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344840" y="4724280"/>
            <a:ext cx="24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925800" y="1192320"/>
            <a:ext cx="789120" cy="44748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887640" y="1154160"/>
            <a:ext cx="789120" cy="44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135320" y="1173240"/>
            <a:ext cx="2826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up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87640" y="1306440"/>
            <a:ext cx="7891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945600" y="1316160"/>
            <a:ext cx="6728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Número Grup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944520" y="1440000"/>
            <a:ext cx="5799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pecialida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2T10:47:08Z</dcterms:created>
  <dc:creator> </dc:creator>
  <dc:description/>
  <dc:language>en-US</dc:language>
  <cp:lastModifiedBy> </cp:lastModifiedBy>
  <dcterms:modified xsi:type="dcterms:W3CDTF">2005-06-02T16:52:01Z</dcterms:modified>
  <cp:revision>5</cp:revision>
  <dc:subject/>
  <dc:title>Presentación de PowerPoint</dc:title>
</cp:coreProperties>
</file>