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BD4-EF53-468B-A80C-557BCE48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A78-03A9-4098-A25A-921DFD7E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E2C-F2C0-463E-B72A-B6E75ED6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CDD-3553-4903-AE26-046D06FC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5A41-4F6E-4C71-944C-5EAEF1B8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2107-EE24-44B6-846D-4F10F9FD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3EFB-4630-4820-AA09-9F3BC996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AE60-F0E8-484F-B0A9-8E621167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855F-33A6-4892-98CF-04EE7D46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5D3A-0D77-4ADD-9252-905190C3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5561-A99E-4E00-BA22-D2730D37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9C3-2134-4716-BA3C-A803DC45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00E4-AF89-4065-8B8A-A3B5AEC7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59AC-97EC-4137-A013-8DBF115B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E52D-F6D2-41FC-BAAA-11CC0DE5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E3C5-1EE7-4CD1-9609-B654B167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792B-84F0-4682-A4EA-370DAC3C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89B5-F586-4432-B4AD-710CF1E5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8FF-D409-4360-8E9B-12450A30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4CBD-178C-4E52-96B5-E4406D00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3BD-17B0-4310-A056-13D688F8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7BC-8C4D-48BF-BE32-F6351572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9DD-B3CD-44AB-A4E8-3B90F163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D23-2A82-46D3-A789-1DC651E2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32F2-9BA9-4622-BE4D-D8A3150D28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26B8-0A3B-4928-A4A9-FD62BD8C52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0033"/>
                </a:solidFill>
                <a:latin typeface="Times New Roman"/>
              </a:rPr>
              <a:t>IN 539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330033"/>
                </a:solidFill>
                <a:latin typeface="Times New Roman"/>
              </a:rPr>
              <a:t>ECONOMIA AMBIENTAL Y DE RECURSOS NATURALES</a:t>
            </a:r>
            <a:br>
              <a:rPr sz="4400"/>
            </a:br>
            <a:br>
              <a:rPr sz="4400"/>
            </a:br>
            <a:r>
              <a:rPr b="0" lang="es-ES" sz="2800" spc="-1" strike="noStrike">
                <a:solidFill>
                  <a:srgbClr val="330033"/>
                </a:solidFill>
                <a:latin typeface="Times New Roman"/>
              </a:rPr>
              <a:t>ANDRES ULLOA</a:t>
            </a:r>
            <a:br>
              <a:rPr sz="2800"/>
            </a:br>
            <a:r>
              <a:rPr b="0" lang="es-ES" sz="2800" spc="-1" strike="noStrike">
                <a:solidFill>
                  <a:srgbClr val="330033"/>
                </a:solidFill>
                <a:latin typeface="Times New Roman"/>
              </a:rPr>
              <a:t>RAUL O`RYAN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Times New Roman"/>
              </a:rPr>
              <a:t>Cambios en el bienestar asociados a un alza de precios</a:t>
            </a:r>
            <a:r>
              <a:rPr b="0" lang="es-AR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1600200"/>
            <a:ext cx="381240" cy="324000"/>
          </a:xfrm>
          <a:custGeom>
            <a:avLst/>
            <a:gdLst/>
            <a:ahLst/>
            <a:rect l="l" t="t" r="r" b="b"/>
            <a:pathLst>
              <a:path w="1440" h="864">
                <a:moveTo>
                  <a:pt x="0" y="0"/>
                </a:moveTo>
                <a:lnTo>
                  <a:pt x="0" y="864"/>
                </a:lnTo>
                <a:lnTo>
                  <a:pt x="1440" y="864"/>
                </a:lnTo>
                <a:lnTo>
                  <a:pt x="43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77320" y="1676520"/>
            <a:ext cx="380880" cy="323640"/>
          </a:xfrm>
          <a:custGeom>
            <a:avLst/>
            <a:gdLst/>
            <a:ahLst/>
            <a:rect l="l" t="t" r="r" b="b"/>
            <a:pathLst>
              <a:path w="1008" h="864">
                <a:moveTo>
                  <a:pt x="0" y="0"/>
                </a:moveTo>
                <a:lnTo>
                  <a:pt x="576" y="0"/>
                </a:lnTo>
                <a:lnTo>
                  <a:pt x="1008" y="86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2514600"/>
            <a:ext cx="326880" cy="216000"/>
          </a:xfrm>
          <a:custGeom>
            <a:avLst/>
            <a:gdLst/>
            <a:ahLst/>
            <a:rect l="l" t="t" r="r" b="b"/>
            <a:pathLst>
              <a:path w="1440" h="864">
                <a:moveTo>
                  <a:pt x="0" y="0"/>
                </a:moveTo>
                <a:lnTo>
                  <a:pt x="0" y="864"/>
                </a:lnTo>
                <a:lnTo>
                  <a:pt x="1440" y="864"/>
                </a:lnTo>
                <a:lnTo>
                  <a:pt x="43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43800" y="1600200"/>
            <a:ext cx="438120" cy="378000"/>
          </a:xfrm>
          <a:custGeom>
            <a:avLst/>
            <a:gdLst/>
            <a:ahLst/>
            <a:rect l="l" t="t" r="r" b="b"/>
            <a:pathLst>
              <a:path w="1158" h="1008">
                <a:moveTo>
                  <a:pt x="30" y="0"/>
                </a:moveTo>
                <a:cubicBezTo>
                  <a:pt x="22" y="12"/>
                  <a:pt x="0" y="23"/>
                  <a:pt x="6" y="36"/>
                </a:cubicBezTo>
                <a:cubicBezTo>
                  <a:pt x="12" y="47"/>
                  <a:pt x="29" y="23"/>
                  <a:pt x="42" y="24"/>
                </a:cubicBezTo>
                <a:cubicBezTo>
                  <a:pt x="67" y="27"/>
                  <a:pt x="114" y="48"/>
                  <a:pt x="114" y="48"/>
                </a:cubicBezTo>
                <a:cubicBezTo>
                  <a:pt x="130" y="72"/>
                  <a:pt x="138" y="104"/>
                  <a:pt x="162" y="120"/>
                </a:cubicBezTo>
                <a:cubicBezTo>
                  <a:pt x="174" y="128"/>
                  <a:pt x="198" y="144"/>
                  <a:pt x="198" y="144"/>
                </a:cubicBezTo>
                <a:lnTo>
                  <a:pt x="1014" y="864"/>
                </a:lnTo>
                <a:lnTo>
                  <a:pt x="1158" y="1008"/>
                </a:lnTo>
                <a:lnTo>
                  <a:pt x="438" y="1008"/>
                </a:lnTo>
                <a:lnTo>
                  <a:pt x="3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96080" y="2438280"/>
            <a:ext cx="328680" cy="270000"/>
          </a:xfrm>
          <a:custGeom>
            <a:avLst/>
            <a:gdLst/>
            <a:ahLst/>
            <a:rect l="l" t="t" r="r" b="b"/>
            <a:pathLst>
              <a:path w="1158" h="1008">
                <a:moveTo>
                  <a:pt x="30" y="0"/>
                </a:moveTo>
                <a:cubicBezTo>
                  <a:pt x="22" y="12"/>
                  <a:pt x="0" y="23"/>
                  <a:pt x="6" y="36"/>
                </a:cubicBezTo>
                <a:cubicBezTo>
                  <a:pt x="12" y="47"/>
                  <a:pt x="29" y="23"/>
                  <a:pt x="42" y="24"/>
                </a:cubicBezTo>
                <a:cubicBezTo>
                  <a:pt x="67" y="27"/>
                  <a:pt x="114" y="48"/>
                  <a:pt x="114" y="48"/>
                </a:cubicBezTo>
                <a:cubicBezTo>
                  <a:pt x="130" y="72"/>
                  <a:pt x="138" y="104"/>
                  <a:pt x="162" y="120"/>
                </a:cubicBezTo>
                <a:cubicBezTo>
                  <a:pt x="174" y="128"/>
                  <a:pt x="198" y="144"/>
                  <a:pt x="198" y="144"/>
                </a:cubicBezTo>
                <a:lnTo>
                  <a:pt x="1014" y="864"/>
                </a:lnTo>
                <a:lnTo>
                  <a:pt x="1158" y="1008"/>
                </a:lnTo>
                <a:lnTo>
                  <a:pt x="438" y="1008"/>
                </a:lnTo>
                <a:lnTo>
                  <a:pt x="3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86600" y="3200400"/>
            <a:ext cx="326880" cy="216000"/>
          </a:xfrm>
          <a:custGeom>
            <a:avLst/>
            <a:gdLst/>
            <a:ahLst/>
            <a:rect l="l" t="t" r="r" b="b"/>
            <a:pathLst>
              <a:path w="1440" h="864">
                <a:moveTo>
                  <a:pt x="0" y="0"/>
                </a:moveTo>
                <a:lnTo>
                  <a:pt x="0" y="864"/>
                </a:lnTo>
                <a:lnTo>
                  <a:pt x="1440" y="864"/>
                </a:lnTo>
                <a:lnTo>
                  <a:pt x="43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129528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ariac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ón Compensatoria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22096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xcedente del Consumidor    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274320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ariación equivalente   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684360" y="1557360"/>
            <a:ext cx="5105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191628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Times New Roman"/>
              </a:rPr>
              <a:t>Aunque la forma tradicional de medir el bienestar a través del excedente  bajo la curva de</a:t>
            </a:r>
            <a:r>
              <a:rPr b="0" lang="es-AR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100" spc="-1" strike="noStrike">
                <a:solidFill>
                  <a:srgbClr val="000000"/>
                </a:solidFill>
                <a:latin typeface="Times New Roman"/>
              </a:rPr>
              <a:t>demanda  no es una medida exacta. Sin embargo, cuando las elasticidades ingresos son bajas o cuando los cambios en el excedente del consumidor corresponden a una fracción baja del ingreso esta medida puede ser una buena aproximación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333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42472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Separación entre Eficiencia y Distribución.</a:t>
            </a:r>
            <a:br>
              <a:rPr sz="4000"/>
            </a:b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La regla de oro en economía implica que la eficiencia de una economía de mercado  requiera que en todos los mercados el precio del bien sea igual costo marginal de producción</a:t>
            </a:r>
            <a:r>
              <a:rPr b="0" lang="es-AR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AR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600"/>
            </a:b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52840" y="3048120"/>
            <a:ext cx="0" cy="297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52840" y="6027840"/>
            <a:ext cx="41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3284640"/>
            <a:ext cx="3059280" cy="28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652840" y="4471920"/>
            <a:ext cx="3238200" cy="14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3124080"/>
            <a:ext cx="1440000" cy="5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91040" y="4297320"/>
            <a:ext cx="1440000" cy="5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51400" y="6027840"/>
            <a:ext cx="7207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4648320"/>
            <a:ext cx="7189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4997520"/>
            <a:ext cx="0" cy="10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762120"/>
            <a:ext cx="8534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lta de competencia , P &gt;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internalización de todos los beneficios  y Costos Marginales  (EXTERNALIDA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rsos de propiedad comú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ienes Públ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vergencia entre las tasas de descuento privada y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llas en la política públ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-19080"/>
            <a:ext cx="79819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terna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aso en que el costo marginal social es mayor al costo marginal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jemplos:  Contaminación, Congestión,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62120" y="2590920"/>
            <a:ext cx="4572000" cy="3458520"/>
            <a:chOff x="762120" y="2590920"/>
            <a:chExt cx="4572000" cy="3458520"/>
          </a:xfrm>
        </p:grpSpPr>
        <p:sp>
          <p:nvSpPr>
            <p:cNvPr id="131" name=""/>
            <p:cNvSpPr/>
            <p:nvPr/>
          </p:nvSpPr>
          <p:spPr>
            <a:xfrm>
              <a:off x="1409040" y="2590920"/>
              <a:ext cx="720" cy="28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9040" y="5478120"/>
              <a:ext cx="3099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09040" y="2781360"/>
              <a:ext cx="2291400" cy="27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538280" y="3859920"/>
              <a:ext cx="2328840" cy="15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09040" y="2668680"/>
              <a:ext cx="31053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mg Social=Bmg privado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38240" y="3548880"/>
              <a:ext cx="15958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mg Priv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02880" y="5464440"/>
              <a:ext cx="5389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120" y="4307400"/>
              <a:ext cx="5389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32480" y="4479840"/>
              <a:ext cx="720" cy="10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452240" y="3180240"/>
              <a:ext cx="1638720" cy="22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90960" y="2887920"/>
              <a:ext cx="15958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mg So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408680" y="4562280"/>
              <a:ext cx="1423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08680" y="4066560"/>
              <a:ext cx="1035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44040" y="4029840"/>
              <a:ext cx="720" cy="135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120" y="3722400"/>
              <a:ext cx="53892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85200" y="5540400"/>
              <a:ext cx="53892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q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52480" y="1698480"/>
            <a:ext cx="6782040" cy="3664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26028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so en que el beneficio marginal social es  mayor  que el beneficio marginal  pri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mplos: Educación, Vacunación, Servicios Sanit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9080" y="304920"/>
            <a:ext cx="674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cursos de Propiedad Comú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sca,  uso de espacios públic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 básico :  Externalidad dinámica o de sto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54380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68360" y="189000"/>
            <a:ext cx="84582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iene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aracterística de un bien público es que no se cumple el principio de la exclusión y en su consumo no existe rival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: Defensa nacional, lugares públicos, recursos tales como: el aire, la biodiversidad, la atmósf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9280" y="4365720"/>
          <a:ext cx="8964720" cy="230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65720"/>
                    <a:ext cx="89647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9640" y="162864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tasa de descuento refleja el premio al riesgo y muchas veces éste es superior para los privados que para la sociedad.  Esto trae como consecuencia que los recursos sean consumidos más rápid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as en la política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gobiernos pueden producir distorsiones e  incentivos perversos. Típicamente el uso de impuestos y subsidios pueden producir ineficienci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as veces crea condiciones para que mediante el proceso político se busquen obtener importantes </a:t>
            </a: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ntas económ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189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vergencias entre la tasa de descuento privada y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" y="0"/>
            <a:ext cx="8915400" cy="75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Porqué se producen estas fallas del merc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derechos de propiedad no están bien asig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a que un sistema de  derechos de propiedad sea eficiente se requiere que estos s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ver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nsfer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xclu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iscaliz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itigab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y altos costos de Información,  coordinación  o transac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general los contratos son incomple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jemplo. Usando el teorema de Coase podemos corregir muchas de fallas del mercado si asignamos derechos de propiedad sobre los bienes en disputa siempre y cuando  los costos de información y transacción sean bajos.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ONOMIA AMBIENTAL Y DE RECURSOS NATURAL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A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A DE RECURSOS NA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4360" y="220500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mite asignar diferentes ponderaciones a los flujos de beneficios y costos futu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eferencia pura en el tiempo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l presente vale más que el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oductividad Marginal de la inversión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Un peso puesto en un proyecto puede generar beneficios en el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23200" y="281160"/>
            <a:ext cx="45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TASA DE DESCU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228600"/>
            <a:ext cx="8305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Cómo se determina la tasa de descu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 de preferencia del consumido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cluye la preferencia en el tiempo del consumidor, la elasticidad de la utilidad marginal del consumo y la tasa de crecimiento del consumo per cápi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87280" y="2946240"/>
          <a:ext cx="6324840" cy="391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46240"/>
                    <a:ext cx="6324840" cy="39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533520"/>
            <a:ext cx="8458200" cy="89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sto de oportunidad del capital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de lo que se dejaría de ganar si los fondos públicos fuesen invertidos en el sector pri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ideraciones de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cluir en la tasa de descuento un factor de riesgo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vergencias entre las tasas de descuento de corto y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ONOMIA AMBIENTAL Y DE RECURSOS NATURAL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LIMITES AL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EXISTEN LIMITES FISICOS AL CRECIMIENTO ECONOM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ONOMIA AMBIENTAL Y DE RECURSOS NATURAL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ONCEPTO DE SUSTENTABILIDAD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NTABILIDAD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ONOMIA AMBIENTAL Y DE RECURSOS NATURAL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SIS ESTATICO VERSUS ANALISIS DINAMICO EN LOS RECURSOS NA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ROL DE LA TASA DE DESCUENTO.¿COMO DESCUENTO EL FUTUR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UÁL ES LA TASA DE DESCUENTO CORREC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ONOMIA AMBIENTAL Y DE RECURSOS NATURAL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E SE ENTIENDE POR ESCASEZ EN ECONOM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330033"/>
                </a:solidFill>
                <a:latin typeface="Times New Roman"/>
              </a:rPr>
              <a:t>Conceptos básico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Economía del Bien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¿Cómo o bajo que criterios evaluamos un proyecto de explotación, exploración, restauración o inversión en recursos natur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est de Compensación Kaldor-Hicks-Samuelson basados en mejoramiento a lo Pareto o vía compens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10591920" cy="3976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4360" y="333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Times New Roman"/>
              </a:rPr>
              <a:t>Si un individuo pierde y debe ser potencialmente compensado, ¿Cuál es el mínimo que está dispuesto a aceptar para mantener su bienestar inalterado? , o alternativamente ¿cuál es la disposición a pagar de los potenciales beneficiarios del proyecto? </a:t>
            </a:r>
            <a:br>
              <a:rPr sz="2100"/>
            </a:br>
            <a:br>
              <a:rPr sz="2100"/>
            </a:br>
            <a:r>
              <a:rPr b="0" lang="es-AR" sz="2100" spc="-1" strike="noStrike">
                <a:solidFill>
                  <a:srgbClr val="000000"/>
                </a:solidFill>
                <a:latin typeface="Times New Roman"/>
              </a:rPr>
              <a:t>Este criterio se aplica usando los conceptos de variación equivalente, variación compensatoria y cambio en el excedente del consumidor</a:t>
            </a:r>
            <a:br>
              <a:rPr sz="2100"/>
            </a:b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333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9:28:21Z</dcterms:created>
  <dc:creator>UNIVERSIDAD DE CHILE</dc:creator>
  <dc:description/>
  <dc:language>en-US</dc:language>
  <cp:lastModifiedBy>UNIVERSIDAD DE CHILE</cp:lastModifiedBy>
  <dcterms:modified xsi:type="dcterms:W3CDTF">2005-03-07T19:58:38Z</dcterms:modified>
  <cp:revision>2</cp:revision>
  <dc:subject/>
  <dc:title>IN 539 ECONOMIA AMBIENTAL Y DE RECURSOS NATURALES</dc:title>
</cp:coreProperties>
</file>