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4BD-75D0-43EB-9BF1-73EBFC11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5200"/>
            <a:ext cx="883944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C3C-9798-4322-9CAC-EF2C73F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520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520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F55-2DCC-4ED4-8DCF-85BEED63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46664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46664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520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520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5200"/>
            <a:ext cx="284616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28B-B19F-49F4-9F56-C33D6478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187-7C4A-4DCC-87F2-AB293360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F8F-DE66-4AC9-9A7B-88502B6A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43135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466640"/>
            <a:ext cx="43135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12A-C2A5-4D3B-9B0A-AA4E1EF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4B2-7E5D-4B3E-ABED-5B67E40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A41-DCDC-4DF4-8BB7-A16879CD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466640"/>
            <a:ext cx="43135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520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CDD-52E6-4D5C-BF56-3EBB2C6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43135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520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19F-21B2-451B-9987-9ABDF2E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466640"/>
            <a:ext cx="431352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5200"/>
            <a:ext cx="8839440" cy="21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8BC-24E0-4F3A-A9B6-36BD9BD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DFAE48-E693-4CEB-9B01-1CB2CD3BDB38}" type="slidenum"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26720" y="6629400"/>
            <a:ext cx="67309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70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957360" y="6477120"/>
            <a:ext cx="203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© Cristián Lehuedé B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51920" y="1371600"/>
            <a:ext cx="80773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La publicidad como herramienta para construir marca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2640" y="4723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Junio 2005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Universidad de Chi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triz FCB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8600" y="2286000"/>
            <a:ext cx="8686800" cy="3238560"/>
            <a:chOff x="228600" y="2286000"/>
            <a:chExt cx="8686800" cy="3238560"/>
          </a:xfrm>
        </p:grpSpPr>
        <p:sp>
          <p:nvSpPr>
            <p:cNvPr id="83" name=""/>
            <p:cNvSpPr/>
            <p:nvPr/>
          </p:nvSpPr>
          <p:spPr>
            <a:xfrm>
              <a:off x="228600" y="2286000"/>
              <a:ext cx="2590920" cy="9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22400" y="2286000"/>
              <a:ext cx="2892600" cy="9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Pensa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(Informativo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49840" y="2286000"/>
              <a:ext cx="3265560" cy="9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Senti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(Afectivo)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3209760"/>
              <a:ext cx="2590920" cy="115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Involucramien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22400" y="3209760"/>
              <a:ext cx="2892600" cy="115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blicidad orientada a generar hábitos.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acer,Aprender,Senti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9840" y="3209760"/>
              <a:ext cx="3265560" cy="115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blicidad Afectiva con alto factor de atención.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acer,Sentir,Aprend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4367160"/>
              <a:ext cx="2590920" cy="11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400" spc="-1" strike="noStrike">
                  <a:solidFill>
                    <a:srgbClr val="33cc33"/>
                  </a:solidFill>
                  <a:latin typeface="Arial"/>
                </a:rPr>
                <a:t>Involucramien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2400" y="4367160"/>
              <a:ext cx="2892600" cy="11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blicidad Informativ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render,Sentir,Hac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4367160"/>
              <a:ext cx="3265560" cy="11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ublicidad Afectiv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Sentir,Aprender,Hac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ODELO INTEGRADO DE RESPUESTA A LA INFORMACIÓ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4280" y="2070000"/>
            <a:ext cx="1833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FUENTE DE LA</a:t>
            </a:r>
            <a:br>
              <a:rPr sz="1800"/>
            </a:b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9840" y="2070000"/>
            <a:ext cx="2176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CEPTACIÓN DE</a:t>
            </a:r>
            <a:br>
              <a:rPr sz="1800"/>
            </a:b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LA INFORM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84000" y="2070000"/>
            <a:ext cx="1490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OGNI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3960" y="2070000"/>
            <a:ext cx="1109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FEC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06000" y="2070000"/>
            <a:ext cx="14752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ONDUC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8240" y="1949400"/>
            <a:ext cx="8727840" cy="0"/>
          </a:xfrm>
          <a:prstGeom prst="line">
            <a:avLst/>
          </a:prstGeom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8240" y="2755800"/>
            <a:ext cx="8727840" cy="0"/>
          </a:xfrm>
          <a:prstGeom prst="line">
            <a:avLst/>
          </a:prstGeom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640" y="3165480"/>
            <a:ext cx="1418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8720" y="3165480"/>
            <a:ext cx="720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59720" y="3165480"/>
            <a:ext cx="1025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PRUEB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280" y="4844880"/>
            <a:ext cx="1545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EXPERIENCIA</a:t>
            </a:r>
            <a:br>
              <a:rPr sz="1600"/>
            </a:b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DIREC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3760" y="4965840"/>
            <a:ext cx="708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76040" y="4844880"/>
            <a:ext cx="1598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COMPROMISO</a:t>
            </a:r>
            <a:br>
              <a:rPr sz="1600"/>
            </a:b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ADOPCIÓ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1800" y="3328920"/>
            <a:ext cx="83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01800" y="5130720"/>
            <a:ext cx="83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238640" y="2971800"/>
            <a:ext cx="2884320" cy="714240"/>
            <a:chOff x="4238640" y="2971800"/>
            <a:chExt cx="2884320" cy="714240"/>
          </a:xfrm>
        </p:grpSpPr>
        <p:sp>
          <p:nvSpPr>
            <p:cNvPr id="109" name=""/>
            <p:cNvSpPr/>
            <p:nvPr/>
          </p:nvSpPr>
          <p:spPr>
            <a:xfrm>
              <a:off x="4238640" y="2971800"/>
              <a:ext cx="2884320" cy="7142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fafd00"/>
              </a:solidFill>
              <a:miter/>
            </a:ln>
            <a:effectLst>
              <a:outerShdw dist="17819" dir="2700000" blurRad="0" rotWithShape="0">
                <a:srgbClr val="959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90840" y="3043080"/>
              <a:ext cx="136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CREENCIAS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DÉBIL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92840" y="3043080"/>
              <a:ext cx="1136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AFECTOS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DÉBIL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3240" y="3120840"/>
              <a:ext cx="3322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22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38640" y="4772160"/>
            <a:ext cx="2884320" cy="714240"/>
            <a:chOff x="4238640" y="4772160"/>
            <a:chExt cx="2884320" cy="714240"/>
          </a:xfrm>
        </p:grpSpPr>
        <p:sp>
          <p:nvSpPr>
            <p:cNvPr id="114" name=""/>
            <p:cNvSpPr/>
            <p:nvPr/>
          </p:nvSpPr>
          <p:spPr>
            <a:xfrm>
              <a:off x="4238640" y="4772160"/>
              <a:ext cx="2884320" cy="714240"/>
            </a:xfrm>
            <a:prstGeom prst="rect">
              <a:avLst/>
            </a:prstGeom>
            <a:solidFill>
              <a:srgbClr val="cbcbcb"/>
            </a:solidFill>
            <a:ln w="25560">
              <a:solidFill>
                <a:srgbClr val="fafd00"/>
              </a:solidFill>
              <a:miter/>
            </a:ln>
            <a:effectLst>
              <a:outerShdw dist="17819" dir="2700000" blurRad="0" rotWithShape="0">
                <a:srgbClr val="9597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90840" y="4844880"/>
              <a:ext cx="136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CREENCIAS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FUERT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92840" y="4844880"/>
              <a:ext cx="1136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AFECTOS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3333ff"/>
                  </a:solidFill>
                  <a:latin typeface="Arial"/>
                </a:rPr>
                <a:t>FUERT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3240" y="4921200"/>
              <a:ext cx="3322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es-ES_tradnl" sz="2200" spc="-1" strike="noStrike">
                  <a:solidFill>
                    <a:srgbClr val="3333ff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32320" y="3328920"/>
            <a:ext cx="48564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2320" y="5130720"/>
            <a:ext cx="48564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73800" y="5130720"/>
            <a:ext cx="20808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3800" y="3328920"/>
            <a:ext cx="20808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267080"/>
            <a:ext cx="732960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7000" y="4254480"/>
            <a:ext cx="0" cy="469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29600" y="3580920"/>
            <a:ext cx="0" cy="68580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9480" y="5943600"/>
            <a:ext cx="50994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INFORMATION RESPONSE MODEL: ONE INTEGRATED APPROA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R.E. SMITH &amp; W.R. SWINY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JOURNAL OF MARKETING, WINTER 198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638160" y="1869840"/>
            <a:ext cx="5124600" cy="42490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cienc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ocimi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fec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eferenc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vicció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mpr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atisfacción con el produc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ra repet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ealtad a la mar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95080" y="2090880"/>
            <a:ext cx="1745280" cy="1793880"/>
            <a:chOff x="1495080" y="2090880"/>
            <a:chExt cx="1745280" cy="1793880"/>
          </a:xfrm>
        </p:grpSpPr>
        <p:sp>
          <p:nvSpPr>
            <p:cNvPr id="128" name=""/>
            <p:cNvSpPr/>
            <p:nvPr/>
          </p:nvSpPr>
          <p:spPr>
            <a:xfrm>
              <a:off x="2425680" y="2090880"/>
              <a:ext cx="0" cy="1793880"/>
            </a:xfrm>
            <a:prstGeom prst="line">
              <a:avLst/>
            </a:prstGeom>
            <a:ln w="12708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040" bIns="50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5080" y="2314440"/>
              <a:ext cx="17452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040" bIns="500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ublicida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26920" y="4495680"/>
            <a:ext cx="3135600" cy="0"/>
          </a:xfrm>
          <a:prstGeom prst="line">
            <a:avLst/>
          </a:prstGeom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040" bIns="-50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76160" y="4630680"/>
            <a:ext cx="1518120" cy="1465200"/>
            <a:chOff x="1676160" y="4630680"/>
            <a:chExt cx="1518120" cy="1465200"/>
          </a:xfrm>
        </p:grpSpPr>
        <p:sp>
          <p:nvSpPr>
            <p:cNvPr id="132" name=""/>
            <p:cNvSpPr/>
            <p:nvPr/>
          </p:nvSpPr>
          <p:spPr>
            <a:xfrm>
              <a:off x="2425680" y="4630680"/>
              <a:ext cx="0" cy="1465200"/>
            </a:xfrm>
            <a:prstGeom prst="line">
              <a:avLst/>
            </a:prstGeom>
            <a:ln w="12708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6160" y="4813200"/>
              <a:ext cx="1518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JERARQUÍA DE EFECT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638160" y="1869840"/>
            <a:ext cx="5124600" cy="42490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cienc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ocimi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fec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eferenc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nvicció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618ffd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Compr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atisfacción con el produc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ra repet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80000"/>
              <a:buFont typeface="Wingdings 3" charset="2"/>
              <a:buChar char="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ealtad a la mar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25680" y="2090880"/>
            <a:ext cx="0" cy="1793880"/>
          </a:xfrm>
          <a:prstGeom prst="line">
            <a:avLst/>
          </a:prstGeom>
          <a:ln w="127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5080" y="2314440"/>
            <a:ext cx="17452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blicid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4495680"/>
            <a:ext cx="3135600" cy="0"/>
          </a:xfrm>
          <a:prstGeom prst="line">
            <a:avLst/>
          </a:prstGeom>
          <a:ln w="507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040" bIns="-50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76160" y="4630680"/>
            <a:ext cx="1518120" cy="1465200"/>
            <a:chOff x="1676160" y="4630680"/>
            <a:chExt cx="1518120" cy="1465200"/>
          </a:xfrm>
        </p:grpSpPr>
        <p:sp>
          <p:nvSpPr>
            <p:cNvPr id="140" name=""/>
            <p:cNvSpPr/>
            <p:nvPr/>
          </p:nvSpPr>
          <p:spPr>
            <a:xfrm>
              <a:off x="2425680" y="4630680"/>
              <a:ext cx="0" cy="1465200"/>
            </a:xfrm>
            <a:prstGeom prst="line">
              <a:avLst/>
            </a:prstGeom>
            <a:ln w="12708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160" y="4813200"/>
              <a:ext cx="1518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JERARQUÍA DE EFECT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676520"/>
            <a:ext cx="5486400" cy="464796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Exam</a:t>
            </a:r>
            <a:r>
              <a:rPr b="1" lang="es-MX" sz="4000" spc="-1" strike="noStrike">
                <a:solidFill>
                  <a:srgbClr val="000066"/>
                </a:solidFill>
                <a:latin typeface="Arial"/>
              </a:rPr>
              <a:t>í</a:t>
            </a: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nense como consumidores: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¿Conocen Coca-Cola y Nescafé?</a:t>
            </a:r>
            <a:br>
              <a:rPr sz="3200"/>
            </a:b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¿Han probado Coca Cola y Nescafé?</a:t>
            </a:r>
            <a:br>
              <a:rPr sz="3200"/>
            </a:b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¿Han comprado ambos en el último mes?</a:t>
            </a:r>
            <a:br>
              <a:rPr sz="3200"/>
            </a:b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¿Por qué estas empresas invierten millones en su publicidad?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3800" y="2209680"/>
            <a:ext cx="2373120" cy="1957680"/>
            <a:chOff x="73800" y="2209680"/>
            <a:chExt cx="2373120" cy="1957680"/>
          </a:xfrm>
        </p:grpSpPr>
        <p:sp>
          <p:nvSpPr>
            <p:cNvPr id="147" name=""/>
            <p:cNvSpPr/>
            <p:nvPr/>
          </p:nvSpPr>
          <p:spPr>
            <a:xfrm>
              <a:off x="73800" y="220968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Comunicación</a:t>
              </a:r>
              <a:br>
                <a:rPr sz="2400"/>
              </a:b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de refuerz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782800">
              <a:off x="1260360" y="3238200"/>
              <a:ext cx="1143000" cy="609840"/>
            </a:xfrm>
            <a:prstGeom prst="rightArrow">
              <a:avLst>
                <a:gd name="adj1" fmla="val 50000"/>
                <a:gd name="adj2" fmla="val 46857"/>
              </a:avLst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60360" y="2225520"/>
            <a:ext cx="2334240" cy="2014560"/>
            <a:chOff x="6660360" y="2225520"/>
            <a:chExt cx="2334240" cy="2014560"/>
          </a:xfrm>
        </p:grpSpPr>
        <p:sp>
          <p:nvSpPr>
            <p:cNvPr id="150" name=""/>
            <p:cNvSpPr/>
            <p:nvPr/>
          </p:nvSpPr>
          <p:spPr>
            <a:xfrm>
              <a:off x="6660360" y="222552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Comunicació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de refuerz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8080800">
              <a:off x="6984360" y="3314520"/>
              <a:ext cx="1143000" cy="609480"/>
            </a:xfrm>
            <a:prstGeom prst="rightArrow">
              <a:avLst>
                <a:gd name="adj1" fmla="val 50000"/>
                <a:gd name="adj2" fmla="val 46884"/>
              </a:avLst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6080" y="152280"/>
            <a:ext cx="36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18ffd"/>
                </a:solidFill>
                <a:latin typeface="Tahoma"/>
                <a:ea typeface="Tahoma (Hebrew)"/>
              </a:rPr>
              <a:t>TOMANDO TOD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18ffd"/>
                </a:solidFill>
                <a:latin typeface="Tahoma"/>
                <a:ea typeface="Tahoma (Hebrew)"/>
              </a:rPr>
              <a:t>EN CUENTA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64720" y="15840"/>
            <a:ext cx="2334240" cy="2013840"/>
            <a:chOff x="5364720" y="15840"/>
            <a:chExt cx="2334240" cy="2013840"/>
          </a:xfrm>
        </p:grpSpPr>
        <p:sp>
          <p:nvSpPr>
            <p:cNvPr id="154" name=""/>
            <p:cNvSpPr/>
            <p:nvPr/>
          </p:nvSpPr>
          <p:spPr>
            <a:xfrm>
              <a:off x="5364720" y="1584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Comunicació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iniciador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080800">
              <a:off x="5689080" y="1104120"/>
              <a:ext cx="1142640" cy="609480"/>
            </a:xfrm>
            <a:prstGeom prst="rightArrow">
              <a:avLst>
                <a:gd name="adj1" fmla="val 50000"/>
                <a:gd name="adj2" fmla="val 46869"/>
              </a:avLst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98560" y="1143000"/>
            <a:ext cx="6606000" cy="5411520"/>
            <a:chOff x="898560" y="1143000"/>
            <a:chExt cx="6606000" cy="5411520"/>
          </a:xfrm>
        </p:grpSpPr>
        <p:sp>
          <p:nvSpPr>
            <p:cNvPr id="157" name=""/>
            <p:cNvSpPr/>
            <p:nvPr/>
          </p:nvSpPr>
          <p:spPr>
            <a:xfrm>
              <a:off x="2286000" y="3886200"/>
              <a:ext cx="4572000" cy="16765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8560" y="3900600"/>
              <a:ext cx="32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Comportamiento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28120" y="1143000"/>
              <a:ext cx="26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Conocimiento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8520" y="1949400"/>
              <a:ext cx="146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Interé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6080" y="275760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Prueb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4920" y="4876920"/>
              <a:ext cx="190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Creencia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1600200"/>
              <a:ext cx="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276720"/>
              <a:ext cx="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5638680"/>
              <a:ext cx="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83960" y="6033960"/>
              <a:ext cx="15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Lealtad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191120" y="3734640"/>
              <a:ext cx="228600" cy="303840"/>
              <a:chOff x="4191120" y="3734640"/>
              <a:chExt cx="228600" cy="3038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4191120" y="3886560"/>
                <a:ext cx="228600" cy="1519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91120" y="3734640"/>
                <a:ext cx="228600" cy="152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705720" y="4572000"/>
              <a:ext cx="303840" cy="228600"/>
              <a:chOff x="6705720" y="4572000"/>
              <a:chExt cx="303840" cy="228600"/>
            </a:xfrm>
          </p:grpSpPr>
          <p:sp>
            <p:nvSpPr>
              <p:cNvPr id="172" name=""/>
              <p:cNvSpPr/>
              <p:nvPr/>
            </p:nvSpPr>
            <p:spPr>
              <a:xfrm>
                <a:off x="6705720" y="4572000"/>
                <a:ext cx="15192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6857280" y="4572000"/>
                <a:ext cx="15228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723920" y="5410080"/>
              <a:ext cx="228600" cy="304920"/>
              <a:chOff x="4723920" y="5410080"/>
              <a:chExt cx="228600" cy="304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4723920" y="5410080"/>
                <a:ext cx="228600" cy="1522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4723920" y="5562360"/>
                <a:ext cx="228600" cy="1526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134440" y="4647960"/>
              <a:ext cx="303840" cy="228600"/>
              <a:chOff x="2134440" y="4647960"/>
              <a:chExt cx="303840" cy="228600"/>
            </a:xfrm>
          </p:grpSpPr>
          <p:sp>
            <p:nvSpPr>
              <p:cNvPr id="178" name=""/>
              <p:cNvSpPr/>
              <p:nvPr/>
            </p:nvSpPr>
            <p:spPr>
              <a:xfrm flipH="1" flipV="1">
                <a:off x="2286360" y="4647960"/>
                <a:ext cx="15192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134440" y="4647960"/>
                <a:ext cx="15228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635080" y="3900600"/>
              <a:ext cx="186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66"/>
                  </a:solidFill>
                  <a:latin typeface="Tahoma"/>
                  <a:ea typeface="Tahoma (Hebrew)"/>
                </a:rPr>
                <a:t>Actitude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54280" y="4995360"/>
            <a:ext cx="2565360" cy="1865520"/>
            <a:chOff x="5354280" y="4995360"/>
            <a:chExt cx="2565360" cy="1865520"/>
          </a:xfrm>
        </p:grpSpPr>
        <p:sp>
          <p:nvSpPr>
            <p:cNvPr id="182" name=""/>
            <p:cNvSpPr/>
            <p:nvPr/>
          </p:nvSpPr>
          <p:spPr>
            <a:xfrm rot="13352400">
              <a:off x="5409720" y="5301360"/>
              <a:ext cx="1143000" cy="609480"/>
            </a:xfrm>
            <a:prstGeom prst="rightArrow">
              <a:avLst>
                <a:gd name="adj1" fmla="val 50000"/>
                <a:gd name="adj2" fmla="val 46884"/>
              </a:avLst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85400" y="603540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Comunicació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Tahoma"/>
                  <a:ea typeface="Tahoma (Hebrew)"/>
                </a:rPr>
                <a:t>de refuerzo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7 Modelos “Expertos” de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spuestas a la publicidad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 RESPUESTA DE VENT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 PERSUASIÓ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l SIMBOLISM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 las EMOCION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l AGR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 RELACIÓN / INVOLUCRAMI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Modelo de CONCIENCIA / SAL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- Modelo de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SPUESTA DE VENTA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La publicidad busca generar un impulso directo hacia la compra, generalmente utilizando una oferta específ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Pueden buscarse efectos intermedios (ej: pedir folleto) que conducen hacia la comp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No se busca la generación de respuestas de mediano ni largo plaz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A veces se acepta un cierto nivel de desagrado frente a la comunicación como un efecto secundario inevitab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- Modelo de PERSUASIÓ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Trata de convencer al consumidor que la marca posee atributos o beneficios relevantes que lo diferencian de la compete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Se busca generar prueba o conductas intermedias hacia ella y que la marca se incluya en el set consider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La generación o refuerzo de awareness es indispensab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.- Modelo del SIMBOLISM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 objetivo de la comunicación es el desarrollar significados humanos de la marca los que serán usados como referentes por sus consumido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 marca pasa a ser un “emblema” para los consumidores por los significados que para ellos tiene y lo que dice de ell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 producto en si no tiene mucha releva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ele recurrirse a referentes válidos para el grupo objet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66"/>
                </a:solidFill>
                <a:latin typeface="Arial"/>
              </a:rPr>
              <a:t>¿</a:t>
            </a:r>
            <a:r>
              <a:rPr b="1" lang="es-MX" sz="4400" spc="-1" strike="noStrike">
                <a:solidFill>
                  <a:srgbClr val="000066"/>
                </a:solidFill>
                <a:latin typeface="Arial"/>
              </a:rPr>
              <a:t>Cómo funciona la publicidad</a:t>
            </a:r>
            <a:r>
              <a:rPr b="1" lang="es-CL" sz="4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.- Modelo de las EMOCION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propósito de este modelo es principalmente desarrollar asociaciones entre la marca y ciertas emociones en particul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La publicidad está orientada a gatillar las emociones objetivo durante su procesamiento de manera de que sean asociadas a futuro con el consumo de la mar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.- Modelo del AGRAD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sca desarrollar una positiva actitud hacia la marca por medio del agrado hacia la comunicación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 busca generarla no por medio de los atributos o propiedades del producto en si sino de la apreciación y características de la publicidad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.- Modelo de</a:t>
            </a:r>
            <a:br>
              <a:rPr sz="3600"/>
            </a:b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RELACIÓN / INVOLUCRAMIENT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 este modelo se busca desarrollar y reforzar la relación del usuario con la marc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r lo tanto el énfasis está dado en lograr un amarre con los valores personales, preocupaciones e intereses del usua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s más importante lo que la marca “es”, en el sentido de su personalidad humana, que lo que “hace”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.- Modelo de CONCIENCIA / SALIDA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ste modelo busca generar un mayor nivel de Conciencia de la marca aumentando así el TOM (Top of Mind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s importante lograr reconocimiento de la marca y la categoría a la que pertenec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Se basa en los estudios que han relacionado TOM con Market Shar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Su énfasis está en marcas nuev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ell" descr=""/>
          <p:cNvPicPr/>
          <p:nvPr/>
        </p:nvPicPr>
        <p:blipFill>
          <a:blip r:embed="rId1"/>
          <a:stretch/>
        </p:blipFill>
        <p:spPr>
          <a:xfrm>
            <a:off x="811080" y="1523880"/>
            <a:ext cx="6809040" cy="440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cc0000"/>
                </a:solidFill>
                <a:latin typeface="Arial"/>
              </a:rPr>
              <a:t>What Is the Point of Advertising?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60" y="6172200"/>
            <a:ext cx="29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The End of Advertising as we know it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Sergio Zyma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cc0000"/>
                </a:solidFill>
                <a:latin typeface="Arial"/>
              </a:rPr>
              <a:t>Marketers Have</a:t>
            </a:r>
            <a:br>
              <a:rPr sz="3800"/>
            </a:br>
            <a:r>
              <a:rPr b="1" lang="es-CL" sz="3800" spc="-1" strike="noStrike">
                <a:solidFill>
                  <a:srgbClr val="cc0000"/>
                </a:solidFill>
                <a:latin typeface="Arial"/>
              </a:rPr>
              <a:t>Lost Focus On</a:t>
            </a:r>
            <a:r>
              <a:rPr b="1" lang="es-MX" sz="3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3800" spc="-1" strike="noStrike">
                <a:solidFill>
                  <a:srgbClr val="cc0000"/>
                </a:solidFill>
                <a:latin typeface="Arial"/>
              </a:rPr>
              <a:t>Selling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466640"/>
            <a:ext cx="883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The biggest problem facing marketing today is that marketers aren’t focused on selling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cc0000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Marketers want consumers to like their products, but forget to make consumers buy their products</a:t>
            </a:r>
            <a:br>
              <a:rPr sz="2400"/>
            </a:b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When people </a:t>
            </a:r>
            <a:r>
              <a:rPr b="1" lang="es-CL" sz="2800" spc="-1" strike="noStrike" u="sng">
                <a:solidFill>
                  <a:srgbClr val="cc0000"/>
                </a:solidFill>
                <a:uFillTx/>
                <a:latin typeface="Arial"/>
              </a:rPr>
              <a:t>love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your brand and </a:t>
            </a:r>
            <a:r>
              <a:rPr b="1" lang="es-CL" sz="2800" spc="-1" strike="noStrike" u="sng">
                <a:solidFill>
                  <a:srgbClr val="cc0000"/>
                </a:solidFill>
                <a:uFillTx/>
                <a:latin typeface="Arial"/>
              </a:rPr>
              <a:t>buy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your </a:t>
            </a:r>
            <a:r>
              <a:rPr b="1" lang="es-CL" sz="2800" spc="-1" strike="noStrike" u="sng">
                <a:solidFill>
                  <a:srgbClr val="cc0000"/>
                </a:solidFill>
                <a:uFillTx/>
                <a:latin typeface="Arial"/>
              </a:rPr>
              <a:t>brand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, but </a:t>
            </a:r>
            <a:r>
              <a:rPr b="1" lang="es-CL" sz="2800" spc="-1" strike="noStrike" u="sng">
                <a:solidFill>
                  <a:srgbClr val="cc0000"/>
                </a:solidFill>
                <a:uFillTx/>
                <a:latin typeface="Arial"/>
              </a:rPr>
              <a:t>don’t buy your products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, you have</a:t>
            </a: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virtual consump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760" y="6172200"/>
            <a:ext cx="29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The End of Advertising as we know it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Sergio Zyma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errariDude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4500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cc0000"/>
                </a:solidFill>
                <a:latin typeface="Arial"/>
                <a:ea typeface="Arial"/>
              </a:rPr>
              <a:t>What Is Virtual Consumption?</a:t>
            </a:r>
            <a:endParaRPr b="1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60" y="6172200"/>
            <a:ext cx="29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The End of Advertising as we know it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66"/>
                </a:solidFill>
                <a:latin typeface="Arial"/>
                <a:ea typeface="Tahoma (Hebrew)"/>
              </a:rPr>
              <a:t>Sergio Zyma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ODELOS DE COMUNICACIÓ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E MARKETING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19280"/>
            <a:ext cx="43434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IDA (1898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ENCIÓ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É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E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IÓ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692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CH (1940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 VIS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 LEÍD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 CREÍD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 RECORDAD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 COMPRAD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809880"/>
            <a:ext cx="4419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GMAR (196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I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ENS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809880"/>
            <a:ext cx="3962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8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ERARQUÍA 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FECTOS (196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I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EC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buClr>
                <a:srgbClr val="000066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TEORÍA DE COMUNICACIONES</a:t>
            </a:r>
            <a:br>
              <a:rPr sz="3300"/>
            </a:b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DE MARKETING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9640" y="2492280"/>
            <a:ext cx="2847960" cy="1089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Cognitiv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(Aprend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492280"/>
            <a:ext cx="3276360" cy="479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Eurostile"/>
              </a:rPr>
              <a:t>Concienci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5600" y="1676520"/>
            <a:ext cx="14508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Eurostile"/>
              </a:rPr>
              <a:t>ETAP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1600200"/>
            <a:ext cx="4276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Eurostile"/>
              </a:rPr>
              <a:t>MODELO JERARQUÍ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Eurostile"/>
              </a:rPr>
              <a:t>DE EFECTOS (196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3962520"/>
            <a:ext cx="2847960" cy="1089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Afectiv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(Senti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9640" y="5464080"/>
            <a:ext cx="2847960" cy="10890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Conductu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Eurostile"/>
              </a:rPr>
              <a:t>(Hac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102120"/>
            <a:ext cx="3276360" cy="4791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Eurostile"/>
              </a:rPr>
              <a:t>Conocimien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48320" y="3711600"/>
            <a:ext cx="3276360" cy="1698480"/>
            <a:chOff x="4648320" y="3711600"/>
            <a:chExt cx="3276360" cy="1698480"/>
          </a:xfrm>
        </p:grpSpPr>
        <p:sp>
          <p:nvSpPr>
            <p:cNvPr id="71" name=""/>
            <p:cNvSpPr/>
            <p:nvPr/>
          </p:nvSpPr>
          <p:spPr>
            <a:xfrm>
              <a:off x="4648320" y="3711600"/>
              <a:ext cx="3276360" cy="479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Eurostile"/>
                </a:rPr>
                <a:t>Afecto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4321080"/>
              <a:ext cx="3276360" cy="479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Eurostile"/>
                </a:rPr>
                <a:t>Preferenci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8320" y="4930920"/>
              <a:ext cx="3276360" cy="4791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316160"/>
                  <a:tab algn="l" pos="2631960"/>
                  <a:tab algn="l" pos="3948120"/>
                  <a:tab algn="l" pos="5264280"/>
                  <a:tab algn="l" pos="6580080"/>
                  <a:tab algn="l" pos="7896240"/>
                  <a:tab algn="l" pos="9212400"/>
                  <a:tab algn="l" pos="105282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Eurostile"/>
                </a:rPr>
                <a:t>Convicción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648320" y="5769000"/>
            <a:ext cx="3276360" cy="4795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Eurostile"/>
              </a:rPr>
              <a:t>Compr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IMPLICANCIAS DEL MODELO DE JERARQUÍA DE EFECTOS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5400" y="1623960"/>
          <a:ext cx="883764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23960"/>
                    <a:ext cx="883764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300" spc="-1" strike="noStrike">
                <a:solidFill>
                  <a:srgbClr val="000066"/>
                </a:solidFill>
                <a:latin typeface="Arial"/>
              </a:rPr>
              <a:t>IMPLICANCIAS DEL MODELO DE JERARQUÍA DE EFECTOS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5400" y="1623960"/>
          <a:ext cx="883764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23960"/>
                    <a:ext cx="883764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3:52:57Z</dcterms:created>
  <dc:creator>Cristián Lehuedé</dc:creator>
  <dc:description/>
  <dc:language>en-US</dc:language>
  <cp:lastModifiedBy>BBDO Publicidad</cp:lastModifiedBy>
  <dcterms:modified xsi:type="dcterms:W3CDTF">2005-06-01T01:24:43Z</dcterms:modified>
  <cp:revision>28</cp:revision>
  <dc:subject/>
  <dc:title>COMUNICACIONES INTEGRADAS DE MARKETING</dc:title>
</cp:coreProperties>
</file>