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17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11.xlsx" ContentType="application/vnd.openxmlformats-officedocument.spreadsheetml.sheet"/>
  <Override PartName="/ppt/embeddings/oleObject4.xlsx" ContentType="application/vnd.openxmlformats-officedocument.spreadsheetml.sheet"/>
  <Override PartName="/ppt/embeddings/oleObject10.xlsx" ContentType="application/vnd.openxmlformats-officedocument.spreadsheetml.sheet"/>
  <Override PartName="/ppt/embeddings/oleObject3.xlsx" ContentType="application/vnd.openxmlformats-officedocument.spreadsheetml.sheet"/>
  <Override PartName="/ppt/embeddings/oleObject22.xlsx" ContentType="application/vnd.openxmlformats-officedocument.spreadsheetml.sheet"/>
  <Override PartName="/ppt/embeddings/oleObject21.xlsx" ContentType="application/vnd.openxmlformats-officedocument.spreadsheetml.shee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7.xlsx" ContentType="application/vnd.openxmlformats-officedocument.spreadsheetml.sheet"/>
  <Override PartName="/ppt/embeddings/oleObject20.xlsx" ContentType="application/vnd.openxmlformats-officedocument.spreadsheetml.sheet"/>
  <Override PartName="/ppt/embeddings/oleObject18.xlsx" ContentType="application/vnd.openxmlformats-officedocument.spreadsheetml.sheet"/>
  <Override PartName="/ppt/embeddings/oleObject14.xlsx" ContentType="application/vnd.openxmlformats-officedocument.spreadsheetml.sheet"/>
  <Override PartName="/ppt/embeddings/oleObject8.xlsx" ContentType="application/vnd.openxmlformats-officedocument.spreadsheetml.sheet"/>
  <Override PartName="/ppt/embeddings/oleObject19.xlsx" ContentType="application/vnd.openxmlformats-officedocument.spreadsheetml.sheet"/>
  <Override PartName="/ppt/embeddings/oleObject15.xlsx" ContentType="application/vnd.openxmlformats-officedocument.spreadsheetml.sheet"/>
  <Override PartName="/ppt/embeddings/oleObject16.xlsx" ContentType="application/vnd.openxmlformats-officedocument.spreadsheetml.sheet"/>
  <Override PartName="/ppt/embeddings/oleObject9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40F-B85B-437E-BBDB-3B24A572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965-4AB3-429B-870B-0704D392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284-EEE7-4FFC-A939-D18C5163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949-6A4A-477B-8ADB-4913F336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F13-4AD1-4FA2-A182-9E864597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439-54E2-455F-B8CE-CD058604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FFD-C7EB-4EC3-B6BF-66A8005D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C27-471F-44F0-AEAB-8A429274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C43-DB1E-43D4-8EB0-7D6660A5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BBA-C80D-43F3-8120-70DB05B8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687-CAE8-44BF-B8C0-AB726567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00F-9257-4383-80B6-C0253B3F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7806-58FE-4433-97DC-32A059B38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5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6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27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28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9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30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31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32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33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34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35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36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37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38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39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40.wmf"/><Relationship Id="rId4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Activos Individ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El Set Eficiente  de 2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Pedir y Prestar a la Tasa Libre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Equilibr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Relación entre Riesgo y Retorno Esperado (CAP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809880" y="3505320"/>
            <a:ext cx="9907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3657600"/>
            <a:ext cx="6858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828800" y="4495680"/>
                <a:ext cx="63374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733920" y="3809880"/>
            <a:ext cx="99036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14800" y="419076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449520" y="4726080"/>
                <a:ext cx="3097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0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80640" y="380880"/>
            <a:ext cx="81630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4495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que las acciones tienen un retorno esperado más alto que los bonos y un riesgo mayor. Veamos ahora el tradeoff de riesgo-retorno para un porfolio que es 50% invertido en bonos y 50% invertido en a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43000" y="4114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del porfolio es un promedio ponderado de los retornos de las acciones y bonos en el porfoli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17800" y="5043600"/>
                <a:ext cx="2297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5943600" y="1905120"/>
            <a:ext cx="6858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65440" y="5715000"/>
                <a:ext cx="46497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219320" y="41148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209680"/>
            <a:ext cx="7621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638440" y="5791320"/>
                <a:ext cx="470520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817800" y="5043600"/>
                <a:ext cx="2297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143000" y="41148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del porfolio es un promedio ponderado de los retornos de las acciones y bonos en el porfol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2514600"/>
            <a:ext cx="7621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452680" y="5867280"/>
                <a:ext cx="5076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817800" y="5043600"/>
                <a:ext cx="22971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143000" y="4114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del porfolio es un promedio ponderado de los retornos de las acciones y bonos en el porfoli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219320" y="41148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sa de retor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porfolio es un promedio ponderado de los retorno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d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os activos en el porfol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048120"/>
            <a:ext cx="7621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63720" y="5943600"/>
                <a:ext cx="44532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252960" y="5194440"/>
                <a:ext cx="34765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219320" y="41148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rianza de la tasa de retorno del porfolio de dos activos riesgosos e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276720"/>
            <a:ext cx="9144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28960" y="4984920"/>
                <a:ext cx="59245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143000" y="5578560"/>
            <a:ext cx="739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oeficiente de correlación entre los retornos de los fondos accionarios y de bo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219320" y="1371600"/>
          <a:ext cx="75200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520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447920" y="4343400"/>
            <a:ext cx="7010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 la disminución en riesgo que ofrece la divers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porfolio igualmente ponderado (50% en acciones y 50% en bonos) tiene menos riesgo que mantener acciones o bonos solam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0640" y="3790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l Retorno y Riesgo de Porf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24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295280"/>
          <a:ext cx="4343400" cy="33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295280"/>
                    <a:ext cx="43434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990720" y="1447920"/>
          <a:ext cx="3276360" cy="5105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447920"/>
                    <a:ext cx="32763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4896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El Set Eficiente de D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20040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2362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274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91040" y="4924440"/>
            <a:ext cx="384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mos considerar porfolios con otras ponderaciones además de 50% en acciones y 50% en bono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40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os Individu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racterísticas de activos individuales que son de interé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za y Desviación Están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arianza y Cor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24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0" y="1290600"/>
          <a:ext cx="4343400" cy="33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0600"/>
                    <a:ext cx="43434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991040" y="4924440"/>
            <a:ext cx="384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mos considerar porfolios con otras ponderaciones además de 50% en acciones y 50% en bono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20040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24680" y="2362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934320" y="32004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705720" y="32004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477120" y="3124080"/>
            <a:ext cx="15228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6248520" y="304812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019920" y="304812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5791320" y="29718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5562720" y="29718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5410080" y="28954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486400" y="281952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715000" y="2743200"/>
            <a:ext cx="15228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867280" y="27432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095880" y="26668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6668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553080" y="259092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6781680" y="25146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7010280" y="25146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7238880" y="24382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7467480" y="236232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696080" y="236232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7924680" y="2286000"/>
            <a:ext cx="152640" cy="15228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El Set Eficiente de D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2408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0" y="1295280"/>
          <a:ext cx="4343400" cy="33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95280"/>
                    <a:ext cx="43434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143000" y="1523880"/>
          <a:ext cx="3276720" cy="510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276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8153280" y="22096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200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24680" y="23623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3152880"/>
            <a:ext cx="76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46483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que algunos porfolios son “mejores” que otros. Ellos tienen retornos más altos para el mismo o menor nivel de riesgo. Ellos componen 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ntera efic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868600">
            <a:off x="5257800" y="2361960"/>
            <a:ext cx="3273480" cy="392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El Set Eficiente de D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folios de Dos Activos con Varias Correla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85480" y="2271240"/>
            <a:ext cx="5028840" cy="227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6577515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65775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4038480"/>
            <a:ext cx="110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4267080" y="2971800"/>
            <a:ext cx="914400" cy="990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809880" y="1981080"/>
            <a:ext cx="2133720" cy="23623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5410080" y="2666520"/>
            <a:ext cx="609840" cy="68580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971440" y="2209680"/>
            <a:ext cx="2971800" cy="7621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971440" y="2971800"/>
            <a:ext cx="1219320" cy="9907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7180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= -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96600" y="686880"/>
            <a:ext cx="7761240" cy="93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sgo/Retorno de Porfolios de Dos Activos: Efectos de la Corr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06360"/>
            <a:ext cx="7772400" cy="39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elación depende del coeficiente de corre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.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nor la correlación, mayor es el potencial de reducción de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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+1.0, no hay reducción de riesgo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95280" y="1447920"/>
            <a:ext cx="693432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49200"/>
            <a:ext cx="830592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esgo de un Porfolio como una Función del Número de Acciones en el Por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00200" y="15235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00200" y="54864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00200" y="42670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0797000">
            <a:off x="1599480" y="-230760"/>
            <a:ext cx="97520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62" y="33"/>
                </a:moveTo>
                <a:arcTo wR="10800" hR="10800" stAng="-5666931" swAng="5666931"/>
                <a:lnTo>
                  <a:pt x="10800" y="10800"/>
                </a:lnTo>
                <a:close/>
              </a:path>
              <a:path fill="none" w="21600" h="21600">
                <a:moveTo>
                  <a:pt x="9962" y="33"/>
                </a:moveTo>
                <a:arcTo wR="10800" hR="10800" stAng="-5666931" swAng="5666931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0" y="4267080"/>
            <a:ext cx="0" cy="1219320"/>
          </a:xfrm>
          <a:prstGeom prst="line">
            <a:avLst/>
          </a:prstGeom>
          <a:ln w="381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43400" y="42670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Riesgo No Diversificable; Riesgo Sistemático;   Riesg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57400" y="2971800"/>
            <a:ext cx="0" cy="1295280"/>
          </a:xfrm>
          <a:prstGeom prst="line">
            <a:avLst/>
          </a:prstGeom>
          <a:ln w="38160">
            <a:solidFill>
              <a:srgbClr val="0066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24382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Riesgo Diversificable; Riesgo Nosistemático; Riesgo Específico a la Firma; Riesgo U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2590920"/>
            <a:ext cx="571320" cy="1371600"/>
          </a:xfrm>
          <a:custGeom>
            <a:avLst/>
            <a:gdLst>
              <a:gd name="textAreaLeft" fmla="*/ 365040 w 571320"/>
              <a:gd name="textAreaRight" fmla="*/ 571680 w 571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133360" y="327672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48520" y="5410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1295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un gran porfolio los términos de varianza son diversificados efectivamente, pero no los términos de covarianz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571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lo tanto la diversificación puede eliminar algo, pero no todo el riesgo de activos individ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3809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esgo del Por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2160" y="457200"/>
            <a:ext cx="815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503028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e un mundo con muchos activos riesgosos; todavía podemos identificar e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de oportunida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combinaciones de riesgo-retorno de varios porfol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81480" y="3657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ctivo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268280" y="5555880"/>
            <a:ext cx="77724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o 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de oportunida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demos identificar 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rfolio de mínima varian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743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folio de mínima vari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657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ctivo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992160" y="455400"/>
            <a:ext cx="8151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518004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ección del set de oportunidades sobre el porfolio de mínima varianza es la frontera efic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0213400">
            <a:off x="358128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36576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imes New Roman"/>
              </a:rPr>
              <a:t>Activos Individ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2743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folio de mínima varia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992160" y="455400"/>
            <a:ext cx="8151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El Set Eficiente de Much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folio Riesgoso Óptimo con un Activo Libre de Ries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8280" y="5403960"/>
            <a:ext cx="7772400" cy="11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más de acciones y bonos, considere un mundo que también tiene activos libres de riesgo como T-bills (certificados de tesorerí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885480" y="2271600"/>
            <a:ext cx="5028840" cy="227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29" y="8887"/>
                </a:moveTo>
                <a:arcTo wR="10800" hR="10800" stAng="-612303" swAng="3564443"/>
                <a:lnTo>
                  <a:pt x="10800" y="10800"/>
                </a:lnTo>
                <a:close/>
              </a:path>
              <a:path fill="none" w="21600" h="21600">
                <a:moveTo>
                  <a:pt x="21429" y="8887"/>
                </a:moveTo>
                <a:arcTo wR="10800" hR="10800" stAng="-612303" swAng="3564443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884040" y="2270160"/>
            <a:ext cx="5028840" cy="227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3" y="11176"/>
                </a:moveTo>
                <a:arcTo wR="10800" hR="10800" stAng="119636" swAng="2832504"/>
                <a:lnTo>
                  <a:pt x="10800" y="10800"/>
                </a:lnTo>
                <a:close/>
              </a:path>
              <a:path fill="none" w="21600" h="21600">
                <a:moveTo>
                  <a:pt x="21593" y="11176"/>
                </a:moveTo>
                <a:arcTo wR="10800" hR="10800" stAng="119636" swAng="2832504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563400"/>
            <a:ext cx="83059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Prestar y Pedir Prestado sin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51562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hora los inversionistas pueden asignar su dinero entre los T-bills y un fondo balanc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885480" y="227088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49" y="9757"/>
                </a:moveTo>
                <a:arcTo wR="10800" hR="10800" stAng="-332639" swAng="3284779"/>
                <a:lnTo>
                  <a:pt x="10800" y="10800"/>
                </a:lnTo>
                <a:close/>
              </a:path>
              <a:path fill="none" w="21600" h="21600">
                <a:moveTo>
                  <a:pt x="21549" y="9757"/>
                </a:moveTo>
                <a:arcTo wR="10800" hR="10800" stAng="-332639" swAng="3284779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2743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ondo Balanc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8039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e los siguientes dos activos riesgosos. Hay una prob. de 1/3 para cada estado de la economía y los únicos activos son un fondo accionario y un fondo de bo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19051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1727280"/>
          <a:ext cx="7848360" cy="185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27280"/>
                    <a:ext cx="7848360" cy="18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789120" y="5035320"/>
            <a:ext cx="737208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un activo libre de riesgo disponible y la frontera eficiente identificada, podemos elegir la línea de asignación de capital con la pendiente más pronunci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9568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971800" y="3123720"/>
            <a:ext cx="281952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971800" y="2895480"/>
            <a:ext cx="281952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971800" y="2666520"/>
            <a:ext cx="281952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971800" y="2438280"/>
            <a:ext cx="28195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971800" y="2209320"/>
            <a:ext cx="281952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971800" y="1981080"/>
            <a:ext cx="281952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971800" y="1828440"/>
            <a:ext cx="259092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986400">
            <a:off x="4177440" y="18694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838080" y="561600"/>
            <a:ext cx="8305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Prestar y Pedir Prestado sin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1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Equili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90720" y="4876920"/>
            <a:ext cx="761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 línea de mercado de capitales identificada, todos los inversionistas eligen un punto sobre la línea—alguna combinación del activo libre de riesgo y del porfolio de mercad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En un mundo con expectativ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omogenea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s el mismo para todos los inversion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58000" y="4572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8986400">
            <a:off x="4149000" y="198036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2160" y="761760"/>
            <a:ext cx="81518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edad de Sepa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edad de Separ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ece que el porfolio de mercado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el mismo para todos los inversionistas—ellos pued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 aversión al riesgo de su elección d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148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8986400">
            <a:off x="4149000" y="192024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 flipH="1">
            <a:off x="3884760" y="22712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055160" y="5051520"/>
            <a:ext cx="74026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versión al riesgo del inversionista es revelada en su elección de donde ubicarse en la línea de mercado de capitales—no en su elección de la lí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885480" y="22705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0" y="46483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800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48320" y="35812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3434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2743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2895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578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257800" y="3276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62720" y="3352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86200" y="3352680"/>
            <a:ext cx="0" cy="144792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09880" y="32767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21576000">
            <a:off x="5486400" y="22539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62320" y="37339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388620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971800" y="18284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148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71800" y="3809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290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57600" y="3200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743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590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48320" y="23623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6920" y="2133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8148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18986400">
            <a:off x="4149000" y="192024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24080" y="3657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352680" y="3505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92160" y="759600"/>
            <a:ext cx="8151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opiedad de Sepa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96600" y="1234800"/>
            <a:ext cx="7761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i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94920" y="5257800"/>
            <a:ext cx="7581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ónde los inversionistas eligen estar en la Línea de Mercado de Capitales depende de su tolerancia al riesgo. El punto importante es que todos tienen la misma LM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91120" y="2743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ondo Balanc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526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971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5780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96600" y="1234800"/>
            <a:ext cx="7761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i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440" y="5051160"/>
            <a:ext cx="773604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os los inversionistas tienen la misma LMC, porque ellos tienen el mismo porfolio riesgoso óptimo, dada la tasa libre de riesg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2743200"/>
            <a:ext cx="110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3526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1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76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25780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96600" y="1234800"/>
            <a:ext cx="7761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Propiedad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90360" y="50288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ropiedad de separación implica que la elección del porfolio puede ser separada en dos tareas: (1) determinar el porfolio riesgoso óptimo, y (2) seleccionar un punto sobre la LM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57400" y="3581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2743200"/>
            <a:ext cx="110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9338000">
            <a:off x="4344120" y="1828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339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769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5780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folio Riesgoso Optimo con un Activo Libre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07920" y="5175360"/>
            <a:ext cx="75139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pósito, el porfolio riesgoso óptimo depende de la tasa libre de riesgo como también de los activos riesgo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885480" y="2271240"/>
            <a:ext cx="5028840" cy="227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7792016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7792016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00600" y="40384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bo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209680"/>
            <a:ext cx="110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00% a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971800" y="1981080"/>
            <a:ext cx="29718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16200000">
            <a:off x="2208600" y="19011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48320" y="25146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95480" y="3352680"/>
            <a:ext cx="1526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38800" y="2971800"/>
            <a:ext cx="1104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rimer 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62720" y="22860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971800" y="1904760"/>
            <a:ext cx="236232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95480" y="3733920"/>
            <a:ext cx="1526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62720" y="2895480"/>
            <a:ext cx="20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gundo Porfolio Riesgoso Op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9338000">
            <a:off x="4359240" y="1746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20160000">
            <a:off x="5344920" y="15976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2541600" y="3530520"/>
                <a:ext cx="4302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2514600" y="2971800"/>
                <a:ext cx="430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68" name=""/>
          <p:cNvSpPr/>
          <p:nvPr/>
        </p:nvSpPr>
        <p:spPr>
          <a:xfrm flipH="1" flipV="1">
            <a:off x="4723920" y="2590560"/>
            <a:ext cx="8384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4191120" y="2895480"/>
            <a:ext cx="3045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86000" y="3352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Riesgo cuando los Inversionistas mantienen el Porfol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investigadores han mostrado que la mejor medida del riesgo de un activo en un porfolio grande es 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del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eta mide la sensibilidad de un activo a movimientos en 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429000" y="3986280"/>
                <a:ext cx="327672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05024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nd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regr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2201400" y="2156760"/>
            <a:ext cx="2235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orno del A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10320" y="4175280"/>
            <a:ext cx="3873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227640" y="3809880"/>
            <a:ext cx="192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orno del  mercado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5334120"/>
            <a:ext cx="42037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380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3200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6477120" y="243828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43600" y="2895480"/>
            <a:ext cx="294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ndiente =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28800" y="3809880"/>
            <a:ext cx="6858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581280" y="1142640"/>
            <a:ext cx="0" cy="48769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905120" y="1536840"/>
            <a:ext cx="5715000" cy="3949200"/>
            <a:chOff x="1905120" y="1536840"/>
            <a:chExt cx="5715000" cy="3949200"/>
          </a:xfrm>
        </p:grpSpPr>
        <p:sp>
          <p:nvSpPr>
            <p:cNvPr id="686" name=""/>
            <p:cNvSpPr/>
            <p:nvPr/>
          </p:nvSpPr>
          <p:spPr>
            <a:xfrm rot="19531800">
              <a:off x="3962520" y="2441160"/>
              <a:ext cx="3336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ínea Caracterís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905120" y="1599840"/>
              <a:ext cx="5715000" cy="38862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1828800" y="5105520"/>
            <a:ext cx="7632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666880" y="44956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666880" y="54100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76720" y="4114800"/>
            <a:ext cx="7596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038480" y="42670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3505320"/>
            <a:ext cx="7596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365760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24280" y="24382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86200" y="388620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05520" y="3505320"/>
            <a:ext cx="7596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257800" y="26668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553080" y="274320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81680" y="1676520"/>
            <a:ext cx="76320" cy="7596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34320" y="2286000"/>
            <a:ext cx="7596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4800600"/>
            <a:ext cx="7596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581280" y="42670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943600" y="2666880"/>
            <a:ext cx="76320" cy="76320"/>
          </a:xfrm>
          <a:prstGeom prst="ellipse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981080"/>
          <a:ext cx="7620120" cy="30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62012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órmula para el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429000" y="2303640"/>
                <a:ext cx="3276720" cy="13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1676520" y="4114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amente, el estimado del beta dependerá en la elección del proxy para 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Relación entre Riesgo y Retorno Esperado (CA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 esperado del Merc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914400" y="32767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 esperado de un activo individu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154160" y="2470320"/>
                <a:ext cx="70660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remio por Riesgo de Mercad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635200" y="4129200"/>
                <a:ext cx="4102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 rot="16200000">
            <a:off x="5715000" y="4267080"/>
            <a:ext cx="304560" cy="15238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7960 h 1523880"/>
              <a:gd name="textAreaBottom" fmla="*/ 14659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14"/>
                  <a:pt x="10800" y="2628"/>
                </a:cubicBezTo>
                <a:lnTo>
                  <a:pt x="10800" y="7579"/>
                </a:lnTo>
                <a:cubicBezTo>
                  <a:pt x="10800" y="8893"/>
                  <a:pt x="5400" y="10207"/>
                  <a:pt x="0" y="10207"/>
                </a:cubicBezTo>
                <a:cubicBezTo>
                  <a:pt x="5400" y="10207"/>
                  <a:pt x="10800" y="11521"/>
                  <a:pt x="10800" y="12835"/>
                </a:cubicBezTo>
                <a:lnTo>
                  <a:pt x="10800" y="18972"/>
                </a:lnTo>
                <a:cubicBezTo>
                  <a:pt x="10800" y="2028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7080" y="52578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mio por Riesg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95280" y="5791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Esto aplica a activos individuales mantenidos dentro de porfolios bien diversificad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90144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orno Esperado de un Activo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 fórmula es el Modelo de Valoración de Activos de Capital (CAP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828800" y="2587680"/>
                <a:ext cx="6324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838080" y="50292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umiend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,  entonces el retorno esperado 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umien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  ento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638680" y="5486400"/>
                <a:ext cx="1409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1" name=""/>
          <p:cNvGrpSpPr/>
          <p:nvPr/>
        </p:nvGrpSpPr>
        <p:grpSpPr>
          <a:xfrm>
            <a:off x="990720" y="3124080"/>
            <a:ext cx="7315200" cy="1557000"/>
            <a:chOff x="990720" y="3124080"/>
            <a:chExt cx="7315200" cy="1557000"/>
          </a:xfrm>
        </p:grpSpPr>
        <p:sp>
          <p:nvSpPr>
            <p:cNvPr id="722" name=""/>
            <p:cNvSpPr/>
            <p:nvPr/>
          </p:nvSpPr>
          <p:spPr>
            <a:xfrm>
              <a:off x="990720" y="3124080"/>
              <a:ext cx="1371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orno Esperado del A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14600" y="3489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95480" y="3306600"/>
              <a:ext cx="129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sa Libre de Ries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38480" y="3489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95680" y="330660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eta del Ac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19920" y="3489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77120" y="33066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mio por Riesgo de Merc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612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Riesgo y Retorno Espe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rot="16200000">
            <a:off x="954360" y="2091600"/>
            <a:ext cx="25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2666880" y="5638680"/>
                <a:ext cx="4102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 flipV="1">
            <a:off x="2971800" y="2361960"/>
            <a:ext cx="3581280" cy="1600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2462040" y="3733920"/>
                <a:ext cx="586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 flipV="1">
            <a:off x="4800600" y="3123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19520" y="396252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71800" y="31240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49568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405160" y="2843280"/>
                <a:ext cx="654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2" name=""/>
          <p:cNvSpPr/>
          <p:nvPr/>
        </p:nvSpPr>
        <p:spPr>
          <a:xfrm>
            <a:off x="2819520" y="31240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3289320" y="1828800"/>
                <a:ext cx="3873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76124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ón entre Riesgo y Retorno Espe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71800" y="47242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1593720" y="1147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971800" y="16002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3733920" y="5122800"/>
                <a:ext cx="1585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 flipV="1">
            <a:off x="2971800" y="2285640"/>
            <a:ext cx="3657600" cy="16765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791320" y="266652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209680" y="3733920"/>
            <a:ext cx="762120" cy="482400"/>
            <a:chOff x="2209680" y="3733920"/>
            <a:chExt cx="762120" cy="482400"/>
          </a:xfrm>
        </p:grpSpPr>
        <mc:AlternateContent>
          <mc:Choice xmlns:a14="http://schemas.microsoft.com/office/drawing/2010/main" Requires="a14">
            <p:sp>
              <p:nvSpPr>
                <p:cNvPr id="753" name=""/>
                <p:cNvSpPr txBox="1"/>
                <p:nvPr/>
              </p:nvSpPr>
              <p:spPr>
                <a:xfrm>
                  <a:off x="2209680" y="3733920"/>
                  <a:ext cx="65592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%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4" name=""/>
            <p:cNvSpPr/>
            <p:nvPr/>
          </p:nvSpPr>
          <p:spPr>
            <a:xfrm>
              <a:off x="2819520" y="396252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2971800" y="26668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4864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828800" y="2489040"/>
                <a:ext cx="11667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981080" y="5105520"/>
                <a:ext cx="134316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5638680" y="5122800"/>
                <a:ext cx="1862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057400" y="5745240"/>
                <a:ext cx="56642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etorno esperado y la varianza de un porfolio de dos activo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tán dados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014560" y="3276720"/>
                <a:ext cx="5952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2948040" y="2819520"/>
                <a:ext cx="34765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>
            <a:off x="914400" y="411480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Variando </a:t>
            </a:r>
            <a:r>
              <a:rPr b="0" i="1" lang="en-US" sz="2400" spc="-1" strike="noStrike">
                <a:solidFill>
                  <a:srgbClr val="644a1a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644a1a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, uno puede trazar el set eficiente de porfolios. El grado de curvatura refleja el efecto de la diversificación: a menor la correlación entre los dos activos, mayor la divers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La misma forma general se mantiene en un mundo con much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et eficiente de activos riesgosos puede ser combinado con la situación de pedir prestado y prestar sin riesgo. En este caso, un inversionista racional siempre escogerá mantener el porfolio de activos riesgosos representado por el porfol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5180040" y="3871440"/>
            <a:ext cx="5029200" cy="227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52" y="143"/>
                </a:moveTo>
                <a:arcTo wR="10800" hR="10800" stAng="-4839876" swAng="4716144"/>
                <a:lnTo>
                  <a:pt x="10800" y="10800"/>
                </a:lnTo>
                <a:close/>
              </a:path>
              <a:path fill="none" w="21600" h="21600">
                <a:moveTo>
                  <a:pt x="12552" y="143"/>
                </a:moveTo>
                <a:arcTo wR="10800" hR="10800" stAng="-4839876" swAng="471614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63244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5180760" y="3870720"/>
            <a:ext cx="5028840" cy="227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95" y="10467"/>
                </a:moveTo>
                <a:arcTo wR="10800" hR="10800" stAng="-106075" swAng="3058215"/>
                <a:lnTo>
                  <a:pt x="10800" y="10800"/>
                </a:lnTo>
                <a:close/>
              </a:path>
              <a:path fill="none" w="21600" h="21600">
                <a:moveTo>
                  <a:pt x="21595" y="10467"/>
                </a:moveTo>
                <a:arcTo wR="10800" hR="10800" stAng="-106075" swAng="3058215"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16200000">
            <a:off x="3507120" y="350136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153280" y="62485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267080" y="320040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943600" y="5791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0" y="3886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95880" y="5562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248520" y="5257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943600" y="51814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958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38680" y="50292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248520" y="4343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05720" y="4495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553080" y="4648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553080" y="4876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0" y="4952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21576000">
            <a:off x="6781680" y="38541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era 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81280" y="53341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91120" y="548640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267080" y="3428640"/>
            <a:ext cx="236232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44197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8986400">
            <a:off x="5444280" y="358056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14400" y="411480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Entonces, el inversionista selecciona un punto sobre la LM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580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648320" y="51055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267080" y="5410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29200" y="4724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9436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1722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55308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title"/>
          </p:nvPr>
        </p:nvSpPr>
        <p:spPr>
          <a:xfrm>
            <a:off x="685800" y="1170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tribución de un activo al riesgo de un porfolio bien diversificado es proporcional a la covarianza del retorno del activo con el retorno del mercado. Esta contribución es llamada el be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434340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67173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4a1a"/>
                </a:solidFill>
                <a:latin typeface="Times New Roman"/>
              </a:rPr>
              <a:t>El CAPM establece que el retorno esperado de un activo está positivamente relacionado al beta del ac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429000" y="3384720"/>
                <a:ext cx="25146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666880" y="5102280"/>
                <a:ext cx="4102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5" name="PlaceHolder 2"/>
          <p:cNvSpPr>
            <a:spLocks noGrp="1"/>
          </p:cNvSpPr>
          <p:nvPr>
            <p:ph type="title"/>
          </p:nvPr>
        </p:nvSpPr>
        <p:spPr>
          <a:xfrm>
            <a:off x="685800" y="1170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Resumen y 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3124080"/>
            <a:ext cx="10666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981080" y="3352320"/>
            <a:ext cx="1600200" cy="1676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981000" y="4954680"/>
                <a:ext cx="801072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248520" y="3124080"/>
            <a:ext cx="10666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752480" y="3428640"/>
            <a:ext cx="441972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33560" y="4954680"/>
                <a:ext cx="779760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952880" y="2209680"/>
            <a:ext cx="99072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495680" y="2514600"/>
            <a:ext cx="381240" cy="228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60640" y="5029200"/>
                <a:ext cx="40593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876920" y="2514600"/>
            <a:ext cx="99036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572000" y="2819160"/>
            <a:ext cx="304920" cy="2057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24080" y="4800600"/>
                <a:ext cx="3773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43000" y="1219320"/>
          <a:ext cx="754380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54380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876920" y="2819520"/>
            <a:ext cx="9903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181480" y="32000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3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00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951280" y="4800600"/>
                <a:ext cx="4059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172200" y="16002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600200"/>
            <a:ext cx="2438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1200" y="152280"/>
            <a:ext cx="8163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etorno Esperado, Varianza, y Co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22:39:49Z</dcterms:created>
  <dc:creator>FC</dc:creator>
  <dc:description/>
  <dc:language>en-US</dc:language>
  <cp:lastModifiedBy>Fernando</cp:lastModifiedBy>
  <dcterms:modified xsi:type="dcterms:W3CDTF">2005-06-08T22:42:11Z</dcterms:modified>
  <cp:revision>1</cp:revision>
  <dc:subject/>
  <dc:title>CAPM</dc:title>
</cp:coreProperties>
</file>