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xlsx" ContentType="application/vnd.openxmlformats-officedocument.spreadsheetml.sheet"/>
  <Override PartName="/ppt/embeddings/oleObject6.xlsx" ContentType="application/vnd.openxmlformats-officedocument.spreadsheetml.sheet"/>
  <Override PartName="/ppt/embeddings/oleObject17.xlsx" ContentType="application/vnd.openxmlformats-officedocument.spreadsheetml.sheet"/>
  <Override PartName="/ppt/embeddings/oleObject12.xlsx" ContentType="application/vnd.openxmlformats-officedocument.spreadsheetml.sheet"/>
  <Override PartName="/ppt/embeddings/oleObject5.xlsx" ContentType="application/vnd.openxmlformats-officedocument.spreadsheetml.sheet"/>
  <Override PartName="/ppt/embeddings/oleObject11.xlsx" ContentType="application/vnd.openxmlformats-officedocument.spreadsheetml.sheet"/>
  <Override PartName="/ppt/embeddings/oleObject4.xlsx" ContentType="application/vnd.openxmlformats-officedocument.spreadsheetml.sheet"/>
  <Override PartName="/ppt/embeddings/oleObject10.xlsx" ContentType="application/vnd.openxmlformats-officedocument.spreadsheetml.sheet"/>
  <Override PartName="/ppt/embeddings/oleObject3.xlsx" ContentType="application/vnd.openxmlformats-officedocument.spreadsheetml.sheet"/>
  <Override PartName="/ppt/embeddings/oleObject22.xlsx" ContentType="application/vnd.openxmlformats-officedocument.spreadsheetml.sheet"/>
  <Override PartName="/ppt/embeddings/oleObject21.xlsx" ContentType="application/vnd.openxmlformats-officedocument.spreadsheetml.shee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7.xlsx" ContentType="application/vnd.openxmlformats-officedocument.spreadsheetml.sheet"/>
  <Override PartName="/ppt/embeddings/oleObject20.xlsx" ContentType="application/vnd.openxmlformats-officedocument.spreadsheetml.sheet"/>
  <Override PartName="/ppt/embeddings/oleObject18.xlsx" ContentType="application/vnd.openxmlformats-officedocument.spreadsheetml.sheet"/>
  <Override PartName="/ppt/embeddings/oleObject14.xlsx" ContentType="application/vnd.openxmlformats-officedocument.spreadsheetml.sheet"/>
  <Override PartName="/ppt/embeddings/oleObject8.xlsx" ContentType="application/vnd.openxmlformats-officedocument.spreadsheetml.sheet"/>
  <Override PartName="/ppt/embeddings/oleObject19.xlsx" ContentType="application/vnd.openxmlformats-officedocument.spreadsheetml.sheet"/>
  <Override PartName="/ppt/embeddings/oleObject15.xlsx" ContentType="application/vnd.openxmlformats-officedocument.spreadsheetml.sheet"/>
  <Override PartName="/ppt/embeddings/oleObject16.xlsx" ContentType="application/vnd.openxmlformats-officedocument.spreadsheetml.sheet"/>
  <Override PartName="/ppt/embeddings/oleObject9.xlsx" ContentType="application/vnd.openxmlformats-officedocument.spreadsheetml.shee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11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17EE-A553-40FE-B251-E2FCFA05E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1EC8-37C7-43DB-85D4-4ECEB91AD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C90C-87C8-4261-9A6E-233CCF000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39C6-C90F-4019-8843-EAF8A246C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D437-28EC-4BD2-972B-A530B01C5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F54F-30F6-4EC1-BB0D-B174CDAD0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2CD3-3266-4332-AD9F-15E0C09CF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3E2F-4CB7-451C-B359-7605C743C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B13B-A69A-4EB0-BCF8-FC04EA4A0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03BE-DF9D-4EEA-9DE3-7261DE092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ED66-5008-4259-85D4-58599E96B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D8C2-A5BF-4146-B6AC-F15E574A1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2429A-B774-4A12-8735-D055C0F34B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0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21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22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23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24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25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26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27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28.wmf"/><Relationship Id="rId21" Type="http://schemas.openxmlformats.org/officeDocument/2006/relationships/package" Target="../embeddings/oleObject11.xlsx"/><Relationship Id="rId22" Type="http://schemas.openxmlformats.org/officeDocument/2006/relationships/image" Target="../media/image29.wmf"/><Relationship Id="rId23" Type="http://schemas.openxmlformats.org/officeDocument/2006/relationships/package" Target="../embeddings/oleObject12.xlsx"/><Relationship Id="rId24" Type="http://schemas.openxmlformats.org/officeDocument/2006/relationships/image" Target="../media/image30.wmf"/><Relationship Id="rId25" Type="http://schemas.openxmlformats.org/officeDocument/2006/relationships/package" Target="../embeddings/oleObject13.xlsx"/><Relationship Id="rId26" Type="http://schemas.openxmlformats.org/officeDocument/2006/relationships/image" Target="../media/image31.wmf"/><Relationship Id="rId27" Type="http://schemas.openxmlformats.org/officeDocument/2006/relationships/package" Target="../embeddings/oleObject14.xlsx"/><Relationship Id="rId28" Type="http://schemas.openxmlformats.org/officeDocument/2006/relationships/image" Target="../media/image32.wmf"/><Relationship Id="rId29" Type="http://schemas.openxmlformats.org/officeDocument/2006/relationships/package" Target="../embeddings/oleObject15.xlsx"/><Relationship Id="rId30" Type="http://schemas.openxmlformats.org/officeDocument/2006/relationships/image" Target="../media/image33.wmf"/><Relationship Id="rId31" Type="http://schemas.openxmlformats.org/officeDocument/2006/relationships/package" Target="../embeddings/oleObject16.xlsx"/><Relationship Id="rId32" Type="http://schemas.openxmlformats.org/officeDocument/2006/relationships/image" Target="../media/image34.wmf"/><Relationship Id="rId33" Type="http://schemas.openxmlformats.org/officeDocument/2006/relationships/package" Target="../embeddings/oleObject17.xlsx"/><Relationship Id="rId34" Type="http://schemas.openxmlformats.org/officeDocument/2006/relationships/image" Target="../media/image35.wmf"/><Relationship Id="rId35" Type="http://schemas.openxmlformats.org/officeDocument/2006/relationships/package" Target="../embeddings/oleObject18.xlsx"/><Relationship Id="rId36" Type="http://schemas.openxmlformats.org/officeDocument/2006/relationships/image" Target="../media/image36.wmf"/><Relationship Id="rId37" Type="http://schemas.openxmlformats.org/officeDocument/2006/relationships/package" Target="../embeddings/oleObject19.xlsx"/><Relationship Id="rId38" Type="http://schemas.openxmlformats.org/officeDocument/2006/relationships/image" Target="../media/image37.wmf"/><Relationship Id="rId39" Type="http://schemas.openxmlformats.org/officeDocument/2006/relationships/package" Target="../embeddings/oleObject20.xlsx"/><Relationship Id="rId40" Type="http://schemas.openxmlformats.org/officeDocument/2006/relationships/image" Target="../media/image38.wmf"/><Relationship Id="rId41" Type="http://schemas.openxmlformats.org/officeDocument/2006/relationships/package" Target="../embeddings/oleObject21.xlsx"/><Relationship Id="rId42" Type="http://schemas.openxmlformats.org/officeDocument/2006/relationships/image" Target="../media/image39.wmf"/><Relationship Id="rId43" Type="http://schemas.openxmlformats.org/officeDocument/2006/relationships/package" Target="../embeddings/oleObject22.xlsx"/><Relationship Id="rId44" Type="http://schemas.openxmlformats.org/officeDocument/2006/relationships/image" Target="../media/image40.wmf"/><Relationship Id="rId4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2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408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458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Activos Individ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Retorno Esperado, Varianza, y Covarian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El Retorno y Riesgo de Porfol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El Set Eficiente  de 2 Ac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El Set Eficiente de Muchos Ac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. Pedir y Prestar a la Tasa Libre de Ries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. Equilibrio de Mer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. Relación entre Riesgo y Retorno Esperado (CAP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. Resumen y Conclu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1143000" y="1219320"/>
          <a:ext cx="7543800" cy="3000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219320"/>
                    <a:ext cx="7543800" cy="30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3809880" y="3505320"/>
            <a:ext cx="990720" cy="380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3124080" y="3657600"/>
            <a:ext cx="685800" cy="990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338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70044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828800" y="4495680"/>
                <a:ext cx="633744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(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9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6172200" y="160020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581280" y="1600200"/>
            <a:ext cx="2438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71200" y="152280"/>
            <a:ext cx="8163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Retorno Esperado, Varianza, y Covarian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1143000" y="1219320"/>
          <a:ext cx="7543800" cy="3000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219320"/>
                    <a:ext cx="7543800" cy="30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3733920" y="3809880"/>
            <a:ext cx="990360" cy="3812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4114800" y="4190760"/>
            <a:ext cx="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338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70044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3449520" y="4726080"/>
                <a:ext cx="309744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0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6172200" y="160020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581280" y="1600200"/>
            <a:ext cx="2438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71200" y="152280"/>
            <a:ext cx="8163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Retorno Esperado, Varianza, y Covarian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1143000" y="1219320"/>
          <a:ext cx="7543800" cy="3000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219320"/>
                    <a:ext cx="7543800" cy="30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80640" y="380880"/>
            <a:ext cx="81630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El Retorno y Riesgo de Porfol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95280" y="4495680"/>
            <a:ext cx="7391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que las acciones tienen un retorno esperado más alto que los bonos y un riesgo mayor. Veamos ahora el tradeoff de riesgo-retorno para un porfolio que es 50% invertido en bonos y 50% invertido en ac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172200" y="160020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581280" y="1600200"/>
            <a:ext cx="2438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1219320" y="1371600"/>
          <a:ext cx="7520040" cy="2590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371600"/>
                    <a:ext cx="752004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1143000" y="411480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tasa de retorno del porfolio es un promedio ponderado de los retornos de las acciones y bonos en el porfolio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338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3817800" y="5043600"/>
                <a:ext cx="229716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5943600" y="1905120"/>
            <a:ext cx="68580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665440" y="5715000"/>
                <a:ext cx="46497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80640" y="379080"/>
            <a:ext cx="8163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El Retorno y Riesgo de Porfol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19320" y="1371600"/>
          <a:ext cx="7520040" cy="2590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371600"/>
                    <a:ext cx="752004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1219320" y="411480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0338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867280" y="2209680"/>
            <a:ext cx="762120" cy="3812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638440" y="5791320"/>
                <a:ext cx="4705200" cy="4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817800" y="5043600"/>
                <a:ext cx="229716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1143000" y="411480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tasa de retorno del porfolio es un promedio ponderado de los retornos de las acciones y bonos en el porfoli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80640" y="379080"/>
            <a:ext cx="8163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El Retorno y Riesgo de Porfol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1219320" y="1371600"/>
          <a:ext cx="7520040" cy="2590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371600"/>
                    <a:ext cx="752004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40338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867280" y="2514600"/>
            <a:ext cx="762120" cy="380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452680" y="5867280"/>
                <a:ext cx="507672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3817800" y="5043600"/>
                <a:ext cx="229716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1143000" y="411480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tasa de retorno del porfolio es un promedio ponderado de los retornos de las acciones y bonos en el porfolio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80640" y="379080"/>
            <a:ext cx="8163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El Retorno y Riesgo de Porfol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1219320" y="1371600"/>
          <a:ext cx="7520040" cy="2590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371600"/>
                    <a:ext cx="752004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1219320" y="411480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tasa de retorn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perad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 porfolio es un promedio ponderado de los retorno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perado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los activos en el porfol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0338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867280" y="3048120"/>
            <a:ext cx="762120" cy="380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2763720" y="5943600"/>
                <a:ext cx="445320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370044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3252960" y="5194440"/>
                <a:ext cx="347652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80640" y="379080"/>
            <a:ext cx="8163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El Retorno y Riesgo de Porfol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1219320" y="1371600"/>
          <a:ext cx="7520040" cy="2590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371600"/>
                    <a:ext cx="752004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1219320" y="411480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varianza de la tasa de retorno del porfolio de dos activos riesgosos es: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0338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791320" y="3276720"/>
            <a:ext cx="91440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0044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2028960" y="4984920"/>
                <a:ext cx="5924520" cy="48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1143000" y="5578560"/>
            <a:ext cx="73915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el coeficiente de correlación entre los retornos de los fondos accionarios y de bon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80640" y="379080"/>
            <a:ext cx="8163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El Retorno y Riesgo de Porfol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1219320" y="1371600"/>
          <a:ext cx="7520040" cy="2590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371600"/>
                    <a:ext cx="752004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1447920" y="4343400"/>
            <a:ext cx="70102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 la disminución en riesgo que ofrece la diversific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 porfolio igualmente ponderado (50% en acciones y 50% en bonos) tiene menos riesgo que mantener acciones o bonos solamen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80640" y="379080"/>
            <a:ext cx="8163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El Retorno y Riesgo de Porfol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2224080" y="20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295280"/>
          <a:ext cx="4343400" cy="3357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295280"/>
                    <a:ext cx="4343400" cy="33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990720" y="1447920"/>
          <a:ext cx="3276360" cy="51051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1447920"/>
                    <a:ext cx="3276360" cy="51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948960"/>
            <a:ext cx="77724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El Set Eficiente de Dos Ac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86600" y="3200400"/>
            <a:ext cx="762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100% bo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924680" y="236232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100% ac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867280" y="274320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991040" y="4924440"/>
            <a:ext cx="3848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demos considerar porfolios con otras ponderaciones además de 50% en acciones y 50% en bono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14408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tivos Individu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s características de activos individuales que son de interés s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orno Espe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nza y Desviación Estánd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varianza y Corre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2224080" y="20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4572000" y="1290600"/>
          <a:ext cx="4343400" cy="3357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290600"/>
                    <a:ext cx="4343400" cy="33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>
            <a:off x="4991040" y="4924440"/>
            <a:ext cx="3848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demos considerar porfolios con otras ponderaciones además de 50% en acciones y 50% en bono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086600" y="3200400"/>
            <a:ext cx="762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100% bo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924680" y="236232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100% ac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143000" y="1523880"/>
          <a:ext cx="3276720" cy="5105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1523880"/>
                    <a:ext cx="327672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6934320" y="3200400"/>
            <a:ext cx="152280" cy="152280"/>
          </a:xfrm>
          <a:prstGeom prst="ellipse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143000" y="1523880"/>
          <a:ext cx="3276720" cy="51055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3000" y="1523880"/>
                    <a:ext cx="327672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6705720" y="3200400"/>
            <a:ext cx="152280" cy="152280"/>
          </a:xfrm>
          <a:prstGeom prst="ellipse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143000" y="1523880"/>
          <a:ext cx="3276720" cy="510552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43000" y="1523880"/>
                    <a:ext cx="327672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"/>
          <p:cNvSpPr/>
          <p:nvPr/>
        </p:nvSpPr>
        <p:spPr>
          <a:xfrm>
            <a:off x="6477120" y="3124080"/>
            <a:ext cx="152280" cy="152640"/>
          </a:xfrm>
          <a:prstGeom prst="ellipse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143000" y="1523880"/>
          <a:ext cx="3276720" cy="510552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43000" y="1523880"/>
                    <a:ext cx="327672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"/>
          <p:cNvSpPr/>
          <p:nvPr/>
        </p:nvSpPr>
        <p:spPr>
          <a:xfrm>
            <a:off x="6248520" y="3048120"/>
            <a:ext cx="152280" cy="152280"/>
          </a:xfrm>
          <a:prstGeom prst="ellipse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1143000" y="1523880"/>
          <a:ext cx="3276720" cy="510552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143000" y="1523880"/>
                    <a:ext cx="327672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6019920" y="3048120"/>
            <a:ext cx="152280" cy="152280"/>
          </a:xfrm>
          <a:prstGeom prst="ellipse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1143000" y="1523880"/>
          <a:ext cx="3276720" cy="510552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143000" y="1523880"/>
                    <a:ext cx="327672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5791320" y="2971800"/>
            <a:ext cx="152280" cy="152280"/>
          </a:xfrm>
          <a:prstGeom prst="ellipse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143000" y="1523880"/>
          <a:ext cx="3276720" cy="510552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143000" y="1523880"/>
                    <a:ext cx="327672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5562720" y="2971800"/>
            <a:ext cx="152280" cy="152280"/>
          </a:xfrm>
          <a:prstGeom prst="ellipse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143000" y="1523880"/>
          <a:ext cx="3276720" cy="510552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143000" y="1523880"/>
                    <a:ext cx="327672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5410080" y="2895480"/>
            <a:ext cx="152640" cy="152640"/>
          </a:xfrm>
          <a:prstGeom prst="ellipse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143000" y="1523880"/>
          <a:ext cx="3276720" cy="510552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143000" y="1523880"/>
                    <a:ext cx="327672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5486400" y="2819520"/>
            <a:ext cx="152280" cy="152280"/>
          </a:xfrm>
          <a:prstGeom prst="ellipse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1143000" y="1523880"/>
          <a:ext cx="3276720" cy="5105520"/>
        </p:xfrm>
        <a:graphic>
          <a:graphicData uri="http://schemas.openxmlformats.org/presentationml/2006/ole">
            <p:oleObj progId="Excel.Sheet.12" r:id="rId2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143000" y="1523880"/>
                    <a:ext cx="327672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5715000" y="2743200"/>
            <a:ext cx="152280" cy="152280"/>
          </a:xfrm>
          <a:prstGeom prst="ellipse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143000" y="1523880"/>
          <a:ext cx="3276720" cy="5105520"/>
        </p:xfrm>
        <a:graphic>
          <a:graphicData uri="http://schemas.openxmlformats.org/presentationml/2006/ole">
            <p:oleObj progId="Excel.Sheet.12" r:id="rId23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143000" y="1523880"/>
                    <a:ext cx="327672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"/>
          <p:cNvSpPr/>
          <p:nvPr/>
        </p:nvSpPr>
        <p:spPr>
          <a:xfrm>
            <a:off x="5867280" y="2743200"/>
            <a:ext cx="152640" cy="152280"/>
          </a:xfrm>
          <a:prstGeom prst="ellipse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143000" y="1523880"/>
          <a:ext cx="3276720" cy="5105520"/>
        </p:xfrm>
        <a:graphic>
          <a:graphicData uri="http://schemas.openxmlformats.org/presentationml/2006/ole">
            <p:oleObj progId="Excel.Sheet.12" r:id="rId25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1143000" y="1523880"/>
                    <a:ext cx="327672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"/>
          <p:cNvSpPr/>
          <p:nvPr/>
        </p:nvSpPr>
        <p:spPr>
          <a:xfrm>
            <a:off x="6095880" y="2666880"/>
            <a:ext cx="152640" cy="152640"/>
          </a:xfrm>
          <a:prstGeom prst="ellipse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143000" y="1523880"/>
          <a:ext cx="3276720" cy="5105520"/>
        </p:xfrm>
        <a:graphic>
          <a:graphicData uri="http://schemas.openxmlformats.org/presentationml/2006/ole">
            <p:oleObj progId="Excel.Sheet.12" r:id="rId27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1143000" y="1523880"/>
                    <a:ext cx="327672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"/>
          <p:cNvSpPr/>
          <p:nvPr/>
        </p:nvSpPr>
        <p:spPr>
          <a:xfrm>
            <a:off x="6324480" y="2666880"/>
            <a:ext cx="152640" cy="152640"/>
          </a:xfrm>
          <a:prstGeom prst="ellipse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143000" y="1523880"/>
          <a:ext cx="3276720" cy="5105520"/>
        </p:xfrm>
        <a:graphic>
          <a:graphicData uri="http://schemas.openxmlformats.org/presentationml/2006/ole">
            <p:oleObj progId="Excel.Sheet.12" r:id="rId29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1143000" y="1523880"/>
                    <a:ext cx="327672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"/>
          <p:cNvSpPr/>
          <p:nvPr/>
        </p:nvSpPr>
        <p:spPr>
          <a:xfrm>
            <a:off x="6553080" y="2590920"/>
            <a:ext cx="152640" cy="152280"/>
          </a:xfrm>
          <a:prstGeom prst="ellipse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143000" y="1523880"/>
          <a:ext cx="3276720" cy="5105520"/>
        </p:xfrm>
        <a:graphic>
          <a:graphicData uri="http://schemas.openxmlformats.org/presentationml/2006/ole">
            <p:oleObj progId="Excel.Sheet.12" r:id="rId3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1143000" y="1523880"/>
                    <a:ext cx="327672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6781680" y="2514600"/>
            <a:ext cx="152640" cy="152280"/>
          </a:xfrm>
          <a:prstGeom prst="ellipse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1143000" y="1523880"/>
          <a:ext cx="3276720" cy="5105520"/>
        </p:xfrm>
        <a:graphic>
          <a:graphicData uri="http://schemas.openxmlformats.org/presentationml/2006/ole">
            <p:oleObj progId="Excel.Sheet.12" r:id="rId33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1143000" y="1523880"/>
                    <a:ext cx="327672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"/>
          <p:cNvSpPr/>
          <p:nvPr/>
        </p:nvSpPr>
        <p:spPr>
          <a:xfrm>
            <a:off x="7010280" y="2514600"/>
            <a:ext cx="152640" cy="152280"/>
          </a:xfrm>
          <a:prstGeom prst="ellipse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1143000" y="1523880"/>
          <a:ext cx="3276720" cy="5105520"/>
        </p:xfrm>
        <a:graphic>
          <a:graphicData uri="http://schemas.openxmlformats.org/presentationml/2006/ole">
            <p:oleObj progId="Excel.Sheet.12" r:id="rId35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1143000" y="1523880"/>
                    <a:ext cx="327672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7238880" y="2438280"/>
            <a:ext cx="152640" cy="152640"/>
          </a:xfrm>
          <a:prstGeom prst="ellipse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1143000" y="1523880"/>
          <a:ext cx="3276720" cy="5105520"/>
        </p:xfrm>
        <a:graphic>
          <a:graphicData uri="http://schemas.openxmlformats.org/presentationml/2006/ole">
            <p:oleObj progId="Excel.Sheet.12" r:id="rId37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1143000" y="1523880"/>
                    <a:ext cx="327672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"/>
          <p:cNvSpPr/>
          <p:nvPr/>
        </p:nvSpPr>
        <p:spPr>
          <a:xfrm>
            <a:off x="7467480" y="2362320"/>
            <a:ext cx="152640" cy="152280"/>
          </a:xfrm>
          <a:prstGeom prst="ellipse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1143000" y="1523880"/>
          <a:ext cx="3276720" cy="5105520"/>
        </p:xfrm>
        <a:graphic>
          <a:graphicData uri="http://schemas.openxmlformats.org/presentationml/2006/ole">
            <p:oleObj progId="Excel.Sheet.12" r:id="rId39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1143000" y="1523880"/>
                    <a:ext cx="327672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7696080" y="2362320"/>
            <a:ext cx="152640" cy="152280"/>
          </a:xfrm>
          <a:prstGeom prst="ellipse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1143000" y="1523880"/>
          <a:ext cx="3276720" cy="5105520"/>
        </p:xfrm>
        <a:graphic>
          <a:graphicData uri="http://schemas.openxmlformats.org/presentationml/2006/ole">
            <p:oleObj progId="Excel.Sheet.12" r:id="rId4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1143000" y="1523880"/>
                    <a:ext cx="327672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"/>
          <p:cNvSpPr/>
          <p:nvPr/>
        </p:nvSpPr>
        <p:spPr>
          <a:xfrm>
            <a:off x="7924680" y="2286000"/>
            <a:ext cx="152640" cy="152280"/>
          </a:xfrm>
          <a:prstGeom prst="ellipse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1143000" y="1523880"/>
          <a:ext cx="3276720" cy="5105520"/>
        </p:xfrm>
        <a:graphic>
          <a:graphicData uri="http://schemas.openxmlformats.org/presentationml/2006/ole">
            <p:oleObj progId="Excel.Sheet.12" r:id="rId43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1143000" y="1523880"/>
                    <a:ext cx="327672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"/>
          <p:cNvSpPr/>
          <p:nvPr/>
        </p:nvSpPr>
        <p:spPr>
          <a:xfrm>
            <a:off x="8153280" y="2209680"/>
            <a:ext cx="152640" cy="152640"/>
          </a:xfrm>
          <a:prstGeom prst="ellipse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El Set Eficiente de Dos Ac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2224080" y="20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4572000" y="1295280"/>
          <a:ext cx="4343400" cy="3357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295280"/>
                    <a:ext cx="4343400" cy="33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1143000" y="1523880"/>
          <a:ext cx="3276720" cy="5105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1523880"/>
                    <a:ext cx="327672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"/>
          <p:cNvSpPr/>
          <p:nvPr/>
        </p:nvSpPr>
        <p:spPr>
          <a:xfrm>
            <a:off x="8153280" y="220968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934320" y="32004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924680" y="236232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100% ac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3152880"/>
            <a:ext cx="762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100% bo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572000" y="464832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que algunos porfolios son “mejores” que otros. Ellos tienen retornos más altos para el mismo o menor nivel de riesgo. Ellos componen l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rontera eficien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rot="20868600">
            <a:off x="5257800" y="2361960"/>
            <a:ext cx="3273480" cy="392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El Set Eficiente de Dos Ac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8305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folios de Dos Activos con Varias Correlacion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3885480" y="2271240"/>
            <a:ext cx="5028840" cy="227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552" y="143"/>
                </a:moveTo>
                <a:arcTo wR="10800" hR="10800" stAng="-4839876" swAng="6577515"/>
                <a:lnTo>
                  <a:pt x="10800" y="10800"/>
                </a:lnTo>
                <a:close/>
              </a:path>
              <a:path fill="none" w="21600" h="21600">
                <a:moveTo>
                  <a:pt x="12552" y="143"/>
                </a:moveTo>
                <a:arcTo wR="10800" hR="10800" stAng="-4839876" swAng="6577515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971800" y="4724280"/>
            <a:ext cx="457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038480" y="4038480"/>
            <a:ext cx="1105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100% bo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rot="16200000">
            <a:off x="2208600" y="1901160"/>
            <a:ext cx="106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858000" y="4648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2971800" y="1600200"/>
            <a:ext cx="0" cy="3124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943600" y="2209680"/>
            <a:ext cx="110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100% ac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181480" y="3809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= 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 flipV="1">
            <a:off x="4267080" y="2971800"/>
            <a:ext cx="914400" cy="9907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3809880" y="1981080"/>
            <a:ext cx="2133720" cy="236232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 flipV="1">
            <a:off x="5410080" y="2666520"/>
            <a:ext cx="609840" cy="68580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715000" y="3352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= 1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2971440" y="2209680"/>
            <a:ext cx="2971800" cy="76212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 flipV="1">
            <a:off x="2971440" y="2971800"/>
            <a:ext cx="1219320" cy="99072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971800" y="2286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= -1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562720" y="22860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114800" y="38862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96600" y="686880"/>
            <a:ext cx="7761240" cy="93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esgo/Retorno de Porfolios de Dos Activos: Efectos de la Correl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2106360"/>
            <a:ext cx="7772400" cy="398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relación depende del coeficiente de correl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1.0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enor la correlación, mayor es el potencial de reducción del ries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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+1.0, no hay reducción de riesgo po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295280" y="1447920"/>
            <a:ext cx="693432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349200"/>
            <a:ext cx="8305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esgo de un Porfolio como una Función del Número de Acciones en el Porfol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1600200" y="152352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600200" y="5486400"/>
            <a:ext cx="5410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600200" y="4267080"/>
            <a:ext cx="5181480" cy="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rot="10797000">
            <a:off x="1599480" y="-230760"/>
            <a:ext cx="9752040" cy="441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962" y="33"/>
                </a:moveTo>
                <a:arcTo wR="10800" hR="10800" stAng="-5666931" swAng="5666931"/>
                <a:lnTo>
                  <a:pt x="10800" y="10800"/>
                </a:lnTo>
                <a:close/>
              </a:path>
              <a:path fill="none" w="21600" h="21600">
                <a:moveTo>
                  <a:pt x="9962" y="33"/>
                </a:moveTo>
                <a:arcTo wR="10800" hR="10800" stAng="-5666931" swAng="5666931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114800" y="4267080"/>
            <a:ext cx="0" cy="1219320"/>
          </a:xfrm>
          <a:prstGeom prst="line">
            <a:avLst/>
          </a:prstGeom>
          <a:ln w="38160">
            <a:solidFill>
              <a:srgbClr val="00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343400" y="426708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Riesgo No Diversificable; Riesgo Sistemático;   Riesgo de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057400" y="2971800"/>
            <a:ext cx="0" cy="1295280"/>
          </a:xfrm>
          <a:prstGeom prst="line">
            <a:avLst/>
          </a:prstGeom>
          <a:ln w="38160">
            <a:solidFill>
              <a:srgbClr val="00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343400" y="2438280"/>
            <a:ext cx="388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Riesgo Diversificable; Riesgo Nosistemático; Riesgo Específico a la Firma; Riesgo U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733920" y="2590920"/>
            <a:ext cx="571320" cy="1371600"/>
          </a:xfrm>
          <a:custGeom>
            <a:avLst/>
            <a:gdLst>
              <a:gd name="textAreaLeft" fmla="*/ 365040 w 571320"/>
              <a:gd name="textAreaRight" fmla="*/ 571680 w 5713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2133360" y="3276720"/>
            <a:ext cx="15238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248520" y="5410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9907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905120" y="1295280"/>
            <a:ext cx="73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 un gran porfolio los términos de varianza son diversificados efectivamente, pero no los términos de covarianz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914400" y="571500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r lo tanto la diversificación puede eliminar algo, pero no todo el riesgo de activos individu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477120" y="38098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iesgo del Porfol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92160" y="457200"/>
            <a:ext cx="815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 El Set Eficiente de Muchos Ac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5030280"/>
            <a:ext cx="77724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e un mundo con muchos activos riesgosos; todavía podemos identificar e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t de oportunidad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 combinaciones de riesgo-retorno de varios porfoli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971800" y="4724280"/>
            <a:ext cx="457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3885480" y="2271240"/>
            <a:ext cx="5028840" cy="2271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552" y="143"/>
                </a:moveTo>
                <a:arcTo wR="10800" hR="10800" stAng="-4839876" swAng="7792016"/>
                <a:lnTo>
                  <a:pt x="10800" y="10800"/>
                </a:lnTo>
                <a:close/>
              </a:path>
              <a:path fill="none" w="21600" h="21600">
                <a:moveTo>
                  <a:pt x="12552" y="143"/>
                </a:moveTo>
                <a:arcTo wR="10800" hR="10800" stAng="-4839876" swAng="7792016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rot="16200000">
            <a:off x="2208600" y="1901160"/>
            <a:ext cx="106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0" y="46483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2971800" y="1600200"/>
            <a:ext cx="0" cy="3124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648320" y="419112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562720" y="22860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800600" y="39625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952880" y="36576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648320" y="35812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800600" y="32767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343400" y="3429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495680" y="29718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952880" y="27432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410080" y="28954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30481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32767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562720" y="33526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181480" y="365760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ctivos Individu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1268280" y="5555880"/>
            <a:ext cx="7772400" cy="11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do e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t de oportunidad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odemos identificar el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rfolio de mínima varianz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971800" y="4724280"/>
            <a:ext cx="457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3885480" y="2271240"/>
            <a:ext cx="5028840" cy="2271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552" y="143"/>
                </a:moveTo>
                <a:arcTo wR="10800" hR="10800" stAng="-4839876" swAng="7792016"/>
                <a:lnTo>
                  <a:pt x="10800" y="10800"/>
                </a:lnTo>
                <a:close/>
              </a:path>
              <a:path fill="none" w="21600" h="21600">
                <a:moveTo>
                  <a:pt x="12552" y="143"/>
                </a:moveTo>
                <a:arcTo wR="10800" hR="10800" stAng="-4839876" swAng="7792016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rot="16200000">
            <a:off x="2208600" y="1901160"/>
            <a:ext cx="106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858000" y="46483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2971800" y="1600200"/>
            <a:ext cx="0" cy="3124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648320" y="419112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562720" y="22860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800600" y="39625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952880" y="36576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648320" y="35812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800600" y="32767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343400" y="3429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495680" y="29718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952880" y="27432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410080" y="28954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30481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257800" y="32767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62720" y="33526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86200" y="3352680"/>
            <a:ext cx="0" cy="144792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809880" y="3276720"/>
            <a:ext cx="15264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971800" y="274320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rfolio de mínima varianz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181480" y="365760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ctivos Individu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title"/>
          </p:nvPr>
        </p:nvSpPr>
        <p:spPr>
          <a:xfrm>
            <a:off x="992160" y="455400"/>
            <a:ext cx="8151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 El Set Eficiente de Muchos Ac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 flipH="1">
            <a:off x="3884760" y="2271240"/>
            <a:ext cx="5029200" cy="2270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552" y="143"/>
                </a:moveTo>
                <a:arcTo wR="10800" hR="10800" stAng="-4839876" swAng="4716144"/>
                <a:lnTo>
                  <a:pt x="10800" y="10800"/>
                </a:lnTo>
                <a:close/>
              </a:path>
              <a:path fill="none" w="21600" h="21600">
                <a:moveTo>
                  <a:pt x="12552" y="143"/>
                </a:moveTo>
                <a:arcTo wR="10800" hR="10800" stAng="-4839876" swAng="4716144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685800" y="518004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sección del set de oportunidades sobre el porfolio de mínima varianza es la frontera efici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971800" y="4724280"/>
            <a:ext cx="457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3885480" y="2270520"/>
            <a:ext cx="5028840" cy="2272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5" y="10467"/>
                </a:moveTo>
                <a:arcTo wR="10800" hR="10800" stAng="-106075" swAng="3058215"/>
                <a:lnTo>
                  <a:pt x="10800" y="10800"/>
                </a:lnTo>
                <a:close/>
              </a:path>
              <a:path fill="none" w="21600" h="21600">
                <a:moveTo>
                  <a:pt x="21595" y="10467"/>
                </a:moveTo>
                <a:arcTo wR="10800" hR="10800" stAng="-106075" swAng="3058215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rot="16200000">
            <a:off x="2208600" y="1901160"/>
            <a:ext cx="106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858000" y="46483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2971800" y="1600200"/>
            <a:ext cx="0" cy="3124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648320" y="419112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562720" y="22860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800600" y="39625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952880" y="36576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648320" y="35812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800600" y="32767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43400" y="3429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495680" y="29718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952880" y="27432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410080" y="28954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30481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32767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562720" y="33526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886200" y="3352680"/>
            <a:ext cx="0" cy="144792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809880" y="3276720"/>
            <a:ext cx="15264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rot="20213400">
            <a:off x="3581280" y="225396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ntera eficient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181480" y="365760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ctivos Individu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71800" y="274320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rfolio de mínima varianz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title"/>
          </p:nvPr>
        </p:nvSpPr>
        <p:spPr>
          <a:xfrm>
            <a:off x="992160" y="455400"/>
            <a:ext cx="8151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 El Set Eficiente de Muchos Ac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8305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folio Riesgoso Óptimo con un Activo Libre de Riesg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268280" y="5403960"/>
            <a:ext cx="7772400" cy="11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47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emás de acciones y bonos, considere un mundo que también tiene activos libres de riesgo como T-bills (certificados de tesorerí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971800" y="4724280"/>
            <a:ext cx="457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885480" y="2271600"/>
            <a:ext cx="5028840" cy="2273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429" y="8887"/>
                </a:moveTo>
                <a:arcTo wR="10800" hR="10800" stAng="-612303" swAng="3564443"/>
                <a:lnTo>
                  <a:pt x="10800" y="10800"/>
                </a:lnTo>
                <a:close/>
              </a:path>
              <a:path fill="none" w="21600" h="21600">
                <a:moveTo>
                  <a:pt x="21429" y="8887"/>
                </a:moveTo>
                <a:arcTo wR="10800" hR="10800" stAng="-612303" swAng="3564443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00600" y="4038480"/>
            <a:ext cx="110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100% bo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943600" y="2209680"/>
            <a:ext cx="110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100% ac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057400" y="358128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rot="16200000">
            <a:off x="2208600" y="1901160"/>
            <a:ext cx="106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858000" y="4648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2971800" y="1600200"/>
            <a:ext cx="0" cy="3124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648320" y="419112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895480" y="3733920"/>
            <a:ext cx="15264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562720" y="22860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3884760" y="2271240"/>
            <a:ext cx="5029200" cy="2270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552" y="143"/>
                </a:moveTo>
                <a:arcTo wR="10800" hR="10800" stAng="-4839876" swAng="4716144"/>
                <a:lnTo>
                  <a:pt x="10800" y="10800"/>
                </a:lnTo>
                <a:close/>
              </a:path>
              <a:path fill="none" w="21600" h="21600">
                <a:moveTo>
                  <a:pt x="12552" y="143"/>
                </a:moveTo>
                <a:arcTo wR="10800" hR="10800" stAng="-4839876" swAng="4716144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3884040" y="2270160"/>
            <a:ext cx="5028840" cy="2272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3" y="11176"/>
                </a:moveTo>
                <a:arcTo wR="10800" hR="10800" stAng="119636" swAng="2832504"/>
                <a:lnTo>
                  <a:pt x="10800" y="10800"/>
                </a:lnTo>
                <a:close/>
              </a:path>
              <a:path fill="none" w="21600" h="21600">
                <a:moveTo>
                  <a:pt x="21593" y="11176"/>
                </a:moveTo>
                <a:arcTo wR="10800" hR="10800" stAng="119636" swAng="2832504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648320" y="419112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562720" y="22860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800600" y="39625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952880" y="36576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648320" y="35812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800600" y="32767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343400" y="3429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495680" y="29718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952880" y="27432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410080" y="28954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257800" y="30481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257800" y="32767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562720" y="33526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886200" y="3352680"/>
            <a:ext cx="0" cy="144792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3276720"/>
            <a:ext cx="15264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8080" y="563400"/>
            <a:ext cx="830592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. Prestar y Pedir Prestado sin Ries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5156280"/>
            <a:ext cx="77724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47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hora los inversionistas pueden asignar su dinero entre los T-bills y un fondo balance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4724280"/>
            <a:ext cx="457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885480" y="2270880"/>
            <a:ext cx="5028840" cy="2271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49" y="9757"/>
                </a:moveTo>
                <a:arcTo wR="10800" hR="10800" stAng="-332639" swAng="3284779"/>
                <a:lnTo>
                  <a:pt x="10800" y="10800"/>
                </a:lnTo>
                <a:close/>
              </a:path>
              <a:path fill="none" w="21600" h="21600">
                <a:moveTo>
                  <a:pt x="21549" y="9757"/>
                </a:moveTo>
                <a:arcTo wR="10800" hR="10800" stAng="-332639" swAng="3284779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800600" y="4038480"/>
            <a:ext cx="110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100% bo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943600" y="2209680"/>
            <a:ext cx="110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100% ac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2971800" y="1904760"/>
            <a:ext cx="236232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057400" y="358128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rot="16200000">
            <a:off x="2208600" y="1901160"/>
            <a:ext cx="106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858000" y="4648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2971800" y="1600200"/>
            <a:ext cx="0" cy="3124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648320" y="419112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895480" y="3733920"/>
            <a:ext cx="15264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191120" y="2743200"/>
            <a:ext cx="121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Fondo Balance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562720" y="22860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rot="19338000">
            <a:off x="4344120" y="18284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3884760" y="2271240"/>
            <a:ext cx="5029200" cy="2270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552" y="143"/>
                </a:moveTo>
                <a:arcTo wR="10800" hR="10800" stAng="-4839876" swAng="4716144"/>
                <a:lnTo>
                  <a:pt x="10800" y="10800"/>
                </a:lnTo>
                <a:close/>
              </a:path>
              <a:path fill="none" w="21600" h="21600">
                <a:moveTo>
                  <a:pt x="12552" y="143"/>
                </a:moveTo>
                <a:arcTo wR="10800" hR="10800" stAng="-4839876" swAng="4716144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3885480" y="2270520"/>
            <a:ext cx="5028840" cy="2272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5" y="10467"/>
                </a:moveTo>
                <a:arcTo wR="10800" hR="10800" stAng="-106075" swAng="3058215"/>
                <a:lnTo>
                  <a:pt x="10800" y="10800"/>
                </a:lnTo>
                <a:close/>
              </a:path>
              <a:path fill="none" w="21600" h="21600">
                <a:moveTo>
                  <a:pt x="21595" y="10467"/>
                </a:moveTo>
                <a:arcTo wR="10800" hR="10800" stAng="-106075" swAng="3058215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648320" y="419112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562720" y="22860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800600" y="39625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952880" y="36576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648320" y="35812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800600" y="32767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343400" y="3429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495680" y="29718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952880" y="27432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410080" y="28954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257800" y="30481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257800" y="32767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562720" y="33526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86200" y="3352680"/>
            <a:ext cx="0" cy="144792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809880" y="3276720"/>
            <a:ext cx="15264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114800" y="28195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901440"/>
            <a:ext cx="77724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Retorno Esperado, Varianza, y Covarian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7720" y="3580920"/>
            <a:ext cx="803916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dere los siguientes dos activos riesgosos. Hay una prob. de 1/3 para cada estado de la economía y los únicos activos son un fondo accionario y un fondo de bon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638680" y="190512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1727280"/>
          <a:ext cx="7848360" cy="185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727280"/>
                    <a:ext cx="7848360" cy="18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 flipH="1">
            <a:off x="3884760" y="2271240"/>
            <a:ext cx="5029200" cy="2270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552" y="143"/>
                </a:moveTo>
                <a:arcTo wR="10800" hR="10800" stAng="-4839876" swAng="4716144"/>
                <a:lnTo>
                  <a:pt x="10800" y="10800"/>
                </a:lnTo>
                <a:close/>
              </a:path>
              <a:path fill="none" w="21600" h="21600">
                <a:moveTo>
                  <a:pt x="12552" y="143"/>
                </a:moveTo>
                <a:arcTo wR="10800" hR="10800" stAng="-4839876" swAng="4716144"/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/>
          </p:nvPr>
        </p:nvSpPr>
        <p:spPr>
          <a:xfrm>
            <a:off x="789120" y="5035320"/>
            <a:ext cx="737208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un activo libre de riesgo disponible y la frontera eficiente identificada, podemos elegir la línea de asignación de capital con la pendiente más pronunciad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971800" y="4724280"/>
            <a:ext cx="457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3885480" y="2270520"/>
            <a:ext cx="5028840" cy="2272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5" y="10467"/>
                </a:moveTo>
                <a:arcTo wR="10800" hR="10800" stAng="-106075" swAng="3058215"/>
                <a:lnTo>
                  <a:pt x="10800" y="10800"/>
                </a:lnTo>
                <a:close/>
              </a:path>
              <a:path fill="none" w="21600" h="21600">
                <a:moveTo>
                  <a:pt x="21595" y="10467"/>
                </a:moveTo>
                <a:arcTo wR="10800" hR="10800" stAng="-106075" swAng="3058215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rot="16200000">
            <a:off x="2208600" y="1901160"/>
            <a:ext cx="106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858000" y="46483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2971800" y="1600200"/>
            <a:ext cx="0" cy="3124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648320" y="419112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562720" y="22860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800600" y="39625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952880" y="36576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648320" y="35812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800600" y="32767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343400" y="3429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495680" y="29718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952880" y="27432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410080" y="28954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257800" y="30481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257800" y="32767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562720" y="33526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886200" y="3352680"/>
            <a:ext cx="0" cy="144792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809880" y="3276720"/>
            <a:ext cx="15264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rot="21576000">
            <a:off x="5486400" y="225396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ntera efic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362320" y="373392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895480" y="3886200"/>
            <a:ext cx="15264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2971800" y="3123720"/>
            <a:ext cx="281952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2971800" y="2895480"/>
            <a:ext cx="2819520" cy="99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2971800" y="2666520"/>
            <a:ext cx="2819520" cy="1219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2971800" y="2438280"/>
            <a:ext cx="2819520" cy="144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2971800" y="2209320"/>
            <a:ext cx="2819520" cy="1676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2971800" y="1981080"/>
            <a:ext cx="281952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2971800" y="1828440"/>
            <a:ext cx="2590920" cy="2057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2971800" y="1828440"/>
            <a:ext cx="2362320" cy="2057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114800" y="28195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rot="18986400">
            <a:off x="4177440" y="186948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title"/>
          </p:nvPr>
        </p:nvSpPr>
        <p:spPr>
          <a:xfrm>
            <a:off x="838080" y="56160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. Prestar y Pedir Prestado sin Ries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 flipH="1">
            <a:off x="3884760" y="2271240"/>
            <a:ext cx="5029200" cy="2270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552" y="143"/>
                </a:moveTo>
                <a:arcTo wR="10800" hR="10800" stAng="-4839876" swAng="4716144"/>
                <a:lnTo>
                  <a:pt x="10800" y="10800"/>
                </a:lnTo>
                <a:close/>
              </a:path>
              <a:path fill="none" w="21600" h="21600">
                <a:moveTo>
                  <a:pt x="12552" y="143"/>
                </a:moveTo>
                <a:arcTo wR="10800" hR="10800" stAng="-4839876" swAng="4716144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815184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. Equilibrio de Merc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990720" y="4876920"/>
            <a:ext cx="76197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la línea de mercado de capitales identificada, todos los inversionistas eligen un punto sobre la línea—alguna combinación del activo libre de riesgo y del porfolio de mercad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En un mundo con expectativa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omogeneas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s el mismo para todos los inversionist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971800" y="4724280"/>
            <a:ext cx="457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3885480" y="2270520"/>
            <a:ext cx="5028840" cy="2272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5" y="10467"/>
                </a:moveTo>
                <a:arcTo wR="10800" hR="10800" stAng="-106075" swAng="3058215"/>
                <a:lnTo>
                  <a:pt x="10800" y="10800"/>
                </a:lnTo>
                <a:close/>
              </a:path>
              <a:path fill="none" w="21600" h="21600">
                <a:moveTo>
                  <a:pt x="21595" y="10467"/>
                </a:moveTo>
                <a:arcTo wR="10800" hR="10800" stAng="-106075" swAng="3058215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rot="16200000">
            <a:off x="2208600" y="1901160"/>
            <a:ext cx="106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858000" y="45720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2971800" y="1600200"/>
            <a:ext cx="0" cy="3124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648320" y="419112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562720" y="22860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800600" y="39625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952880" y="36576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648320" y="35812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800600" y="32767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343400" y="3429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952880" y="27432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410080" y="28954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257800" y="30481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257800" y="32767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562720" y="33526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886200" y="3352680"/>
            <a:ext cx="0" cy="144792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809880" y="3276720"/>
            <a:ext cx="15264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rot="21576000">
            <a:off x="5486400" y="225396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ntera efic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362320" y="373392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895480" y="3886200"/>
            <a:ext cx="15264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2971800" y="1828440"/>
            <a:ext cx="236232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114800" y="28195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114800" y="2819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rot="18986400">
            <a:off x="4149000" y="1980360"/>
            <a:ext cx="88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 flipH="1">
            <a:off x="3884760" y="2271240"/>
            <a:ext cx="5029200" cy="2270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552" y="143"/>
                </a:moveTo>
                <a:arcTo wR="10800" hR="10800" stAng="-4839876" swAng="4716144"/>
                <a:lnTo>
                  <a:pt x="10800" y="10800"/>
                </a:lnTo>
                <a:close/>
              </a:path>
              <a:path fill="none" w="21600" h="21600">
                <a:moveTo>
                  <a:pt x="12552" y="143"/>
                </a:moveTo>
                <a:arcTo wR="10800" hR="10800" stAng="-4839876" swAng="4716144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992160" y="761760"/>
            <a:ext cx="815184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Propiedad de Separa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7720" y="5105160"/>
            <a:ext cx="80773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Propiedad de Separació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tablece que el porfolio de mercado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s el mismo para todos los inversionistas—ellos pued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ar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 aversión al riesgo de su elección del porfolio de merc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971800" y="4724280"/>
            <a:ext cx="457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3885480" y="2270520"/>
            <a:ext cx="5028840" cy="2272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5" y="10467"/>
                </a:moveTo>
                <a:arcTo wR="10800" hR="10800" stAng="-106075" swAng="3058215"/>
                <a:lnTo>
                  <a:pt x="10800" y="10800"/>
                </a:lnTo>
                <a:close/>
              </a:path>
              <a:path fill="none" w="21600" h="21600">
                <a:moveTo>
                  <a:pt x="21595" y="10467"/>
                </a:moveTo>
                <a:arcTo wR="10800" hR="10800" stAng="-106075" swAng="3058215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rot="16200000">
            <a:off x="2208600" y="1901160"/>
            <a:ext cx="106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858000" y="46483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V="1">
            <a:off x="2971800" y="1600200"/>
            <a:ext cx="0" cy="3124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648320" y="419112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562720" y="22860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800600" y="39625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952880" y="36576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648320" y="35812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800600" y="32767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343400" y="3429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952880" y="27432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410080" y="28954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257800" y="30481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257800" y="32767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562720" y="33526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886200" y="3352680"/>
            <a:ext cx="0" cy="144792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809880" y="3276720"/>
            <a:ext cx="15264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rot="21576000">
            <a:off x="5486400" y="225396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ntera efic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362320" y="373392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895480" y="3886200"/>
            <a:ext cx="15264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2971800" y="1828440"/>
            <a:ext cx="236232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114800" y="28195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114800" y="2819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rot="18986400">
            <a:off x="4149000" y="1920240"/>
            <a:ext cx="88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 flipH="1">
            <a:off x="3884760" y="2271240"/>
            <a:ext cx="5029200" cy="2270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552" y="143"/>
                </a:moveTo>
                <a:arcTo wR="10800" hR="10800" stAng="-4839876" swAng="4716144"/>
                <a:lnTo>
                  <a:pt x="10800" y="10800"/>
                </a:lnTo>
                <a:close/>
              </a:path>
              <a:path fill="none" w="21600" h="21600">
                <a:moveTo>
                  <a:pt x="12552" y="143"/>
                </a:moveTo>
                <a:arcTo wR="10800" hR="10800" stAng="-4839876" swAng="4716144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1055160" y="5051520"/>
            <a:ext cx="740268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aversión al riesgo del inversionista es revelada en su elección de donde ubicarse en la línea de mercado de capitales—no en su elección de la lín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971800" y="4724280"/>
            <a:ext cx="457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3885480" y="2270520"/>
            <a:ext cx="5028840" cy="2272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5" y="10467"/>
                </a:moveTo>
                <a:arcTo wR="10800" hR="10800" stAng="-106075" swAng="3058215"/>
                <a:lnTo>
                  <a:pt x="10800" y="10800"/>
                </a:lnTo>
                <a:close/>
              </a:path>
              <a:path fill="none" w="21600" h="21600">
                <a:moveTo>
                  <a:pt x="21595" y="10467"/>
                </a:moveTo>
                <a:arcTo wR="10800" hR="10800" stAng="-106075" swAng="3058215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rot="16200000">
            <a:off x="2208600" y="1901160"/>
            <a:ext cx="106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858000" y="46483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2971800" y="1600200"/>
            <a:ext cx="0" cy="3124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648320" y="419112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562720" y="22860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800600" y="39625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952880" y="36576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648320" y="35812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800600" y="32767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343400" y="3429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952880" y="27432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410080" y="28954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257800" y="30481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257800" y="32767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562720" y="33526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886200" y="3352680"/>
            <a:ext cx="0" cy="144792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809880" y="3276720"/>
            <a:ext cx="15264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rot="21576000">
            <a:off x="5486400" y="225396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ntera efic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362320" y="373392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895480" y="3886200"/>
            <a:ext cx="15264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2971800" y="1828440"/>
            <a:ext cx="236232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114800" y="28195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114800" y="2819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971800" y="38098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429000" y="3429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657600" y="32004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191120" y="27432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343400" y="25909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648320" y="236232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876920" y="213372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181480" y="19051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rot="18986400">
            <a:off x="4149000" y="1920240"/>
            <a:ext cx="88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124080" y="36576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352680" y="35053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992160" y="759600"/>
            <a:ext cx="8151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Propiedad de Separa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96600" y="1234800"/>
            <a:ext cx="776124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ilibrio de Merc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294920" y="5257800"/>
            <a:ext cx="7581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ónde los inversionistas eligen estar en la Línea de Mercado de Capitales depende de su tolerancia al riesgo. El punto importante es que todos tienen la misma LM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971800" y="4724280"/>
            <a:ext cx="457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3885480" y="2271240"/>
            <a:ext cx="5028840" cy="2271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552" y="143"/>
                </a:moveTo>
                <a:arcTo wR="10800" hR="10800" stAng="-4839876" swAng="7792016"/>
                <a:lnTo>
                  <a:pt x="10800" y="10800"/>
                </a:lnTo>
                <a:close/>
              </a:path>
              <a:path fill="none" w="21600" h="21600">
                <a:moveTo>
                  <a:pt x="12552" y="143"/>
                </a:moveTo>
                <a:arcTo wR="10800" hR="10800" stAng="-4839876" swAng="7792016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800600" y="4038480"/>
            <a:ext cx="110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100% bo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943600" y="2209680"/>
            <a:ext cx="110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100% ac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2971800" y="1904760"/>
            <a:ext cx="236232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057400" y="358128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rot="16200000">
            <a:off x="2208600" y="1901160"/>
            <a:ext cx="106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858000" y="4648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2971800" y="1600200"/>
            <a:ext cx="0" cy="3124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648320" y="419112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114800" y="28195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895480" y="3733920"/>
            <a:ext cx="15264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191120" y="2743200"/>
            <a:ext cx="121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Fondo Balance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562720" y="22860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rot="19338000">
            <a:off x="4344120" y="18284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352680" y="3429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971800" y="37339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733920" y="31240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495680" y="25146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76920" y="22096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257800" y="19051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114800" y="28195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96600" y="1234800"/>
            <a:ext cx="776124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ilibrio de Merc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85440" y="5051160"/>
            <a:ext cx="7736040" cy="92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dos los inversionistas tienen la misma LMC, porque ellos tienen el mismo porfolio riesgoso óptimo, dada la tasa libre de riesg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971800" y="4724280"/>
            <a:ext cx="457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3885480" y="2271240"/>
            <a:ext cx="5028840" cy="2271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552" y="143"/>
                </a:moveTo>
                <a:arcTo wR="10800" hR="10800" stAng="-4839876" swAng="7792016"/>
                <a:lnTo>
                  <a:pt x="10800" y="10800"/>
                </a:lnTo>
                <a:close/>
              </a:path>
              <a:path fill="none" w="21600" h="21600">
                <a:moveTo>
                  <a:pt x="12552" y="143"/>
                </a:moveTo>
                <a:arcTo wR="10800" hR="10800" stAng="-4839876" swAng="7792016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800600" y="4038480"/>
            <a:ext cx="110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100% bo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943600" y="2209680"/>
            <a:ext cx="110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100% ac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2971800" y="1904760"/>
            <a:ext cx="236232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057400" y="358128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rot="16200000">
            <a:off x="2208600" y="1901160"/>
            <a:ext cx="106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858000" y="4648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2971800" y="1600200"/>
            <a:ext cx="0" cy="3124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48320" y="419112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114800" y="28195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895480" y="3733920"/>
            <a:ext cx="15264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191120" y="2743200"/>
            <a:ext cx="1104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Porfolio Riesgoso Opti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562720" y="22860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rot="19338000">
            <a:off x="4344120" y="18284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352680" y="3429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971800" y="37339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733920" y="31240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495680" y="25146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876920" y="22096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5257800" y="19051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96600" y="1234800"/>
            <a:ext cx="776124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Propiedad de Sepa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990360" y="5028840"/>
            <a:ext cx="78483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propiedad de separación implica que la elección del porfolio puede ser separada en dos tareas: (1) determinar el porfolio riesgoso óptimo, y (2) seleccionar un punto sobre la LM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971800" y="4724280"/>
            <a:ext cx="457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H="1">
            <a:off x="3885480" y="2271240"/>
            <a:ext cx="5028840" cy="2271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552" y="143"/>
                </a:moveTo>
                <a:arcTo wR="10800" hR="10800" stAng="-4839876" swAng="7792016"/>
                <a:lnTo>
                  <a:pt x="10800" y="10800"/>
                </a:lnTo>
                <a:close/>
              </a:path>
              <a:path fill="none" w="21600" h="21600">
                <a:moveTo>
                  <a:pt x="12552" y="143"/>
                </a:moveTo>
                <a:arcTo wR="10800" hR="10800" stAng="-4839876" swAng="7792016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800600" y="4038480"/>
            <a:ext cx="110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100% bo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943600" y="2209680"/>
            <a:ext cx="110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100% ac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971800" y="1904760"/>
            <a:ext cx="236232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057400" y="358128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rot="16200000">
            <a:off x="2208600" y="1901160"/>
            <a:ext cx="106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858000" y="4648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V="1">
            <a:off x="2971800" y="1600200"/>
            <a:ext cx="0" cy="3124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648320" y="419112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114800" y="28195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895480" y="3733920"/>
            <a:ext cx="15264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191120" y="2743200"/>
            <a:ext cx="1104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Porfolio Riesgoso Opti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562720" y="22860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rot="19338000">
            <a:off x="4344120" y="18284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352680" y="3429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971800" y="37339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733920" y="31240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495680" y="25146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876920" y="22096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257800" y="19051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8305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folio Riesgoso Optimo con un Activo Libre de Ries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907920" y="5175360"/>
            <a:ext cx="75139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pósito, el porfolio riesgoso óptimo depende de la tasa libre de riesgo como también de los activos riesgos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971800" y="4724280"/>
            <a:ext cx="457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H="1">
            <a:off x="3885480" y="2271240"/>
            <a:ext cx="5028840" cy="2271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552" y="143"/>
                </a:moveTo>
                <a:arcTo wR="10800" hR="10800" stAng="-4839876" swAng="7792016"/>
                <a:lnTo>
                  <a:pt x="10800" y="10800"/>
                </a:lnTo>
                <a:close/>
              </a:path>
              <a:path fill="none" w="21600" h="21600">
                <a:moveTo>
                  <a:pt x="12552" y="143"/>
                </a:moveTo>
                <a:arcTo wR="10800" hR="10800" stAng="-4839876" swAng="7792016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800600" y="4038480"/>
            <a:ext cx="110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100% bo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943600" y="2209680"/>
            <a:ext cx="110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100% ac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V="1">
            <a:off x="2971800" y="1981080"/>
            <a:ext cx="297180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rot="16200000">
            <a:off x="2208600" y="1901160"/>
            <a:ext cx="106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858000" y="4648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V="1">
            <a:off x="2971800" y="1600200"/>
            <a:ext cx="0" cy="3124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648320" y="419112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648320" y="25146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895480" y="3352680"/>
            <a:ext cx="15264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438800" y="2971800"/>
            <a:ext cx="1104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Primer Porfolio Riesgoso Opti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562720" y="22860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2971800" y="1904760"/>
            <a:ext cx="236232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114800" y="28195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895480" y="3733920"/>
            <a:ext cx="15264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562720" y="2895480"/>
            <a:ext cx="2095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gundo Porfolio Riesgoso Opti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rot="19338000">
            <a:off x="4359240" y="174672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M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rot="20160000">
            <a:off x="5344920" y="1597680"/>
            <a:ext cx="99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M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6" name=""/>
              <p:cNvSpPr txBox="1"/>
              <p:nvPr/>
            </p:nvSpPr>
            <p:spPr>
              <a:xfrm>
                <a:off x="2541600" y="3530520"/>
                <a:ext cx="43020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f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7" name=""/>
              <p:cNvSpPr txBox="1"/>
              <p:nvPr/>
            </p:nvSpPr>
            <p:spPr>
              <a:xfrm>
                <a:off x="2514600" y="2971800"/>
                <a:ext cx="43020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f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668" name=""/>
          <p:cNvSpPr/>
          <p:nvPr/>
        </p:nvSpPr>
        <p:spPr>
          <a:xfrm flipH="1" flipV="1">
            <a:off x="4723920" y="2590560"/>
            <a:ext cx="83844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H="1" flipV="1">
            <a:off x="4191120" y="2895480"/>
            <a:ext cx="30456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V="1">
            <a:off x="2286000" y="33526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800" y="657360"/>
            <a:ext cx="7772400" cy="10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ción de Riesgo cuando los Inversionistas mantienen el Porfolio de Mer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 investigadores han mostrado que la mejor medida del riesgo de un activo en un porfolio grande es 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del activ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beta mide la sensibilidad de un activo a movimientos en el porfolio de merc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3" name=""/>
              <p:cNvSpPr txBox="1"/>
              <p:nvPr/>
            </p:nvSpPr>
            <p:spPr>
              <a:xfrm>
                <a:off x="3429000" y="3986280"/>
                <a:ext cx="3276720" cy="13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914400" y="457200"/>
            <a:ext cx="7050240" cy="53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nd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 regres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rot="16200000">
            <a:off x="2201400" y="2156760"/>
            <a:ext cx="2235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torno del Ac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710320" y="4175280"/>
            <a:ext cx="3873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227640" y="3809880"/>
            <a:ext cx="19256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torno del  mercado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343400" y="5334120"/>
            <a:ext cx="420372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0" y="380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257800" y="32004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V="1">
            <a:off x="6477120" y="2438280"/>
            <a:ext cx="0" cy="773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943600" y="2895480"/>
            <a:ext cx="294624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endiente =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828800" y="3809880"/>
            <a:ext cx="6858000" cy="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V="1">
            <a:off x="3581280" y="1142640"/>
            <a:ext cx="0" cy="487692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1905120" y="1536840"/>
            <a:ext cx="5715000" cy="3949200"/>
            <a:chOff x="1905120" y="1536840"/>
            <a:chExt cx="5715000" cy="3949200"/>
          </a:xfrm>
        </p:grpSpPr>
        <p:sp>
          <p:nvSpPr>
            <p:cNvPr id="686" name=""/>
            <p:cNvSpPr/>
            <p:nvPr/>
          </p:nvSpPr>
          <p:spPr>
            <a:xfrm rot="19531800">
              <a:off x="3962520" y="2441160"/>
              <a:ext cx="3336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Línea Característic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V="1">
              <a:off x="1905120" y="1599840"/>
              <a:ext cx="5715000" cy="388620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8" name=""/>
          <p:cNvSpPr/>
          <p:nvPr/>
        </p:nvSpPr>
        <p:spPr>
          <a:xfrm>
            <a:off x="1828800" y="5105520"/>
            <a:ext cx="76320" cy="75960"/>
          </a:xfrm>
          <a:prstGeom prst="ellipse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666880" y="4495680"/>
            <a:ext cx="76320" cy="76320"/>
          </a:xfrm>
          <a:prstGeom prst="ellipse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666880" y="5410080"/>
            <a:ext cx="76320" cy="76320"/>
          </a:xfrm>
          <a:prstGeom prst="ellipse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276720" y="4114800"/>
            <a:ext cx="75960" cy="76320"/>
          </a:xfrm>
          <a:prstGeom prst="ellipse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038480" y="4267080"/>
            <a:ext cx="76320" cy="76320"/>
          </a:xfrm>
          <a:prstGeom prst="ellipse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419720" y="3505320"/>
            <a:ext cx="75960" cy="75960"/>
          </a:xfrm>
          <a:prstGeom prst="ellipse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572000" y="3657600"/>
            <a:ext cx="76320" cy="76320"/>
          </a:xfrm>
          <a:prstGeom prst="ellipse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724280" y="2438280"/>
            <a:ext cx="76320" cy="76320"/>
          </a:xfrm>
          <a:prstGeom prst="ellipse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3886200" y="3886200"/>
            <a:ext cx="76320" cy="76320"/>
          </a:xfrm>
          <a:prstGeom prst="ellipse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105520" y="3505320"/>
            <a:ext cx="75960" cy="75960"/>
          </a:xfrm>
          <a:prstGeom prst="ellipse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5257800" y="2666880"/>
            <a:ext cx="76320" cy="76320"/>
          </a:xfrm>
          <a:prstGeom prst="ellipse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553080" y="2743200"/>
            <a:ext cx="76320" cy="76320"/>
          </a:xfrm>
          <a:prstGeom prst="ellipse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781680" y="1676520"/>
            <a:ext cx="76320" cy="75960"/>
          </a:xfrm>
          <a:prstGeom prst="ellipse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934320" y="2286000"/>
            <a:ext cx="75960" cy="76320"/>
          </a:xfrm>
          <a:prstGeom prst="ellipse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819520" y="4800600"/>
            <a:ext cx="75960" cy="76320"/>
          </a:xfrm>
          <a:prstGeom prst="ellipse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581280" y="4267080"/>
            <a:ext cx="76320" cy="76320"/>
          </a:xfrm>
          <a:prstGeom prst="ellipse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943600" y="2666880"/>
            <a:ext cx="76320" cy="76320"/>
          </a:xfrm>
          <a:prstGeom prst="ellipse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901440"/>
            <a:ext cx="77724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Retorno Esperado, Varianza, y Covarian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143000" y="1981080"/>
          <a:ext cx="7620120" cy="300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981080"/>
                    <a:ext cx="7620120" cy="30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6172200" y="160020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81280" y="1600200"/>
            <a:ext cx="2438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1290240"/>
            <a:ext cx="77724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Fórmula para el B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6" name=""/>
              <p:cNvSpPr txBox="1"/>
              <p:nvPr/>
            </p:nvSpPr>
            <p:spPr>
              <a:xfrm>
                <a:off x="3429000" y="2303640"/>
                <a:ext cx="3276720" cy="13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07" name=""/>
          <p:cNvSpPr/>
          <p:nvPr/>
        </p:nvSpPr>
        <p:spPr>
          <a:xfrm>
            <a:off x="1676520" y="411480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ramente, el estimado del beta dependerá en la elección del proxy para el porfolio de merc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901440"/>
            <a:ext cx="77724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 Relación entre Riesgo y Retorno Esperado (CAP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orno esperado del Mercad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914400" y="3276720"/>
            <a:ext cx="8001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orno esperado de un activo individua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1" name=""/>
              <p:cNvSpPr txBox="1"/>
              <p:nvPr/>
            </p:nvSpPr>
            <p:spPr>
              <a:xfrm>
                <a:off x="1154160" y="2470320"/>
                <a:ext cx="7066080" cy="65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R</m:t>
                            </m:r>
                          </m:e>
                        </m:ba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Premio por Riesgo de Mercado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2" name=""/>
              <p:cNvSpPr txBox="1"/>
              <p:nvPr/>
            </p:nvSpPr>
            <p:spPr>
              <a:xfrm>
                <a:off x="2635200" y="4129200"/>
                <a:ext cx="410220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R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×</m:t>
                    </m:r>
                    <m:r>
                      <m:t xml:space="preserve">(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R</m:t>
                            </m:r>
                          </m:e>
                        </m:ba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3" name=""/>
          <p:cNvSpPr/>
          <p:nvPr/>
        </p:nvSpPr>
        <p:spPr>
          <a:xfrm rot="16200000">
            <a:off x="5715000" y="4267080"/>
            <a:ext cx="304560" cy="1523880"/>
          </a:xfrm>
          <a:custGeom>
            <a:avLst/>
            <a:gdLst>
              <a:gd name="textAreaLeft" fmla="*/ 194760 w 304560"/>
              <a:gd name="textAreaRight" fmla="*/ 304920 w 304560"/>
              <a:gd name="textAreaTop" fmla="*/ 57960 h 1523880"/>
              <a:gd name="textAreaBottom" fmla="*/ 146592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14"/>
                  <a:pt x="10800" y="2628"/>
                </a:cubicBezTo>
                <a:lnTo>
                  <a:pt x="10800" y="7579"/>
                </a:lnTo>
                <a:cubicBezTo>
                  <a:pt x="10800" y="8893"/>
                  <a:pt x="5400" y="10207"/>
                  <a:pt x="0" y="10207"/>
                </a:cubicBezTo>
                <a:cubicBezTo>
                  <a:pt x="5400" y="10207"/>
                  <a:pt x="10800" y="11521"/>
                  <a:pt x="10800" y="12835"/>
                </a:cubicBezTo>
                <a:lnTo>
                  <a:pt x="10800" y="18972"/>
                </a:lnTo>
                <a:cubicBezTo>
                  <a:pt x="10800" y="2028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267080" y="52578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mio por Riesgo de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295280" y="57913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Esto aplica a activos individuales mantenidos dentro de porfolios bien diversificado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85800" y="901440"/>
            <a:ext cx="77724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orno Esperado de un Activo Individ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a fórmula es el Modelo de Valoración de Activos de Capital (CAP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8" name=""/>
              <p:cNvSpPr txBox="1"/>
              <p:nvPr/>
            </p:nvSpPr>
            <p:spPr>
              <a:xfrm>
                <a:off x="1828800" y="2587680"/>
                <a:ext cx="632448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R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×</m:t>
                    </m:r>
                    <m:r>
                      <m:t xml:space="preserve">(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R</m:t>
                            </m:r>
                          </m:e>
                        </m:ba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9" name=""/>
          <p:cNvSpPr/>
          <p:nvPr/>
        </p:nvSpPr>
        <p:spPr>
          <a:xfrm>
            <a:off x="838080" y="5029200"/>
            <a:ext cx="8458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umiendo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,  entonces el retorno esperado 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umiend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,  ento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0" name=""/>
              <p:cNvSpPr txBox="1"/>
              <p:nvPr/>
            </p:nvSpPr>
            <p:spPr>
              <a:xfrm>
                <a:off x="5638680" y="5486400"/>
                <a:ext cx="140976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R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R</m:t>
                            </m:r>
                          </m:e>
                        </m:ba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721" name=""/>
          <p:cNvGrpSpPr/>
          <p:nvPr/>
        </p:nvGrpSpPr>
        <p:grpSpPr>
          <a:xfrm>
            <a:off x="990720" y="3124080"/>
            <a:ext cx="7315200" cy="1557000"/>
            <a:chOff x="990720" y="3124080"/>
            <a:chExt cx="7315200" cy="1557000"/>
          </a:xfrm>
        </p:grpSpPr>
        <p:sp>
          <p:nvSpPr>
            <p:cNvPr id="722" name=""/>
            <p:cNvSpPr/>
            <p:nvPr/>
          </p:nvSpPr>
          <p:spPr>
            <a:xfrm>
              <a:off x="990720" y="3124080"/>
              <a:ext cx="13716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torno Esperado del Activ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514600" y="34894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895480" y="3306600"/>
              <a:ext cx="129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asa Libre de Riesg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038480" y="34894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495680" y="3306600"/>
              <a:ext cx="1524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eta del Activ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019920" y="34894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477120" y="33066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emio por Riesgo de Mercad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76124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ción entre Riesgo y Retorno Esper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971800" y="4724280"/>
            <a:ext cx="457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rot="16200000">
            <a:off x="954360" y="2091600"/>
            <a:ext cx="25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orno Espe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858000" y="4648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V="1">
            <a:off x="2971800" y="1600200"/>
            <a:ext cx="0" cy="3124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4" name=""/>
              <p:cNvSpPr txBox="1"/>
              <p:nvPr/>
            </p:nvSpPr>
            <p:spPr>
              <a:xfrm>
                <a:off x="2666880" y="5638680"/>
                <a:ext cx="410220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R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×</m:t>
                    </m:r>
                    <m:r>
                      <m:t xml:space="preserve">(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R</m:t>
                            </m:r>
                          </m:e>
                        </m:ba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5" name=""/>
          <p:cNvSpPr/>
          <p:nvPr/>
        </p:nvSpPr>
        <p:spPr>
          <a:xfrm flipV="1">
            <a:off x="2971800" y="2361960"/>
            <a:ext cx="3581280" cy="160020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6" name=""/>
              <p:cNvSpPr txBox="1"/>
              <p:nvPr/>
            </p:nvSpPr>
            <p:spPr>
              <a:xfrm>
                <a:off x="2462040" y="3733920"/>
                <a:ext cx="58608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37" name=""/>
          <p:cNvSpPr/>
          <p:nvPr/>
        </p:nvSpPr>
        <p:spPr>
          <a:xfrm flipV="1">
            <a:off x="4800600" y="3123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819520" y="396252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971800" y="31240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4495680" y="4724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1" name=""/>
              <p:cNvSpPr txBox="1"/>
              <p:nvPr/>
            </p:nvSpPr>
            <p:spPr>
              <a:xfrm>
                <a:off x="2405160" y="2843280"/>
                <a:ext cx="65412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42" name=""/>
          <p:cNvSpPr/>
          <p:nvPr/>
        </p:nvSpPr>
        <p:spPr>
          <a:xfrm>
            <a:off x="2819520" y="312408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3" name=""/>
              <p:cNvSpPr txBox="1"/>
              <p:nvPr/>
            </p:nvSpPr>
            <p:spPr>
              <a:xfrm>
                <a:off x="3289320" y="1828800"/>
                <a:ext cx="387360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R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×</m:t>
                    </m:r>
                    <m:r>
                      <m:t xml:space="preserve">(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R</m:t>
                            </m:r>
                          </m:e>
                        </m:ba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76124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ción entre Riesgo y Retorno Esper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971800" y="4724280"/>
            <a:ext cx="457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rot="16200000">
            <a:off x="1593720" y="11476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orno Espe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858000" y="4648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2971800" y="1600200"/>
            <a:ext cx="0" cy="3124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9" name=""/>
              <p:cNvSpPr txBox="1"/>
              <p:nvPr/>
            </p:nvSpPr>
            <p:spPr>
              <a:xfrm>
                <a:off x="3733920" y="5122800"/>
                <a:ext cx="158580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0" name=""/>
          <p:cNvSpPr/>
          <p:nvPr/>
        </p:nvSpPr>
        <p:spPr>
          <a:xfrm flipV="1">
            <a:off x="2971800" y="2285640"/>
            <a:ext cx="3657600" cy="167652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V="1">
            <a:off x="5791320" y="2666520"/>
            <a:ext cx="0" cy="20574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2209680" y="3733920"/>
            <a:ext cx="762120" cy="482400"/>
            <a:chOff x="2209680" y="3733920"/>
            <a:chExt cx="762120" cy="482400"/>
          </a:xfrm>
        </p:grpSpPr>
        <mc:AlternateContent>
          <mc:Choice xmlns:a14="http://schemas.microsoft.com/office/drawing/2010/main" Requires="a14">
            <p:sp>
              <p:nvSpPr>
                <p:cNvPr id="753" name=""/>
                <p:cNvSpPr txBox="1"/>
                <p:nvPr/>
              </p:nvSpPr>
              <p:spPr>
                <a:xfrm>
                  <a:off x="2209680" y="3733920"/>
                  <a:ext cx="655920" cy="48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r>
                        <m:rPr>
                          <m:lit/>
                          <m:nor/>
                        </m:rPr>
                        <m:t xml:space="preserve">%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54" name=""/>
            <p:cNvSpPr/>
            <p:nvPr/>
          </p:nvSpPr>
          <p:spPr>
            <a:xfrm>
              <a:off x="2819520" y="3962520"/>
              <a:ext cx="152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5" name=""/>
          <p:cNvSpPr/>
          <p:nvPr/>
        </p:nvSpPr>
        <p:spPr>
          <a:xfrm>
            <a:off x="2971800" y="2666880"/>
            <a:ext cx="28195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486400" y="4724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7" name=""/>
              <p:cNvSpPr txBox="1"/>
              <p:nvPr/>
            </p:nvSpPr>
            <p:spPr>
              <a:xfrm>
                <a:off x="1828800" y="2489040"/>
                <a:ext cx="116676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8" name=""/>
              <p:cNvSpPr txBox="1"/>
              <p:nvPr/>
            </p:nvSpPr>
            <p:spPr>
              <a:xfrm>
                <a:off x="1981080" y="5105520"/>
                <a:ext cx="1343160" cy="61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9" name=""/>
              <p:cNvSpPr txBox="1"/>
              <p:nvPr/>
            </p:nvSpPr>
            <p:spPr>
              <a:xfrm>
                <a:off x="5638680" y="5122800"/>
                <a:ext cx="186228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R</m:t>
                            </m:r>
                          </m:e>
                        </m:ba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0" name=""/>
              <p:cNvSpPr txBox="1"/>
              <p:nvPr/>
            </p:nvSpPr>
            <p:spPr>
              <a:xfrm>
                <a:off x="2057400" y="5745240"/>
                <a:ext cx="566424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R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85800" y="1290240"/>
            <a:ext cx="77724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. Resumen y Conclus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912600" y="1752480"/>
            <a:ext cx="81104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retorno esperado y la varianza de un porfolio de dos activos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stán dados p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3" name=""/>
              <p:cNvSpPr txBox="1"/>
              <p:nvPr/>
            </p:nvSpPr>
            <p:spPr>
              <a:xfrm>
                <a:off x="2014560" y="3276720"/>
                <a:ext cx="5952960" cy="48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4" name=""/>
              <p:cNvSpPr txBox="1"/>
              <p:nvPr/>
            </p:nvSpPr>
            <p:spPr>
              <a:xfrm>
                <a:off x="2948040" y="2819520"/>
                <a:ext cx="347652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5" name=""/>
          <p:cNvSpPr/>
          <p:nvPr/>
        </p:nvSpPr>
        <p:spPr>
          <a:xfrm>
            <a:off x="914400" y="4114800"/>
            <a:ext cx="80010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67173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4a1a"/>
                </a:solidFill>
                <a:latin typeface="Times New Roman"/>
              </a:rPr>
              <a:t>Variando </a:t>
            </a:r>
            <a:r>
              <a:rPr b="0" i="1" lang="en-US" sz="2400" spc="-1" strike="noStrike">
                <a:solidFill>
                  <a:srgbClr val="644a1a"/>
                </a:solidFill>
                <a:latin typeface="Times New Roman"/>
              </a:rPr>
              <a:t>w</a:t>
            </a:r>
            <a:r>
              <a:rPr b="0" i="1" lang="en-US" sz="2400" spc="-1" strike="noStrike" baseline="-25000">
                <a:solidFill>
                  <a:srgbClr val="644a1a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644a1a"/>
                </a:solidFill>
                <a:latin typeface="Times New Roman"/>
              </a:rPr>
              <a:t>, uno puede trazar el set eficiente de porfolios. El grado de curvatura refleja el efecto de la diversificación: a menor la correlación entre los dos activos, mayor la diversific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7173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4a1a"/>
                </a:solidFill>
                <a:latin typeface="Times New Roman"/>
              </a:rPr>
              <a:t>La misma forma general se mantiene en un mundo con muchos ac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set eficiente de activos riesgosos puede ser combinado con la situación de pedir prestado y prestar sin riesgo. En este caso, un inversionista racional siempre escogerá mantener el porfolio de activos riesgosos representado por el porfolio de merc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H="1">
            <a:off x="5180040" y="3871440"/>
            <a:ext cx="5029200" cy="2270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552" y="143"/>
                </a:moveTo>
                <a:arcTo wR="10800" hR="10800" stAng="-4839876" swAng="4716144"/>
                <a:lnTo>
                  <a:pt x="10800" y="10800"/>
                </a:lnTo>
                <a:close/>
              </a:path>
              <a:path fill="none" w="21600" h="21600">
                <a:moveTo>
                  <a:pt x="12552" y="143"/>
                </a:moveTo>
                <a:arcTo wR="10800" hR="10800" stAng="-4839876" swAng="4716144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4267080" y="6324480"/>
            <a:ext cx="457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H="1">
            <a:off x="5180760" y="3870720"/>
            <a:ext cx="5028840" cy="2272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5" y="10467"/>
                </a:moveTo>
                <a:arcTo wR="10800" hR="10800" stAng="-106075" swAng="3058215"/>
                <a:lnTo>
                  <a:pt x="10800" y="10800"/>
                </a:lnTo>
                <a:close/>
              </a:path>
              <a:path fill="none" w="21600" h="21600">
                <a:moveTo>
                  <a:pt x="21595" y="10467"/>
                </a:moveTo>
                <a:arcTo wR="10800" hR="10800" stAng="-106075" swAng="3058215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rot="16200000">
            <a:off x="3507120" y="3501360"/>
            <a:ext cx="106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8153280" y="6248520"/>
            <a:ext cx="838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4267080" y="3200400"/>
            <a:ext cx="0" cy="3124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5943600" y="57913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858000" y="38862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6095880" y="55627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248520" y="52578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943600" y="51814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095880" y="48769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638680" y="50292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248520" y="43434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705720" y="44956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6553080" y="46483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553080" y="48769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6858000" y="49528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rot="21576000">
            <a:off x="6781680" y="385416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ntera efic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581280" y="533412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4191120" y="5486400"/>
            <a:ext cx="15228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V="1">
            <a:off x="4267080" y="3428640"/>
            <a:ext cx="236232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5410080" y="44197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410080" y="4419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8986400">
            <a:off x="5444280" y="3580560"/>
            <a:ext cx="88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914400" y="4114800"/>
            <a:ext cx="2971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67173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4a1a"/>
                </a:solidFill>
                <a:latin typeface="Times New Roman"/>
              </a:rPr>
              <a:t>Entonces, el inversionista selecciona un punto sobre la LM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6858000" y="39625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4648320" y="510552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4267080" y="54100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5029200" y="47242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5943600" y="39625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6172200" y="37339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553080" y="3429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title"/>
          </p:nvPr>
        </p:nvSpPr>
        <p:spPr>
          <a:xfrm>
            <a:off x="685800" y="1170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. Resumen y Conclus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contribución de un activo al riesgo de un porfolio bien diversificado es proporcional a la covarianza del retorno del activo con el retorno del mercado. Esta contribución es llamada el be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914400" y="4343400"/>
            <a:ext cx="8001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67173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4a1a"/>
                </a:solidFill>
                <a:latin typeface="Times New Roman"/>
              </a:rPr>
              <a:t>El CAPM establece que el retorno esperado de un activo está positivamente relacionado al beta del activ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3" name=""/>
              <p:cNvSpPr txBox="1"/>
              <p:nvPr/>
            </p:nvSpPr>
            <p:spPr>
              <a:xfrm>
                <a:off x="3429000" y="3384720"/>
                <a:ext cx="251460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4" name=""/>
              <p:cNvSpPr txBox="1"/>
              <p:nvPr/>
            </p:nvSpPr>
            <p:spPr>
              <a:xfrm>
                <a:off x="2666880" y="5102280"/>
                <a:ext cx="410220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R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×</m:t>
                    </m:r>
                    <m:r>
                      <m:t xml:space="preserve">(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R</m:t>
                            </m:r>
                          </m:e>
                        </m:ba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5" name="PlaceHolder 2"/>
          <p:cNvSpPr>
            <a:spLocks noGrp="1"/>
          </p:cNvSpPr>
          <p:nvPr>
            <p:ph type="title"/>
          </p:nvPr>
        </p:nvSpPr>
        <p:spPr>
          <a:xfrm>
            <a:off x="685800" y="1170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. Resumen y Conclus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143000" y="1219320"/>
          <a:ext cx="7543800" cy="3000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219320"/>
                    <a:ext cx="7543800" cy="30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71200" y="152280"/>
            <a:ext cx="8163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Retorno Esperado, Varianza, y Covarian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657600" y="3124080"/>
            <a:ext cx="106668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981080" y="3352320"/>
            <a:ext cx="1600200" cy="16765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338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70044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981000" y="4954680"/>
                <a:ext cx="8010720" cy="14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6172200" y="160020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81280" y="1600200"/>
            <a:ext cx="2438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1143000" y="1219320"/>
          <a:ext cx="7543800" cy="3000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219320"/>
                    <a:ext cx="7543800" cy="30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6248520" y="3124080"/>
            <a:ext cx="106668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1752480" y="3428640"/>
            <a:ext cx="4419720" cy="1600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0338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70044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1033560" y="4954680"/>
                <a:ext cx="7797600" cy="14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6172200" y="160020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81280" y="1600200"/>
            <a:ext cx="2438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71200" y="152280"/>
            <a:ext cx="8163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Retorno Esperado, Varianza, y Covarian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1143000" y="1219320"/>
          <a:ext cx="7543800" cy="3000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219320"/>
                    <a:ext cx="7543800" cy="30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4952880" y="2209680"/>
            <a:ext cx="990720" cy="3812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4495680" y="2514600"/>
            <a:ext cx="381240" cy="2286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338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2960640" y="5029200"/>
                <a:ext cx="405936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−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6172200" y="160020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81280" y="1600200"/>
            <a:ext cx="2438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71200" y="152280"/>
            <a:ext cx="8163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Retorno Esperado, Varianza, y Covarian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1143000" y="1219320"/>
          <a:ext cx="7543800" cy="3000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219320"/>
                    <a:ext cx="7543800" cy="30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4876920" y="2514600"/>
            <a:ext cx="990360" cy="380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4572000" y="2819160"/>
            <a:ext cx="304920" cy="20574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0338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70044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3124080" y="4800600"/>
                <a:ext cx="377352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6172200" y="160020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581280" y="1600200"/>
            <a:ext cx="2438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71200" y="152280"/>
            <a:ext cx="8163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Retorno Esperado, Varianza, y Covarian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1143000" y="1219320"/>
          <a:ext cx="7543800" cy="3000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219320"/>
                    <a:ext cx="7543800" cy="30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4876920" y="2819520"/>
            <a:ext cx="99036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5181480" y="3200040"/>
            <a:ext cx="0" cy="1523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0338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70044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2951280" y="4800600"/>
                <a:ext cx="405900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9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6172200" y="160020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1280" y="1600200"/>
            <a:ext cx="2438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71200" y="152280"/>
            <a:ext cx="8163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Retorno Esperado, Varianza, y Covarian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8T22:39:49Z</dcterms:created>
  <dc:creator>FC</dc:creator>
  <dc:description/>
  <dc:language>en-US</dc:language>
  <cp:lastModifiedBy>Fernando</cp:lastModifiedBy>
  <dcterms:modified xsi:type="dcterms:W3CDTF">2005-06-08T22:42:11Z</dcterms:modified>
  <cp:revision>1</cp:revision>
  <dc:subject/>
  <dc:title>CAPM</dc:title>
</cp:coreProperties>
</file>