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17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11.xlsx" ContentType="application/vnd.openxmlformats-officedocument.spreadsheetml.sheet"/>
  <Override PartName="/ppt/embeddings/oleObject4.xlsx" ContentType="application/vnd.openxmlformats-officedocument.spreadsheetml.sheet"/>
  <Override PartName="/ppt/embeddings/oleObject10.xlsx" ContentType="application/vnd.openxmlformats-officedocument.spreadsheetml.sheet"/>
  <Override PartName="/ppt/embeddings/oleObject3.xlsx" ContentType="application/vnd.openxmlformats-officedocument.spreadsheetml.sheet"/>
  <Override PartName="/ppt/embeddings/oleObject22.xlsx" ContentType="application/vnd.openxmlformats-officedocument.spreadsheetml.sheet"/>
  <Override PartName="/ppt/embeddings/oleObject21.xlsx" ContentType="application/vnd.openxmlformats-officedocument.spreadsheetml.shee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7.xlsx" ContentType="application/vnd.openxmlformats-officedocument.spreadsheetml.sheet"/>
  <Override PartName="/ppt/embeddings/oleObject20.xlsx" ContentType="application/vnd.openxmlformats-officedocument.spreadsheetml.sheet"/>
  <Override PartName="/ppt/embeddings/oleObject18.xlsx" ContentType="application/vnd.openxmlformats-officedocument.spreadsheetml.sheet"/>
  <Override PartName="/ppt/embeddings/oleObject14.xlsx" ContentType="application/vnd.openxmlformats-officedocument.spreadsheetml.sheet"/>
  <Override PartName="/ppt/embeddings/oleObject8.xlsx" ContentType="application/vnd.openxmlformats-officedocument.spreadsheetml.sheet"/>
  <Override PartName="/ppt/embeddings/oleObject19.xlsx" ContentType="application/vnd.openxmlformats-officedocument.spreadsheetml.sheet"/>
  <Override PartName="/ppt/embeddings/oleObject15.xlsx" ContentType="application/vnd.openxmlformats-officedocument.spreadsheetml.sheet"/>
  <Override PartName="/ppt/embeddings/oleObject16.xlsx" ContentType="application/vnd.openxmlformats-officedocument.spreadsheetml.sheet"/>
  <Override PartName="/ppt/embeddings/oleObject9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351-85DC-402A-9793-CC4AC2F5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318-4523-4743-B407-83CDF06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332-C127-4651-90B3-F0FF224E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C6A-41A9-4F4F-9272-AF47C7C7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6CA-2F08-4F26-BE5A-66B0E06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A94-F97F-42AF-8EA7-D855405C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100-CBB4-4AE3-978C-B48DBD1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4A0-3FC8-43A4-81C2-BD5DB14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2D5-F616-49E9-A73C-392C9599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DBB-7A4B-4BC7-B4F3-FE7E0F9D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AE4-6BFC-449F-915A-6785E120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9F3-568F-4306-8DDB-F29E26C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B0E-BCD2-45EA-911A-D00A1277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5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27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28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9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30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31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32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33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34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35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36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37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38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39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40.wmf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ctivos Individ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El Set Eficiente  de 2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edir y Prestar a la Tasa Libre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Equili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Relación entre Riesgo y Retorno Esperado (CA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09880" y="3505320"/>
            <a:ext cx="9907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3657600"/>
            <a:ext cx="6858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4495680"/>
                <a:ext cx="63374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733920" y="3809880"/>
            <a:ext cx="99036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14800" y="419076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49520" y="4726080"/>
                <a:ext cx="3097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0640" y="38088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495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que las acciones tienen un retorno esperado más alto que los bonos y un riesgo mayor. Veamos ahora el tradeoff de riesgo-retorno para un porfolio que es 50% invertido en bonos y 50% invertido en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4300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943600" y="1905120"/>
            <a:ext cx="6858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5440" y="5715000"/>
                <a:ext cx="4649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19320" y="4114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209680"/>
            <a:ext cx="7621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638440" y="5791320"/>
                <a:ext cx="47052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143000" y="4114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51460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52680" y="5867280"/>
                <a:ext cx="507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14300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219320" y="4114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orfolio es un promedio ponderado de los retorno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d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activos en el porfol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04812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63720" y="5943600"/>
                <a:ext cx="4453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52960" y="5194440"/>
                <a:ext cx="3476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19320" y="4114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 tasa de retorno del porfolio de dos activos riesgosos e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276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28960" y="4984920"/>
                <a:ext cx="5924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143000" y="557856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oeficiente de correlación entre los retornos de los fondos accionarios y de bo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447920" y="4343400"/>
            <a:ext cx="7010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la disminución en riesgo que ofrece la diver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rfolio igualmente ponderado (50% en acciones y 50% en bonos) tiene menos riesgo que mantener acciones o bonos sol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29528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9528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90720" y="1447920"/>
          <a:ext cx="3276360" cy="510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32763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2004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91040" y="4924440"/>
            <a:ext cx="38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considerar porfolios con otras ponderaciones además de 50% en acciones y 50% en bo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os Individ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racterísticas de activos individuales que son de interé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y Desviación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rianza y Cor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0" y="129060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060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991040" y="4924440"/>
            <a:ext cx="38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considerar porfolios con otras ponderaciones además de 50% en acciones y 50% en bo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2004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705720" y="32004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248520" y="30481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19920" y="30481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562720" y="29718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486400" y="28195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95880" y="26668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6668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781680" y="25146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7010280" y="25146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238880" y="24382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7467480" y="23623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696080" y="23623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0" y="129528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31528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6483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que algunos porfolios son “mejores” que otros. Ellos tienen retornos más altos para el mismo o menor nivel de riesgo. Ellos componen 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ntera efic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8600">
            <a:off x="5257800" y="2361960"/>
            <a:ext cx="3273480" cy="392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s de Dos Activos con Varias Correla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85480" y="2271240"/>
            <a:ext cx="5028840" cy="22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6577515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65775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4038480"/>
            <a:ext cx="110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267080" y="297180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09880" y="1981080"/>
            <a:ext cx="2133720" cy="2362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5410080" y="2666520"/>
            <a:ext cx="609840" cy="6858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71440" y="2209680"/>
            <a:ext cx="2971800" cy="76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971440" y="2971800"/>
            <a:ext cx="1219320" cy="990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 -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96600" y="686880"/>
            <a:ext cx="7761240" cy="9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/Retorno de Porfolios de Dos Activos: Efectos de la Corr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06360"/>
            <a:ext cx="7772400" cy="39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lación depende del coeficiente de corr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.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nor la correlación, mayor es el potencial de reducción de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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+1.0, no hay reducción de riesgo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1447920"/>
            <a:ext cx="6934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49200"/>
            <a:ext cx="8305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esgo de un Porfolio como una Función del Número de Acciones en el Por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15235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54864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2670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0797000">
            <a:off x="1599480" y="-230760"/>
            <a:ext cx="97520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62" y="33"/>
                </a:moveTo>
                <a:arcTo wR="10800" hR="10800" stAng="-5666931" swAng="5666931"/>
                <a:lnTo>
                  <a:pt x="10800" y="10800"/>
                </a:lnTo>
                <a:close/>
              </a:path>
              <a:path fill="none" w="21600" h="21600">
                <a:moveTo>
                  <a:pt x="9962" y="33"/>
                </a:moveTo>
                <a:arcTo wR="10800" hR="10800" stAng="-5666931" swAng="5666931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4267080"/>
            <a:ext cx="0" cy="121932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4267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iesgo No Diversificable; Riesgo Sistemático;   Riesg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971800"/>
            <a:ext cx="0" cy="129528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4382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iesgo Diversificable; Riesgo Nosistemático; Riesgo Específico a la Firma; Riesgo U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2590920"/>
            <a:ext cx="571320" cy="1371600"/>
          </a:xfrm>
          <a:custGeom>
            <a:avLst/>
            <a:gdLst>
              <a:gd name="textAreaLeft" fmla="*/ 365040 w 571320"/>
              <a:gd name="textAreaRight" fmla="*/ 571680 w 571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133360" y="327672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541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295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un gran porfolio los términos de varianza son diversificados efectivamente, pero no los términos de covaria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lo tanto la diversificación puede eliminar algo, pero no todo el riesgo de activos individ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3809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esgo del Por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2160" y="457200"/>
            <a:ext cx="815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50302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e un mundo con muchos activos riesgosos; todavía podemos identificar 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de oportunid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combinaciones de riesgo-retorno de varios porfol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268280" y="555588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 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de oportunida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demos identificar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folio de mínima varian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743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folio de mínima 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92160" y="4554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518004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ección del set de oportunidades sobre el porfolio de mínima varianza es la frontera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0213400">
            <a:off x="358128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2743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folio de mínima 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992160" y="4554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 Riesgoso Óptimo con un Activo Libre de Ries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8280" y="540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más de acciones y bonos, considere un mundo que también tiene activos libres de riesgo como T-bills (certificados de tesorer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885480" y="2271600"/>
            <a:ext cx="5028840" cy="227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9" y="8887"/>
                </a:moveTo>
                <a:arcTo wR="10800" hR="10800" stAng="-612303" swAng="3564443"/>
                <a:lnTo>
                  <a:pt x="10800" y="10800"/>
                </a:lnTo>
                <a:close/>
              </a:path>
              <a:path fill="none" w="21600" h="21600">
                <a:moveTo>
                  <a:pt x="21429" y="8887"/>
                </a:moveTo>
                <a:arcTo wR="10800" hR="10800" stAng="-612303" swAng="356444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884040" y="2270160"/>
            <a:ext cx="5028840" cy="22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3" y="11176"/>
                </a:moveTo>
                <a:arcTo wR="10800" hR="10800" stAng="119636" swAng="2832504"/>
                <a:lnTo>
                  <a:pt x="10800" y="10800"/>
                </a:lnTo>
                <a:close/>
              </a:path>
              <a:path fill="none" w="21600" h="21600">
                <a:moveTo>
                  <a:pt x="21593" y="11176"/>
                </a:moveTo>
                <a:arcTo wR="10800" hR="10800" stAng="119636" swAng="2832504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563400"/>
            <a:ext cx="8305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restar y Pedir Prestado sin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1562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hora los inversionistas pueden asignar su dinero entre los T-bills y un fondo balanc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885480" y="227088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9" y="9757"/>
                </a:moveTo>
                <a:arcTo wR="10800" hR="10800" stAng="-332639" swAng="3284779"/>
                <a:lnTo>
                  <a:pt x="10800" y="10800"/>
                </a:lnTo>
                <a:close/>
              </a:path>
              <a:path fill="none" w="21600" h="21600">
                <a:moveTo>
                  <a:pt x="21549" y="9757"/>
                </a:moveTo>
                <a:arcTo wR="10800" hR="10800" stAng="-332639" swAng="328477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ndo Balanc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8039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 los siguientes dos activos riesgosos. Hay una prob. de 1/3 para cada estado de la economía y los únicos activos son un fondo accionario y un fondo de 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905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1727280"/>
          <a:ext cx="7848360" cy="185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27280"/>
                    <a:ext cx="784836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789120" y="5035320"/>
            <a:ext cx="737208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activo libre de riesgo disponible y la frontera eficiente identificada, podemos elegir la línea de asignación de capital con la pendiente más pronunci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971800" y="3123720"/>
            <a:ext cx="28195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971800" y="2895480"/>
            <a:ext cx="2819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971800" y="2666520"/>
            <a:ext cx="2819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971800" y="24382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971800" y="2209320"/>
            <a:ext cx="281952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971800" y="1981080"/>
            <a:ext cx="281952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71800" y="1828440"/>
            <a:ext cx="25909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986400">
            <a:off x="4177440" y="1869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838080" y="56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restar y Pedir Prestado sin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1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487692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línea de mercado de capitales identificada, todos los inversionistas eligen un punto sobre la línea—alguna combinación del activo libre de riesgo y del porfolio de merca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n un mundo con expectativ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mogene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el mismo para todos los invers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0" y="4572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8986400">
            <a:off x="4149000" y="19803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2160" y="761760"/>
            <a:ext cx="8151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e que el porfolio de mercado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el mismo para todos los inversionistas—ellos pued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aversión al riesgo de su elección d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8986400">
            <a:off x="4149000" y="192024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055160" y="5051520"/>
            <a:ext cx="74026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versión al riesgo del inversionista es revelada en su elección de donde ubicarse en la línea de mercado de capitales—no en su elección de la lí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7180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2362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8986400">
            <a:off x="4149000" y="192024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2680" y="3505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92160" y="7596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5257800"/>
            <a:ext cx="758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ónde los inversionistas eligen estar en la Línea de Mercado de Capitales depende de su tolerancia al riesgo. El punto importante es que todos tienen la misma LM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ndo Balanc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5051160"/>
            <a:ext cx="773604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os los inversionistas tienen la misma LMC, porque ellos tienen el mismo porfolio riesgoso óptimo, dada la tasa libre de ries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743200"/>
            <a:ext cx="11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opiedad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50288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piedad de separación implica que la elección del porfolio puede ser separada en dos tareas: (1) determinar el porfolio riesgoso óptimo, y (2) seleccionar un punto sobre la LM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2743200"/>
            <a:ext cx="11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 Riesgoso Optimo con un Activo Libre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07920" y="5175360"/>
            <a:ext cx="7513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pósito, el porfolio riesgoso óptimo depende de la tasa libre de riesgo como también de los activos riesg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971800" y="1981080"/>
            <a:ext cx="29718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48320" y="2514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33526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38800" y="2971800"/>
            <a:ext cx="110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imer 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2895480"/>
            <a:ext cx="20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gundo 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9338000">
            <a:off x="4359240" y="1746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20160000">
            <a:off x="5344920" y="15976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541600" y="3530520"/>
                <a:ext cx="4302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514600" y="2971800"/>
                <a:ext cx="430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 flipH="1" flipV="1">
            <a:off x="4723920" y="25905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4191120" y="2895480"/>
            <a:ext cx="3045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Riesgo cuando los Inversionistas mantienen el Porfol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investigadores han mostrado que la mejor medida del riesgo de un activo en un porfolio grande es 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eta mide la sensibilidad de un activo a movimientos en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429000" y="3986280"/>
                <a:ext cx="3276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05024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nd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reg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2201400" y="2156760"/>
            <a:ext cx="22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orno del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0320" y="4175280"/>
            <a:ext cx="387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27640" y="3809880"/>
            <a:ext cx="192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orno del  mercado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5334120"/>
            <a:ext cx="42037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80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200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477120" y="243828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895480"/>
            <a:ext cx="294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ndiente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3809880"/>
            <a:ext cx="6858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581280" y="1142640"/>
            <a:ext cx="0" cy="4876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905120" y="1536840"/>
            <a:ext cx="5715000" cy="3949200"/>
            <a:chOff x="1905120" y="1536840"/>
            <a:chExt cx="5715000" cy="3949200"/>
          </a:xfrm>
        </p:grpSpPr>
        <p:sp>
          <p:nvSpPr>
            <p:cNvPr id="686" name=""/>
            <p:cNvSpPr/>
            <p:nvPr/>
          </p:nvSpPr>
          <p:spPr>
            <a:xfrm rot="19531800">
              <a:off x="3962520" y="2441160"/>
              <a:ext cx="3336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ínea 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905120" y="1599840"/>
              <a:ext cx="5715000" cy="3886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1828800" y="5105520"/>
            <a:ext cx="7632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956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5410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38480" y="4267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3505320"/>
            <a:ext cx="7596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36576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4280" y="24382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86200" y="38862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05520" y="3505320"/>
            <a:ext cx="7596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57800" y="26668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53080" y="27432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81680" y="1676520"/>
            <a:ext cx="7632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4320" y="22860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48006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1280" y="4267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43600" y="26668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981080"/>
          <a:ext cx="762012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6201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órmula para el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429000" y="2303640"/>
                <a:ext cx="3276720" cy="13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1676520" y="4114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amente, el estimado del beta dependerá en la elección del proxy para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Relación entre Riesgo y Retorno Esperado (CA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esperado del 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4400" y="32767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esperado de un activo individu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154160" y="2470320"/>
                <a:ext cx="70660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emio por Riesgo de Mercad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635200" y="412920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rot="16200000">
            <a:off x="5715000" y="426708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960 h 1523880"/>
              <a:gd name="textAreaBottom" fmla="*/ 1465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4"/>
                  <a:pt x="10800" y="2628"/>
                </a:cubicBezTo>
                <a:lnTo>
                  <a:pt x="10800" y="7579"/>
                </a:lnTo>
                <a:cubicBezTo>
                  <a:pt x="10800" y="8893"/>
                  <a:pt x="5400" y="10207"/>
                  <a:pt x="0" y="10207"/>
                </a:cubicBezTo>
                <a:cubicBezTo>
                  <a:pt x="5400" y="10207"/>
                  <a:pt x="10800" y="11521"/>
                  <a:pt x="10800" y="12835"/>
                </a:cubicBezTo>
                <a:lnTo>
                  <a:pt x="10800" y="18972"/>
                </a:lnTo>
                <a:cubicBezTo>
                  <a:pt x="10800" y="202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o por Riesg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528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sto aplica a activos individuales mantenidos dentro de porfolios bien diversificad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orno Esperado de un Activ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 fórmula es el Modelo de Valoración de Activos de Capital (CA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828800" y="2587680"/>
                <a:ext cx="632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83808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end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 entonces el retorno esperado 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en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638680" y="5486400"/>
                <a:ext cx="1409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990720" y="3124080"/>
            <a:ext cx="7315200" cy="1557000"/>
            <a:chOff x="990720" y="3124080"/>
            <a:chExt cx="7315200" cy="1557000"/>
          </a:xfrm>
        </p:grpSpPr>
        <p:sp>
          <p:nvSpPr>
            <p:cNvPr id="722" name=""/>
            <p:cNvSpPr/>
            <p:nvPr/>
          </p:nvSpPr>
          <p:spPr>
            <a:xfrm>
              <a:off x="990720" y="3124080"/>
              <a:ext cx="1371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orno Esperado del 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14600" y="3489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5480" y="33066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sa Libre de Ries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38480" y="3489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5680" y="330660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a del 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19920" y="3489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77120" y="33066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mio por Riesgo de Mer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612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Riesgo y Retorn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954360" y="209160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666880" y="563868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 flipV="1">
            <a:off x="2971800" y="2361960"/>
            <a:ext cx="3581280" cy="1600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2462040" y="3733920"/>
                <a:ext cx="586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flipV="1">
            <a:off x="4800600" y="3123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19520" y="3962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71800" y="31240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956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405160" y="2843280"/>
                <a:ext cx="654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28195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289320" y="1828800"/>
                <a:ext cx="3873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7612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Riesgo y Retorn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593720" y="1147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733920" y="5122800"/>
                <a:ext cx="1585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 flipV="1">
            <a:off x="2971800" y="2285640"/>
            <a:ext cx="3657600" cy="1676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791320" y="26665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209680" y="3733920"/>
            <a:ext cx="762120" cy="482400"/>
            <a:chOff x="2209680" y="3733920"/>
            <a:chExt cx="762120" cy="482400"/>
          </a:xfrm>
        </p:grpSpPr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2209680" y="3733920"/>
                  <a:ext cx="6559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"/>
            <p:cNvSpPr/>
            <p:nvPr/>
          </p:nvSpPr>
          <p:spPr>
            <a:xfrm>
              <a:off x="2819520" y="39625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971800" y="2666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864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828800" y="2489040"/>
                <a:ext cx="1166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981080" y="5105520"/>
                <a:ext cx="1343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5638680" y="5122800"/>
                <a:ext cx="1862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057400" y="5745240"/>
                <a:ext cx="56642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etorno esperado y la varianza de un porfolio de dos activo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án dad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014560" y="3276720"/>
                <a:ext cx="595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2948040" y="2819520"/>
                <a:ext cx="34765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914400" y="411480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Variando </a:t>
            </a:r>
            <a:r>
              <a:rPr b="0" i="1" lang="en-US" sz="2400" spc="-1" strike="noStrike">
                <a:solidFill>
                  <a:srgbClr val="644a1a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644a1a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, uno puede trazar el set eficiente de porfolios. El grado de curvatura refleja el efecto de la diversificación: a menor la correlación entre los dos activos, mayor la diver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La misma forma general se mantiene en un mundo con much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et eficiente de activos riesgosos puede ser combinado con la situación de pedir prestado y prestar sin riesgo. En este caso, un inversionista racional siempre escogerá mantener el porfolio de activos riesgosos representado por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180040" y="38714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63244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180760" y="38707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6200000">
            <a:off x="3507120" y="35013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53280" y="6248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267080" y="32004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43600" y="5791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5562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485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436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958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5029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2485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530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530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21576000">
            <a:off x="6781680" y="3854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5334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91120" y="548640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67080" y="34286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8986400">
            <a:off x="5444280" y="35805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41148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Entonces, el inversionista selecciona un punto sobre la LM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29200" y="4724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43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530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85800" y="1170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tribución de un activo al riesgo de un porfolio bien diversificado es proporcional a la covarianza del retorno del activo con el retorno del mercado. Esta contribución es llamada el b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43434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El CAPM establece que el retorno esperado de un activo está positivamente relacionado al beta del ac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429000" y="338472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666880" y="510228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685800" y="1170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12408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81080" y="3352320"/>
            <a:ext cx="160020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81000" y="4954680"/>
                <a:ext cx="80107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248520" y="312408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752480" y="3428640"/>
            <a:ext cx="44197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33560" y="4954680"/>
                <a:ext cx="779760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952880" y="2209680"/>
            <a:ext cx="9907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95680" y="2514600"/>
            <a:ext cx="381240" cy="228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60640" y="5029200"/>
                <a:ext cx="4059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76920" y="2514600"/>
            <a:ext cx="9903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72000" y="2819160"/>
            <a:ext cx="30492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24080" y="4800600"/>
                <a:ext cx="377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76920" y="2819520"/>
            <a:ext cx="9903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81480" y="32000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51280" y="4800600"/>
                <a:ext cx="4059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22:39:49Z</dcterms:created>
  <dc:creator>FC</dc:creator>
  <dc:description/>
  <dc:language>en-US</dc:language>
  <cp:lastModifiedBy>Fernando</cp:lastModifiedBy>
  <dcterms:modified xsi:type="dcterms:W3CDTF">2005-06-08T22:42:11Z</dcterms:modified>
  <cp:revision>1</cp:revision>
  <dc:subject/>
  <dc:title>CAPM</dc:title>
</cp:coreProperties>
</file>