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821-3737-4CD7-BED9-92515858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228-3E0A-4FF2-BA53-B653F1A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C17-CE79-4D7A-9E0B-2EFB191E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2A3-2E74-4622-95D4-FE3D9331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5461-F498-4D5F-B45B-1AAC88F0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1055-DD34-4E1D-80E2-983BB03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3199-11AE-4CE2-AAC5-66C7337F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D5A4-BC9C-4F0B-82C9-5AB432B3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9232-1B96-4C74-AA8E-593CDF6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A794-A6A4-4D67-B7DB-5EA0FDC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E5E2-AAC8-4AC5-91C9-264DDEE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BDE-BC35-4864-A171-D7A18BF8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8BA5-4D6B-4814-B4F6-94A1884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6B39-F2D8-49A2-BD91-CD5CD4A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AA56-D747-4598-9CAE-4A7E4FB1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7AFA-F91B-445C-8570-BC7FE561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71B-1656-468D-BE57-7C0C29DC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9F5-6834-4ED6-9068-F6D63201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B39-4FB6-4060-989E-FA6D4B3A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A75-9E2C-4CA4-800D-D2B8C468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041-722E-460D-A8C9-438A8447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EBF-3841-407E-B9C3-353BB5B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047-6547-4A39-9111-A3B236C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1A8-EC64-4ACA-8EC0-1B0D3EE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A91D-5E87-411B-9B4B-D77AB4E77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C48-CB89-47F1-BB90-9DA23BBB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049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aluación de Proyectos Bajo Incertidumb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rnando Cartes 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viación estándar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Valor esperado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Esperado de la Invers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VAN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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157968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6000" y="533412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3341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69360" y="53211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972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1184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66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 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v(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1 = Coeficiente de cor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362320" y="3429000"/>
            <a:ext cx="1162440" cy="574560"/>
            <a:chOff x="2362320" y="3429000"/>
            <a:chExt cx="1162440" cy="574560"/>
          </a:xfrm>
        </p:grpSpPr>
        <p:sp>
          <p:nvSpPr>
            <p:cNvPr id="251" name=""/>
            <p:cNvSpPr/>
            <p:nvPr/>
          </p:nvSpPr>
          <p:spPr>
            <a:xfrm>
              <a:off x="2362320" y="344484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5440" y="3429000"/>
              <a:ext cx="10393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3366"/>
                </a:buClr>
                <a:buSzPct val="75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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14600" y="3429000"/>
                <a:ext cx="457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057400" y="4267080"/>
                <a:ext cx="5867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43200" y="2971800"/>
                <a:ext cx="3645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925560" y="4495680"/>
                <a:ext cx="8218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σ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66680" y="3276720"/>
                <a:ext cx="7583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obtener el comportamiento probabilístico del rendimiento econó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6680" y="1225800"/>
            <a:ext cx="6791400" cy="5251320"/>
            <a:chOff x="1606680" y="1225800"/>
            <a:chExt cx="6791400" cy="5251320"/>
          </a:xfrm>
        </p:grpSpPr>
        <p:grpSp>
          <p:nvGrpSpPr>
            <p:cNvPr id="278" name=""/>
            <p:cNvGrpSpPr/>
            <p:nvPr/>
          </p:nvGrpSpPr>
          <p:grpSpPr>
            <a:xfrm>
              <a:off x="2362320" y="2825640"/>
              <a:ext cx="4641840" cy="3194280"/>
              <a:chOff x="2362320" y="2825640"/>
              <a:chExt cx="4641840" cy="3194280"/>
            </a:xfrm>
          </p:grpSpPr>
          <p:sp>
            <p:nvSpPr>
              <p:cNvPr id="279" name=""/>
              <p:cNvSpPr/>
              <p:nvPr/>
            </p:nvSpPr>
            <p:spPr>
              <a:xfrm>
                <a:off x="2362320" y="2825640"/>
                <a:ext cx="0" cy="31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68440" y="6019920"/>
                <a:ext cx="463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071480" y="581652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4120" y="2463840"/>
              <a:ext cx="1484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2978280"/>
              <a:ext cx="0" cy="318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08680" y="2463840"/>
              <a:ext cx="3389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6200" y="608328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606680" y="1225800"/>
              <a:ext cx="5550840" cy="4602960"/>
              <a:chOff x="1606680" y="1225800"/>
              <a:chExt cx="5550840" cy="4602960"/>
            </a:xfrm>
          </p:grpSpPr>
          <p:sp>
            <p:nvSpPr>
              <p:cNvPr id="287" name=""/>
              <p:cNvSpPr/>
              <p:nvPr/>
            </p:nvSpPr>
            <p:spPr>
              <a:xfrm>
                <a:off x="160668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3220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38480" y="3124080"/>
                <a:ext cx="700200" cy="389160"/>
              </a:xfrm>
              <a:custGeom>
                <a:avLst/>
                <a:gdLst/>
                <a:ahLst/>
                <a:rect l="l" t="t" r="r" b="b"/>
                <a:pathLst>
                  <a:path w="441" h="245">
                    <a:moveTo>
                      <a:pt x="0" y="240"/>
                    </a:moveTo>
                    <a:lnTo>
                      <a:pt x="0" y="224"/>
                    </a:lnTo>
                    <a:lnTo>
                      <a:pt x="0" y="212"/>
                    </a:lnTo>
                    <a:lnTo>
                      <a:pt x="4" y="200"/>
                    </a:lnTo>
                    <a:lnTo>
                      <a:pt x="4" y="188"/>
                    </a:lnTo>
                    <a:lnTo>
                      <a:pt x="4" y="176"/>
                    </a:lnTo>
                    <a:lnTo>
                      <a:pt x="8" y="160"/>
                    </a:lnTo>
                    <a:lnTo>
                      <a:pt x="12" y="148"/>
                    </a:lnTo>
                    <a:lnTo>
                      <a:pt x="16" y="136"/>
                    </a:lnTo>
                    <a:lnTo>
                      <a:pt x="20" y="124"/>
                    </a:lnTo>
                    <a:lnTo>
                      <a:pt x="28" y="112"/>
                    </a:lnTo>
                    <a:lnTo>
                      <a:pt x="40" y="104"/>
                    </a:lnTo>
                    <a:lnTo>
                      <a:pt x="52" y="92"/>
                    </a:lnTo>
                    <a:lnTo>
                      <a:pt x="60" y="80"/>
                    </a:lnTo>
                    <a:lnTo>
                      <a:pt x="72" y="72"/>
                    </a:lnTo>
                    <a:lnTo>
                      <a:pt x="80" y="60"/>
                    </a:lnTo>
                    <a:lnTo>
                      <a:pt x="92" y="52"/>
                    </a:lnTo>
                    <a:lnTo>
                      <a:pt x="104" y="44"/>
                    </a:lnTo>
                    <a:lnTo>
                      <a:pt x="116" y="36"/>
                    </a:lnTo>
                    <a:lnTo>
                      <a:pt x="128" y="28"/>
                    </a:lnTo>
                    <a:lnTo>
                      <a:pt x="140" y="24"/>
                    </a:lnTo>
                    <a:lnTo>
                      <a:pt x="152" y="16"/>
                    </a:lnTo>
                    <a:lnTo>
                      <a:pt x="164" y="12"/>
                    </a:lnTo>
                    <a:lnTo>
                      <a:pt x="176" y="8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224" y="0"/>
                    </a:lnTo>
                    <a:lnTo>
                      <a:pt x="236" y="4"/>
                    </a:lnTo>
                    <a:lnTo>
                      <a:pt x="248" y="4"/>
                    </a:lnTo>
                    <a:lnTo>
                      <a:pt x="260" y="4"/>
                    </a:lnTo>
                    <a:lnTo>
                      <a:pt x="276" y="8"/>
                    </a:lnTo>
                    <a:lnTo>
                      <a:pt x="288" y="8"/>
                    </a:lnTo>
                    <a:lnTo>
                      <a:pt x="300" y="12"/>
                    </a:lnTo>
                    <a:lnTo>
                      <a:pt x="312" y="16"/>
                    </a:lnTo>
                    <a:lnTo>
                      <a:pt x="324" y="20"/>
                    </a:lnTo>
                    <a:lnTo>
                      <a:pt x="332" y="32"/>
                    </a:lnTo>
                    <a:lnTo>
                      <a:pt x="344" y="36"/>
                    </a:lnTo>
                    <a:lnTo>
                      <a:pt x="352" y="48"/>
                    </a:lnTo>
                    <a:lnTo>
                      <a:pt x="364" y="56"/>
                    </a:lnTo>
                    <a:lnTo>
                      <a:pt x="368" y="68"/>
                    </a:lnTo>
                    <a:lnTo>
                      <a:pt x="376" y="80"/>
                    </a:lnTo>
                    <a:lnTo>
                      <a:pt x="388" y="88"/>
                    </a:lnTo>
                    <a:lnTo>
                      <a:pt x="392" y="100"/>
                    </a:lnTo>
                    <a:lnTo>
                      <a:pt x="404" y="112"/>
                    </a:lnTo>
                    <a:lnTo>
                      <a:pt x="416" y="124"/>
                    </a:lnTo>
                    <a:lnTo>
                      <a:pt x="420" y="136"/>
                    </a:lnTo>
                    <a:lnTo>
                      <a:pt x="428" y="148"/>
                    </a:lnTo>
                    <a:lnTo>
                      <a:pt x="428" y="160"/>
                    </a:lnTo>
                    <a:lnTo>
                      <a:pt x="436" y="172"/>
                    </a:lnTo>
                    <a:lnTo>
                      <a:pt x="436" y="184"/>
                    </a:lnTo>
                    <a:lnTo>
                      <a:pt x="440" y="196"/>
                    </a:lnTo>
                    <a:lnTo>
                      <a:pt x="440" y="208"/>
                    </a:lnTo>
                    <a:lnTo>
                      <a:pt x="440" y="220"/>
                    </a:lnTo>
                    <a:lnTo>
                      <a:pt x="440" y="232"/>
                    </a:lnTo>
                    <a:lnTo>
                      <a:pt x="436" y="2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34280" y="5191200"/>
                <a:ext cx="2653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9160" y="5638680"/>
                <a:ext cx="10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 Que inversión elegi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295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303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0040" y="699480"/>
            <a:ext cx="5861520" cy="3350160"/>
            <a:chOff x="1310040" y="699480"/>
            <a:chExt cx="5861520" cy="3350160"/>
          </a:xfrm>
        </p:grpSpPr>
        <p:grpSp>
          <p:nvGrpSpPr>
            <p:cNvPr id="319" name=""/>
            <p:cNvGrpSpPr/>
            <p:nvPr/>
          </p:nvGrpSpPr>
          <p:grpSpPr>
            <a:xfrm>
              <a:off x="2458440" y="1718640"/>
              <a:ext cx="2929320" cy="2031840"/>
              <a:chOff x="2458440" y="1718640"/>
              <a:chExt cx="2929320" cy="203184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8440" y="1718640"/>
                <a:ext cx="0" cy="20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64920" y="3750480"/>
                <a:ext cx="29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427000" y="361800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48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5876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8860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6080" y="378792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983960" y="699480"/>
              <a:ext cx="3502080" cy="2952000"/>
              <a:chOff x="1983960" y="699480"/>
              <a:chExt cx="3502080" cy="2952000"/>
            </a:xfrm>
          </p:grpSpPr>
          <p:sp>
            <p:nvSpPr>
              <p:cNvPr id="328" name=""/>
              <p:cNvSpPr/>
              <p:nvPr/>
            </p:nvSpPr>
            <p:spPr>
              <a:xfrm>
                <a:off x="198396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5928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17920" y="1905840"/>
                <a:ext cx="442800" cy="24732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09480" y="321624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s-ES_tradnl" sz="11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92040" y="3507840"/>
                <a:ext cx="65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681440" y="2499120"/>
              <a:ext cx="2490120" cy="10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0040" y="2401560"/>
              <a:ext cx="2587320" cy="12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90880" y="2896200"/>
              <a:ext cx="792360" cy="13968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904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25240" y="374580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95520" y="3508200"/>
              <a:ext cx="109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4760" y="327060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341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346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781800" y="4368960"/>
            <a:ext cx="311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iesg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Incertidumbre o Riesg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iteratura tradicional hace una distinción entre riesgo e incertidum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Riesg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es posible especificar los resultados de un acontecimiento aleatorio y se conoce la probabilidad de que ocurra cada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Incertidumb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sólo se conocen los resultados posibles, pero no las prob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en la actualidad se ha suprimido esta distinción. La noción bayesiana de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babilidades subjetiv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puede emplear para convertir cualquier situación de incertidumbre en una de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subjetiva es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jor esti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el que toma la decisión, de la probabilidad real de que ocurra el fenóm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cisión depende del “comportamiento” del inversor frente al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906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bolsitas" descr="Límites de inversión en renta variable"/>
          <p:cNvPicPr/>
          <p:nvPr/>
        </p:nvPicPr>
        <p:blipFill>
          <a:blip r:embed="rId1"/>
          <a:stretch/>
        </p:blipFill>
        <p:spPr>
          <a:xfrm>
            <a:off x="1295280" y="2666880"/>
            <a:ext cx="6267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tabla_rentabilidad" descr="Tabla de rentabilidad"/>
          <p:cNvPicPr/>
          <p:nvPr/>
        </p:nvPicPr>
        <p:blipFill>
          <a:blip r:embed="rId1"/>
          <a:stretch/>
        </p:blipFill>
        <p:spPr>
          <a:xfrm>
            <a:off x="990720" y="3048120"/>
            <a:ext cx="7591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143000" y="1916280"/>
            <a:ext cx="63244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74720" y="1523880"/>
            <a:ext cx="5792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7162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968480" y="914400"/>
            <a:ext cx="465300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1447920"/>
          <a:ext cx="705312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0531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90920" y="3352680"/>
          <a:ext cx="4190760" cy="293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52680"/>
                    <a:ext cx="419076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valuada en una situació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rminan las variables mas significativas que afectan los indicadores de rentabilida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úm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eficientes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uentes de Incertidumbre en Invers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co conocimiento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zos de adopción (penet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námica de los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fuentes de información poco conf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de interpretación de da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en la manipulación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usca evaluar la sensibilidad de los indicadores de rentabilidad ante variaciones de las variables significativas  más incie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7760"/>
            <a:ext cx="593064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6680" y="4191120"/>
            <a:ext cx="59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3781440"/>
            <a:ext cx="6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82560" y="4390920"/>
            <a:ext cx="2964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uación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Venta* (1 - x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Insumos * (1 + y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*(1 - z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s Operación * (1 + W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 . 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30680" y="37051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N(t1)    VAN(t2)     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impacto de una variable riesgosa en el VAN es importante, entonces el proyecto es RIESG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ivel de riesgo se determina en la medida que el VAN se hace negativo para valores probables de la var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este caso, se debe hacer una evaluación costo-beneficio de la pertinencia de comprar certidumbre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e Ent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permite analizar variaciones de un parámetro a l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utiliza información como las distribuciones de probabilidad del parámetro a sensibi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ntrega distribución de probabilidades de los indicadores de rentabilidad VAN y 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scenario está determinado por los valores que supuestamente tomarían las variables riesgosas en 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se definen tres escenarios: optimista, medio y pesi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enario optim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producto sube un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de los insumos se mant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ventas crecen en un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del Inversionis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una inversión más riesgosa se le exige una mayor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 se espera recibir un premio por asumi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forma de incorporar el riego es castigar la tasa de descuen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7564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149480" y="4635360"/>
            <a:ext cx="4494600" cy="1003320"/>
            <a:chOff x="1149480" y="4635360"/>
            <a:chExt cx="4494600" cy="1003320"/>
          </a:xfrm>
        </p:grpSpPr>
        <p:sp>
          <p:nvSpPr>
            <p:cNvPr id="404" name=""/>
            <p:cNvSpPr/>
            <p:nvPr/>
          </p:nvSpPr>
          <p:spPr>
            <a:xfrm>
              <a:off x="1149480" y="463536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00960" y="493992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02040" y="524484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52760" y="469548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727600" y="4578480"/>
            <a:ext cx="29592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57200" y="1660680"/>
            <a:ext cx="1919520" cy="930240"/>
            <a:chOff x="1357200" y="1660680"/>
            <a:chExt cx="1919520" cy="930240"/>
          </a:xfrm>
        </p:grpSpPr>
        <p:sp>
          <p:nvSpPr>
            <p:cNvPr id="411" name=""/>
            <p:cNvSpPr/>
            <p:nvPr/>
          </p:nvSpPr>
          <p:spPr>
            <a:xfrm>
              <a:off x="1449000" y="1920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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57200" y="1660680"/>
              <a:ext cx="1919520" cy="93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828400" y="1539720"/>
            <a:ext cx="2523960" cy="1432800"/>
            <a:chOff x="5828400" y="1539720"/>
            <a:chExt cx="2523960" cy="1432800"/>
          </a:xfrm>
        </p:grpSpPr>
        <p:sp>
          <p:nvSpPr>
            <p:cNvPr id="422" name=""/>
            <p:cNvSpPr/>
            <p:nvPr/>
          </p:nvSpPr>
          <p:spPr>
            <a:xfrm>
              <a:off x="7311960" y="155700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7160" y="153972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828400" y="1607760"/>
              <a:ext cx="2394720" cy="1364760"/>
              <a:chOff x="5828400" y="1607760"/>
              <a:chExt cx="2394720" cy="1364760"/>
            </a:xfrm>
          </p:grpSpPr>
          <p:sp>
            <p:nvSpPr>
              <p:cNvPr id="425" name=""/>
              <p:cNvSpPr/>
              <p:nvPr/>
            </p:nvSpPr>
            <p:spPr>
              <a:xfrm>
                <a:off x="6026040" y="216504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34440" y="183960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119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28400" y="277452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3680" y="160776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26040" y="2187360"/>
                <a:ext cx="21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117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lación más usada entre riesgo y rentabilidad es lineal (CAP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érminos más form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4597560"/>
                <a:ext cx="3124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3278160" y="5181480"/>
            <a:ext cx="5210640" cy="1340640"/>
            <a:chOff x="3278160" y="5181480"/>
            <a:chExt cx="5210640" cy="1340640"/>
          </a:xfrm>
        </p:grpSpPr>
        <p:sp>
          <p:nvSpPr>
            <p:cNvPr id="441" name=""/>
            <p:cNvSpPr/>
            <p:nvPr/>
          </p:nvSpPr>
          <p:spPr>
            <a:xfrm>
              <a:off x="3278160" y="5796000"/>
              <a:ext cx="1152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e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7480" y="5871960"/>
              <a:ext cx="92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tas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2400" y="5194080"/>
              <a:ext cx="4431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889600" y="5181480"/>
              <a:ext cx="51912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4520" y="5871960"/>
              <a:ext cx="1077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emio p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94400" y="5946480"/>
              <a:ext cx="1094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istemá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832200" y="5181480"/>
              <a:ext cx="3668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99240" y="5181480"/>
              <a:ext cx="6192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877000" y="5409720"/>
              <a:ext cx="1634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04000" y="5346720"/>
              <a:ext cx="36684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85240" y="5333760"/>
              <a:ext cx="51912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7248600" y="5638680"/>
              <a:ext cx="23976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l modelo probabilís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endimiento de prob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formulación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s relaciones entre 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 relaciones ent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sibilidad de llegar a una solución an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: Simulación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de Probabilidades Más U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 ho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460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11440" y="2749680"/>
            <a:ext cx="2502000" cy="679320"/>
            <a:chOff x="3511440" y="2749680"/>
            <a:chExt cx="2502000" cy="679320"/>
          </a:xfrm>
        </p:grpSpPr>
        <p:sp>
          <p:nvSpPr>
            <p:cNvPr id="465" name=""/>
            <p:cNvSpPr/>
            <p:nvPr/>
          </p:nvSpPr>
          <p:spPr>
            <a:xfrm>
              <a:off x="3511440" y="342900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032360" y="2749680"/>
              <a:ext cx="6220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4440" y="2749680"/>
              <a:ext cx="5968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330960" y="3510000"/>
            <a:ext cx="2502000" cy="909720"/>
            <a:chOff x="6330960" y="3510000"/>
            <a:chExt cx="2502000" cy="909720"/>
          </a:xfrm>
        </p:grpSpPr>
        <p:sp>
          <p:nvSpPr>
            <p:cNvPr id="469" name=""/>
            <p:cNvSpPr/>
            <p:nvPr/>
          </p:nvSpPr>
          <p:spPr>
            <a:xfrm>
              <a:off x="6330960" y="4419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81680" y="3510000"/>
              <a:ext cx="2032200" cy="801720"/>
            </a:xfrm>
            <a:custGeom>
              <a:avLst/>
              <a:gdLst/>
              <a:ahLst/>
              <a:rect l="l" t="t" r="r" b="b"/>
              <a:pathLst>
                <a:path w="1280" h="505">
                  <a:moveTo>
                    <a:pt x="0" y="477"/>
                  </a:moveTo>
                  <a:lnTo>
                    <a:pt x="27" y="468"/>
                  </a:lnTo>
                  <a:lnTo>
                    <a:pt x="63" y="468"/>
                  </a:lnTo>
                  <a:lnTo>
                    <a:pt x="113" y="468"/>
                  </a:lnTo>
                  <a:lnTo>
                    <a:pt x="142" y="460"/>
                  </a:lnTo>
                  <a:lnTo>
                    <a:pt x="171" y="453"/>
                  </a:lnTo>
                  <a:lnTo>
                    <a:pt x="199" y="453"/>
                  </a:lnTo>
                  <a:lnTo>
                    <a:pt x="221" y="439"/>
                  </a:lnTo>
                  <a:lnTo>
                    <a:pt x="243" y="424"/>
                  </a:lnTo>
                  <a:lnTo>
                    <a:pt x="271" y="410"/>
                  </a:lnTo>
                  <a:lnTo>
                    <a:pt x="300" y="381"/>
                  </a:lnTo>
                  <a:lnTo>
                    <a:pt x="329" y="345"/>
                  </a:lnTo>
                  <a:lnTo>
                    <a:pt x="343" y="288"/>
                  </a:lnTo>
                  <a:lnTo>
                    <a:pt x="365" y="259"/>
                  </a:lnTo>
                  <a:lnTo>
                    <a:pt x="372" y="201"/>
                  </a:lnTo>
                  <a:lnTo>
                    <a:pt x="394" y="172"/>
                  </a:lnTo>
                  <a:lnTo>
                    <a:pt x="401" y="136"/>
                  </a:lnTo>
                  <a:lnTo>
                    <a:pt x="415" y="108"/>
                  </a:lnTo>
                  <a:lnTo>
                    <a:pt x="430" y="86"/>
                  </a:lnTo>
                  <a:lnTo>
                    <a:pt x="437" y="64"/>
                  </a:lnTo>
                  <a:lnTo>
                    <a:pt x="451" y="36"/>
                  </a:lnTo>
                  <a:lnTo>
                    <a:pt x="473" y="14"/>
                  </a:lnTo>
                  <a:lnTo>
                    <a:pt x="495" y="7"/>
                  </a:lnTo>
                  <a:lnTo>
                    <a:pt x="523" y="0"/>
                  </a:lnTo>
                  <a:lnTo>
                    <a:pt x="545" y="0"/>
                  </a:lnTo>
                  <a:lnTo>
                    <a:pt x="567" y="7"/>
                  </a:lnTo>
                  <a:lnTo>
                    <a:pt x="617" y="21"/>
                  </a:lnTo>
                  <a:lnTo>
                    <a:pt x="646" y="28"/>
                  </a:lnTo>
                  <a:lnTo>
                    <a:pt x="675" y="50"/>
                  </a:lnTo>
                  <a:lnTo>
                    <a:pt x="703" y="72"/>
                  </a:lnTo>
                  <a:lnTo>
                    <a:pt x="732" y="93"/>
                  </a:lnTo>
                  <a:lnTo>
                    <a:pt x="739" y="115"/>
                  </a:lnTo>
                  <a:lnTo>
                    <a:pt x="761" y="129"/>
                  </a:lnTo>
                  <a:lnTo>
                    <a:pt x="768" y="151"/>
                  </a:lnTo>
                  <a:lnTo>
                    <a:pt x="783" y="180"/>
                  </a:lnTo>
                  <a:lnTo>
                    <a:pt x="797" y="208"/>
                  </a:lnTo>
                  <a:lnTo>
                    <a:pt x="811" y="230"/>
                  </a:lnTo>
                  <a:lnTo>
                    <a:pt x="826" y="252"/>
                  </a:lnTo>
                  <a:lnTo>
                    <a:pt x="833" y="280"/>
                  </a:lnTo>
                  <a:lnTo>
                    <a:pt x="855" y="302"/>
                  </a:lnTo>
                  <a:lnTo>
                    <a:pt x="855" y="324"/>
                  </a:lnTo>
                  <a:lnTo>
                    <a:pt x="876" y="352"/>
                  </a:lnTo>
                  <a:lnTo>
                    <a:pt x="891" y="374"/>
                  </a:lnTo>
                  <a:lnTo>
                    <a:pt x="905" y="396"/>
                  </a:lnTo>
                  <a:lnTo>
                    <a:pt x="927" y="410"/>
                  </a:lnTo>
                  <a:lnTo>
                    <a:pt x="941" y="432"/>
                  </a:lnTo>
                  <a:lnTo>
                    <a:pt x="963" y="446"/>
                  </a:lnTo>
                  <a:lnTo>
                    <a:pt x="991" y="460"/>
                  </a:lnTo>
                  <a:lnTo>
                    <a:pt x="1013" y="475"/>
                  </a:lnTo>
                  <a:lnTo>
                    <a:pt x="1035" y="482"/>
                  </a:lnTo>
                  <a:lnTo>
                    <a:pt x="1063" y="489"/>
                  </a:lnTo>
                  <a:lnTo>
                    <a:pt x="1085" y="489"/>
                  </a:lnTo>
                  <a:lnTo>
                    <a:pt x="1107" y="496"/>
                  </a:lnTo>
                  <a:lnTo>
                    <a:pt x="1135" y="504"/>
                  </a:lnTo>
                  <a:lnTo>
                    <a:pt x="1157" y="504"/>
                  </a:lnTo>
                  <a:lnTo>
                    <a:pt x="1179" y="504"/>
                  </a:lnTo>
                  <a:lnTo>
                    <a:pt x="1207" y="504"/>
                  </a:lnTo>
                  <a:lnTo>
                    <a:pt x="1229" y="504"/>
                  </a:lnTo>
                  <a:lnTo>
                    <a:pt x="1251" y="504"/>
                  </a:lnTo>
                  <a:lnTo>
                    <a:pt x="1279" y="5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359160" y="4521240"/>
            <a:ext cx="1081800" cy="1003320"/>
            <a:chOff x="3359160" y="4521240"/>
            <a:chExt cx="1081800" cy="1003320"/>
          </a:xfrm>
        </p:grpSpPr>
        <p:sp>
          <p:nvSpPr>
            <p:cNvPr id="472" name=""/>
            <p:cNvSpPr/>
            <p:nvPr/>
          </p:nvSpPr>
          <p:spPr>
            <a:xfrm flipV="1">
              <a:off x="3359160" y="4718160"/>
              <a:ext cx="520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9160" y="5035680"/>
              <a:ext cx="520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7400" y="4521240"/>
              <a:ext cx="39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47040" y="5130720"/>
              <a:ext cx="49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19920" y="4800600"/>
            <a:ext cx="2501640" cy="1365120"/>
            <a:chOff x="6019920" y="4800600"/>
            <a:chExt cx="2501640" cy="1365120"/>
          </a:xfrm>
        </p:grpSpPr>
        <p:sp>
          <p:nvSpPr>
            <p:cNvPr id="477" name=""/>
            <p:cNvSpPr/>
            <p:nvPr/>
          </p:nvSpPr>
          <p:spPr>
            <a:xfrm>
              <a:off x="6019920" y="616572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160" y="5257800"/>
              <a:ext cx="630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24480" y="5334120"/>
              <a:ext cx="13932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6760" y="5791320"/>
              <a:ext cx="2916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81680" y="5562720"/>
              <a:ext cx="2152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10280" y="5257800"/>
              <a:ext cx="291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4840" y="4800600"/>
              <a:ext cx="6336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160" y="5867280"/>
              <a:ext cx="74880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Niveles de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Sec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 sectorial (del mercado objetivo y de insu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Operativ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 costos operacionales fi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mayores costos operacionales fijos mayor es el volumen de venta necesario para cubrir esos costos (mayor ries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Financier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l nivel de endeud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Los pagos financieros mayores obligan a la empresa a mantener un nivel alto de utilidades para continuar con la actividad productiva y si la empresa no puede cubrir estos pagos, puede verse obligada a cerrar por aquellos acreedores pendientes de p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740720" y="3809880"/>
            <a:ext cx="12826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31840" y="2209680"/>
            <a:ext cx="1796760" cy="1401480"/>
            <a:chOff x="1131840" y="2209680"/>
            <a:chExt cx="1796760" cy="1401480"/>
          </a:xfrm>
        </p:grpSpPr>
        <p:sp>
          <p:nvSpPr>
            <p:cNvPr id="490" name=""/>
            <p:cNvSpPr/>
            <p:nvPr/>
          </p:nvSpPr>
          <p:spPr>
            <a:xfrm>
              <a:off x="1155600" y="2209680"/>
              <a:ext cx="173988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31840" y="224460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594240" y="2362320"/>
            <a:ext cx="1206360" cy="977760"/>
            <a:chOff x="3594240" y="2362320"/>
            <a:chExt cx="1206360" cy="977760"/>
          </a:xfrm>
        </p:grpSpPr>
        <p:sp>
          <p:nvSpPr>
            <p:cNvPr id="493" name=""/>
            <p:cNvSpPr/>
            <p:nvPr/>
          </p:nvSpPr>
          <p:spPr>
            <a:xfrm>
              <a:off x="3594240" y="2362320"/>
              <a:ext cx="12063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22040" y="254952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418200" y="5257800"/>
            <a:ext cx="1699200" cy="1036440"/>
            <a:chOff x="3418200" y="5257800"/>
            <a:chExt cx="1699200" cy="1036440"/>
          </a:xfrm>
        </p:grpSpPr>
        <p:sp>
          <p:nvSpPr>
            <p:cNvPr id="496" name=""/>
            <p:cNvSpPr/>
            <p:nvPr/>
          </p:nvSpPr>
          <p:spPr>
            <a:xfrm>
              <a:off x="3441600" y="5257800"/>
              <a:ext cx="158760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18200" y="529272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727600" y="3809880"/>
            <a:ext cx="1213200" cy="978120"/>
            <a:chOff x="5727600" y="3809880"/>
            <a:chExt cx="1213200" cy="978120"/>
          </a:xfrm>
        </p:grpSpPr>
        <p:sp>
          <p:nvSpPr>
            <p:cNvPr id="499" name=""/>
            <p:cNvSpPr/>
            <p:nvPr/>
          </p:nvSpPr>
          <p:spPr>
            <a:xfrm>
              <a:off x="57276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78000" y="392112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908440" y="281304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7240" y="33526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89520" y="433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6920" y="4336920"/>
            <a:ext cx="74916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670200" y="3809880"/>
            <a:ext cx="1206720" cy="978120"/>
            <a:chOff x="3670200" y="3809880"/>
            <a:chExt cx="1206720" cy="978120"/>
          </a:xfrm>
        </p:grpSpPr>
        <p:sp>
          <p:nvSpPr>
            <p:cNvPr id="506" name=""/>
            <p:cNvSpPr/>
            <p:nvPr/>
          </p:nvSpPr>
          <p:spPr>
            <a:xfrm>
              <a:off x="36702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0600" y="4038480"/>
              <a:ext cx="83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odel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vers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729200" y="388620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2670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eferencias frente al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de la función de utilidad de una persona determina su preferencia frente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ego justo”: el juego deja inalterado el nivel de utilidad esperado (sólo introduce ries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jemplo, Cara gana $1.000 y Sello pierde $1.000 ¿qué hace un individuo averso, uno neutral y uno amante del ries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9720" y="3886200"/>
            <a:ext cx="2421720" cy="2399400"/>
            <a:chOff x="1449720" y="3886200"/>
            <a:chExt cx="2421720" cy="2399400"/>
          </a:xfrm>
        </p:grpSpPr>
        <p:grpSp>
          <p:nvGrpSpPr>
            <p:cNvPr id="143" name=""/>
            <p:cNvGrpSpPr/>
            <p:nvPr/>
          </p:nvGrpSpPr>
          <p:grpSpPr>
            <a:xfrm>
              <a:off x="1905120" y="3897360"/>
              <a:ext cx="1936800" cy="2046240"/>
              <a:chOff x="1905120" y="3897360"/>
              <a:chExt cx="1936800" cy="20462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905120" y="4266720"/>
                <a:ext cx="1936800" cy="1676880"/>
                <a:chOff x="1905120" y="4266720"/>
                <a:chExt cx="1936800" cy="1676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1905120" y="4266720"/>
                  <a:ext cx="1936800" cy="1676880"/>
                  <a:chOff x="1905120" y="4266720"/>
                  <a:chExt cx="1936800" cy="1676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V="1">
                    <a:off x="1905120" y="4266720"/>
                    <a:ext cx="0" cy="167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36800" y="5943600"/>
                    <a:ext cx="190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1981080" y="4495680"/>
                  <a:ext cx="1447920" cy="1143000"/>
                </a:xfrm>
                <a:custGeom>
                  <a:avLst/>
                  <a:gdLst/>
                  <a:ahLst/>
                  <a:rect l="l" t="t" r="r" b="b"/>
                  <a:pathLst>
                    <a:path w="960" h="720">
                      <a:moveTo>
                        <a:pt x="0" y="720"/>
                      </a:moveTo>
                      <a:cubicBezTo>
                        <a:pt x="44" y="556"/>
                        <a:pt x="88" y="392"/>
                        <a:pt x="192" y="288"/>
                      </a:cubicBezTo>
                      <a:cubicBezTo>
                        <a:pt x="296" y="184"/>
                        <a:pt x="496" y="144"/>
                        <a:pt x="624" y="96"/>
                      </a:cubicBezTo>
                      <a:cubicBezTo>
                        <a:pt x="752" y="48"/>
                        <a:pt x="856" y="24"/>
                        <a:pt x="96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270160" y="389736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vers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49720" y="3886200"/>
              <a:ext cx="2421720" cy="2399400"/>
              <a:chOff x="1449720" y="3886200"/>
              <a:chExt cx="2421720" cy="2399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44972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2296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888000" y="3962520"/>
            <a:ext cx="2421720" cy="2399040"/>
            <a:chOff x="3888000" y="3962520"/>
            <a:chExt cx="2421720" cy="2399040"/>
          </a:xfrm>
        </p:grpSpPr>
        <p:grpSp>
          <p:nvGrpSpPr>
            <p:cNvPr id="154" name=""/>
            <p:cNvGrpSpPr/>
            <p:nvPr/>
          </p:nvGrpSpPr>
          <p:grpSpPr>
            <a:xfrm>
              <a:off x="4267080" y="4038480"/>
              <a:ext cx="1936800" cy="1905120"/>
              <a:chOff x="4267080" y="4038480"/>
              <a:chExt cx="1936800" cy="19051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267080" y="4266720"/>
                <a:ext cx="1936800" cy="1676880"/>
                <a:chOff x="4267080" y="4266720"/>
                <a:chExt cx="1936800" cy="167688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4267080" y="4266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98760" y="594360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724280" y="4038480"/>
                <a:ext cx="100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Neut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88000" y="3962520"/>
              <a:ext cx="2421720" cy="2399040"/>
              <a:chOff x="3888000" y="3962520"/>
              <a:chExt cx="2421720" cy="239904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4419720" y="4419360"/>
                <a:ext cx="13716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888000" y="3962520"/>
                <a:ext cx="2421720" cy="2399040"/>
                <a:chOff x="3888000" y="3962520"/>
                <a:chExt cx="2421720" cy="2399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888000" y="3962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61240" y="6054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6174000" y="3886200"/>
            <a:ext cx="2421720" cy="2399400"/>
            <a:chOff x="6174000" y="3886200"/>
            <a:chExt cx="2421720" cy="2399400"/>
          </a:xfrm>
        </p:grpSpPr>
        <p:grpSp>
          <p:nvGrpSpPr>
            <p:cNvPr id="165" name=""/>
            <p:cNvGrpSpPr/>
            <p:nvPr/>
          </p:nvGrpSpPr>
          <p:grpSpPr>
            <a:xfrm>
              <a:off x="6477120" y="4038480"/>
              <a:ext cx="1936800" cy="1828800"/>
              <a:chOff x="6477120" y="4038480"/>
              <a:chExt cx="1936800" cy="18288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6477120" y="4191120"/>
                <a:ext cx="1936800" cy="1676160"/>
                <a:chOff x="6477120" y="4191120"/>
                <a:chExt cx="1936800" cy="167616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6477120" y="4191120"/>
                  <a:ext cx="0" cy="167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08800" y="586728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6629400" y="4267080"/>
                <a:ext cx="1752480" cy="1295640"/>
              </a:xfrm>
              <a:custGeom>
                <a:avLst/>
                <a:gdLst/>
                <a:ahLst/>
                <a:rect l="l" t="t" r="r" b="b"/>
                <a:pathLst>
                  <a:path w="1104" h="816">
                    <a:moveTo>
                      <a:pt x="0" y="816"/>
                    </a:moveTo>
                    <a:cubicBezTo>
                      <a:pt x="196" y="796"/>
                      <a:pt x="392" y="776"/>
                      <a:pt x="528" y="720"/>
                    </a:cubicBezTo>
                    <a:cubicBezTo>
                      <a:pt x="664" y="664"/>
                      <a:pt x="728" y="576"/>
                      <a:pt x="816" y="480"/>
                    </a:cubicBezTo>
                    <a:cubicBezTo>
                      <a:pt x="904" y="384"/>
                      <a:pt x="1008" y="224"/>
                      <a:pt x="1056" y="144"/>
                    </a:cubicBezTo>
                    <a:cubicBezTo>
                      <a:pt x="1104" y="64"/>
                      <a:pt x="1104" y="32"/>
                      <a:pt x="11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7320" y="403848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ma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74000" y="3886200"/>
              <a:ext cx="2421720" cy="2399400"/>
              <a:chOff x="6174000" y="3886200"/>
              <a:chExt cx="2421720" cy="2399400"/>
            </a:xfrm>
          </p:grpSpPr>
          <p:sp>
            <p:nvSpPr>
              <p:cNvPr id="172" name=""/>
              <p:cNvSpPr/>
              <p:nvPr/>
            </p:nvSpPr>
            <p:spPr>
              <a:xfrm>
                <a:off x="617400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4724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viduo Averso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2120" y="2362320"/>
            <a:ext cx="5027760" cy="3308040"/>
            <a:chOff x="762120" y="2362320"/>
            <a:chExt cx="5027760" cy="3308040"/>
          </a:xfrm>
        </p:grpSpPr>
        <p:sp>
          <p:nvSpPr>
            <p:cNvPr id="178" name=""/>
            <p:cNvSpPr/>
            <p:nvPr/>
          </p:nvSpPr>
          <p:spPr>
            <a:xfrm>
              <a:off x="3733920" y="36576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62120" y="2362320"/>
              <a:ext cx="5027760" cy="3308040"/>
              <a:chOff x="762120" y="2362320"/>
              <a:chExt cx="5027760" cy="33080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362320" y="3276720"/>
                <a:ext cx="2286000" cy="1904760"/>
                <a:chOff x="2362320" y="3276720"/>
                <a:chExt cx="2286000" cy="19047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2362320" y="3276720"/>
                  <a:ext cx="2286000" cy="1904760"/>
                  <a:chOff x="2362320" y="3276720"/>
                  <a:chExt cx="2286000" cy="19047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48320" y="3276720"/>
                    <a:ext cx="0" cy="19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2362320" y="327672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2438280" y="4038480"/>
                  <a:ext cx="457200" cy="1143000"/>
                  <a:chOff x="2438280" y="4038480"/>
                  <a:chExt cx="457200" cy="11430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2862360" y="403848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2438280" y="40384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flipV="1">
                  <a:off x="2819520" y="3276720"/>
                  <a:ext cx="18288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437920" y="3657600"/>
                <a:ext cx="1295640" cy="1523880"/>
                <a:chOff x="2437920" y="3657600"/>
                <a:chExt cx="1295640" cy="152388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2437920" y="36576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87880" y="365760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2120" y="2362320"/>
                <a:ext cx="5027760" cy="3308040"/>
                <a:chOff x="762120" y="2362320"/>
                <a:chExt cx="5027760" cy="330804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1602360" y="2362320"/>
                  <a:ext cx="4187520" cy="3308040"/>
                  <a:chOff x="1602360" y="2362320"/>
                  <a:chExt cx="4187520" cy="33080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602360" y="2362320"/>
                    <a:ext cx="4187520" cy="3173040"/>
                    <a:chOff x="1602360" y="2362320"/>
                    <a:chExt cx="4187520" cy="317304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2400480" y="2377440"/>
                      <a:ext cx="3389400" cy="2801880"/>
                      <a:chOff x="2400480" y="2377440"/>
                      <a:chExt cx="3389400" cy="2801880"/>
                    </a:xfrm>
                  </p:grpSpPr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2400480" y="2883240"/>
                        <a:ext cx="3389400" cy="2296080"/>
                        <a:chOff x="2400480" y="2883240"/>
                        <a:chExt cx="3389400" cy="2296080"/>
                      </a:xfrm>
                    </p:grpSpPr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2400480" y="2883240"/>
                          <a:ext cx="3389400" cy="2296080"/>
                          <a:chOff x="2400480" y="2883240"/>
                          <a:chExt cx="3389400" cy="229608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flipV="1">
                            <a:off x="2400480" y="2883240"/>
                            <a:ext cx="0" cy="2295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2455920" y="5179320"/>
                            <a:ext cx="33339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533320" y="3196440"/>
                          <a:ext cx="2534040" cy="156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0" h="720">
                              <a:moveTo>
                                <a:pt x="0" y="720"/>
                              </a:moveTo>
                              <a:cubicBezTo>
                                <a:pt x="44" y="556"/>
                                <a:pt x="88" y="392"/>
                                <a:pt x="192" y="288"/>
                              </a:cubicBezTo>
                              <a:cubicBezTo>
                                <a:pt x="296" y="184"/>
                                <a:pt x="496" y="144"/>
                                <a:pt x="624" y="96"/>
                              </a:cubicBezTo>
                              <a:cubicBezTo>
                                <a:pt x="752" y="48"/>
                                <a:pt x="856" y="24"/>
                                <a:pt x="960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039120" y="2377440"/>
                        <a:ext cx="974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vers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1602360" y="2362320"/>
                      <a:ext cx="3977280" cy="3173040"/>
                      <a:chOff x="1602360" y="2362320"/>
                      <a:chExt cx="3977280" cy="3173040"/>
                    </a:xfrm>
                  </p:grpSpPr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1602360" y="2362320"/>
                        <a:ext cx="3088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U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5231160" y="5228280"/>
                        <a:ext cx="348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4" name=""/>
                  <p:cNvSpPr/>
                  <p:nvPr/>
                </p:nvSpPr>
                <p:spPr>
                  <a:xfrm>
                    <a:off x="2590920" y="5334120"/>
                    <a:ext cx="228600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EC    E(W)            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762120" y="2971800"/>
                  <a:ext cx="1447560" cy="132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E(U(W))=U(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6" name=""/>
          <p:cNvSpPr/>
          <p:nvPr/>
        </p:nvSpPr>
        <p:spPr>
          <a:xfrm>
            <a:off x="5410080" y="2514600"/>
            <a:ext cx="358164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(W)=p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(1-p)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C = Equivalente Ci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x. DaP por reducir riesgo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ima justa”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cargo de seguro = Prima efectiva – Prima justa (permite cubrir gastos adm. y venta de la empresa de segu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n averso al riesgo está dispuesto a pagar por reducir 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pasa con los individuos neutros a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y con los amantes de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n un seguro? Desa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Cómo incorporar el riesgo en una invers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Individual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probabil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de sensibilidad y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 simple en la tasa de des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ue at Risk (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C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decisiones secuenciales y árboles de d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forma de Interpret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los flujos de caja son variables Ale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11640" y="3941640"/>
            <a:ext cx="5736240" cy="2122200"/>
            <a:chOff x="1511640" y="3941640"/>
            <a:chExt cx="5736240" cy="2122200"/>
          </a:xfrm>
        </p:grpSpPr>
        <p:sp>
          <p:nvSpPr>
            <p:cNvPr id="217" name=""/>
            <p:cNvSpPr/>
            <p:nvPr/>
          </p:nvSpPr>
          <p:spPr>
            <a:xfrm>
              <a:off x="1682640" y="5029200"/>
              <a:ext cx="532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40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520" y="43498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50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11640" y="5732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956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7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49720" y="40179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1560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40640" y="3941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31160" y="56181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0080" y="455148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83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35:54Z</dcterms:created>
  <dc:creator>Fernando Cartes</dc:creator>
  <dc:description/>
  <dc:language>en-US</dc:language>
  <cp:lastModifiedBy>Fernando</cp:lastModifiedBy>
  <dcterms:modified xsi:type="dcterms:W3CDTF">2005-06-06T23:09:01Z</dcterms:modified>
  <cp:revision>35</cp:revision>
  <dc:subject/>
  <dc:title>Evaluación de Proyectos Bajo Incertidumbre</dc:title>
</cp:coreProperties>
</file>