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7539-E6C4-4149-ACC8-3101541D1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5579-FA22-4F08-B3EC-6F4600689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D001-073B-4CED-883C-E3F205B23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ACAD-2ABF-4937-A3B1-7D6F5A1B8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CCF7D-529F-4506-A733-0DAE107BA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EDC2B-4FEE-4879-8541-53137C31D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8CF12-8205-4F95-8161-AA67008AA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A870F-9EA1-4464-85A1-28FA5B4DD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4EEAF-1A7F-4A14-82BB-D4AA9F0D8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B6A86-F7D5-4008-8A2F-C3F28B9A7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0A77B-EBAD-4421-A481-D301A561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E144-278D-433A-97E2-0470289D7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B5361-640B-462A-ABEC-B922BB994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54D1C-6A59-4F8D-8552-805E81E7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82E58-42FA-41E9-8FCE-887C749CA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F4AC8-1899-4A08-BEEB-C34991FE7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4990B-55E9-4A4D-B1A5-C27544974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3217-49C0-433B-BAEB-C78D26204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3370-AC7C-4DE6-A619-E8C4D2436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98E5-BB86-425C-829C-A5FE5F0F5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0214-2FCD-49E0-AA9C-A0DAB5239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4D5C-1DF0-45A0-8820-384B21E0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AD32-D250-4A14-B8A8-EAA56F12F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780B-45A7-4892-AC83-3693D9A0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9D76D-D0AB-4EB9-8E30-F4192B8E82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B48A0-B93B-43D7-B313-45ABE7435E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049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valuación de Proyectos Bajo Incertidumbr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ernando Cartes M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Análisis Probabilístico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90720" y="6400800"/>
            <a:ext cx="800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ernando Cartes Mena – IN42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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sviación estándar del flujo de caja F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AR(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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=Valor esperado del flujo de caja F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(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alor Esperado de la Inversió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(VAN) 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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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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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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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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045080" y="1579680"/>
            <a:ext cx="783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a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996000" y="5334120"/>
            <a:ext cx="812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1+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724280" y="5334120"/>
            <a:ext cx="911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669360" y="5321160"/>
            <a:ext cx="901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1+r)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149720" y="5410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911840" y="5410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16600" y="5410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Análisis Probabilístic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8031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viación estándar de una Inversión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so 1: Flujos de caja independ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so 2 : Flujos de caja perfectamente correlacion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v(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,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 = 1 = Coeficiente de correl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so 3: Flujos de caja imperfectamente correlacion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6400800"/>
            <a:ext cx="800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ernando Cartes Mena – IN42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2362320" y="3429000"/>
            <a:ext cx="1162440" cy="574560"/>
            <a:chOff x="2362320" y="3429000"/>
            <a:chExt cx="1162440" cy="574560"/>
          </a:xfrm>
        </p:grpSpPr>
        <p:sp>
          <p:nvSpPr>
            <p:cNvPr id="251" name=""/>
            <p:cNvSpPr/>
            <p:nvPr/>
          </p:nvSpPr>
          <p:spPr>
            <a:xfrm>
              <a:off x="2362320" y="3444840"/>
              <a:ext cx="1130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485440" y="3429000"/>
              <a:ext cx="103932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buClr>
                  <a:srgbClr val="003366"/>
                </a:buClr>
                <a:buSzPct val="75000"/>
                <a:buFont typeface="Monotype Sorts" charset="2"/>
                <a:buChar char="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s-ES_tradnl" sz="2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</a:t>
              </a:r>
              <a:r>
                <a:rPr b="0" lang="es-ES_tradnl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s-ES_tradnl" sz="2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Análisis Probabilístic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8031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viación estándar de una Inversión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so 1: Flujos de caja independ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990720" y="6400800"/>
            <a:ext cx="800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ernando Cartes Mena – IN42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2514600" y="3429000"/>
                <a:ext cx="45720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V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ρ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≠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2057400" y="4267080"/>
                <a:ext cx="586728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VPN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(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r</m:t>
                                    </m: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t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nary>
                          </m:e>
                        </m:d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</m:e>
                                </m:d>
                              </m:num>
                              <m:den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r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  <m:r>
                                      <m:t xml:space="preserve">t</m:t>
                                    </m:r>
                                  </m:sup>
                                </m:sSup>
                              </m:den>
                            </m:f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Análisis Probabilístic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8031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viación estándar de una Inversión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so 2: Flujos de caja perfectamente correlacion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ueg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990720" y="6400800"/>
            <a:ext cx="800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ernando Cartes Mena – IN42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2743200" y="2971800"/>
                <a:ext cx="364500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σ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σ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925560" y="4495680"/>
                <a:ext cx="821844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VPN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(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r</m:t>
                                    </m: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t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nary>
                          </m:e>
                        </m:d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f>
                                  <m:num>
                                    <m:r>
                                      <m:t xml:space="preserve">σ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F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  <m:r>
                                      <m:t xml:space="preserve">σ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F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num>
                                  <m:den>
                                    <m:r>
                                      <m:t xml:space="preserve">(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r</m:t>
                                    </m: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j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nary>
                          </m:e>
                        </m:nary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t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0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f>
                                      <m:num>
                                        <m:r>
                                          <m:t xml:space="preserve">σ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F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t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num>
                                      <m:den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r</m:t>
                                        </m:r>
                                        <m:sSup>
                                          <m:e>
                                            <m:r>
                                              <m:t xml:space="preserve">)</m:t>
                                            </m:r>
                                          </m:e>
                                          <m:sup>
                                            <m:r>
                                              <m:t xml:space="preserve">t</m:t>
                                            </m:r>
                                          </m:sup>
                                        </m:sSup>
                                      </m:den>
                                    </m:f>
                                  </m:e>
                                </m:nary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r>
                              <m:t xml:space="preserve">σ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Análisis Probabilístic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8031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viación estándar de una Inversión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so 3: Flujos de caja imperfectamente correlacion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990720" y="6400800"/>
            <a:ext cx="800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ernando Cartes Mena – IN42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1066680" y="3276720"/>
                <a:ext cx="758376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VPN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(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r</m:t>
                                    </m: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t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nary>
                          </m:e>
                        </m:d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</m:e>
                                </m:d>
                              </m:num>
                              <m:den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r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  <m:r>
                                      <m:t xml:space="preserve">t</m:t>
                                    </m:r>
                                  </m:sup>
                                </m:sSup>
                              </m:den>
                            </m:f>
                          </m:e>
                        </m:nary>
                        <m:r>
                          <m:t xml:space="preserve">+</m:t>
                        </m:r>
                        <m:r>
                          <m:t xml:space="preserve">2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f>
                                  <m:num>
                                    <m:r>
                                      <m:t xml:space="preserve">ρ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F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,</m:t>
                                        </m:r>
                                        <m:sSub>
                                          <m:e>
                                            <m:r>
                                              <m:t xml:space="preserve">F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  <m:r>
                                      <m:t xml:space="preserve">σ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F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  <m:r>
                                      <m:t xml:space="preserve">σ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F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num>
                                  <m:den>
                                    <m:r>
                                      <m:t xml:space="preserve">(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r</m:t>
                                    </m: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j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nary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Análisis Probabilístic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8031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buena noticia: Teorema del Límite 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99cc"/>
              </a:buClr>
              <a:buSzPct val="80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una variable aleatoria X puede ser expresada como la suma de n variables aleatorias independientes, entonces para un “n grande” la variable aleatoria X sigue aproximadamente una distribución norm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90720" y="6400800"/>
            <a:ext cx="800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ernando Cartes Mena – IN42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430360" y="4191120"/>
            <a:ext cx="49942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a distribuciones simétricas:  n &gt;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a distribuciones uniformes:  n &gt;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a distribuciones irregulares: n &g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Análisis Probabilístic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8031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buena noticia: Teorema del Límite 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99cc"/>
              </a:buClr>
              <a:buSzPct val="80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una variable aleatoria X puede ser expresada como la suma de n variables aleatorias independientes, entonces para un “n grande” la variable aleatoria X sigue aproximadamente una distribución norm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990720" y="6400800"/>
            <a:ext cx="800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ernando Cartes Mena – IN42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430360" y="4191120"/>
            <a:ext cx="49942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a distribuciones simétricas:  n &gt;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a distribuciones uniformes:  n &gt;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a distribuciones irregulares: n &g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Análisis Probabilístic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demos obtener el comportamiento probabilístico del rendimiento económic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1606680" y="1225800"/>
            <a:ext cx="6791400" cy="5251320"/>
            <a:chOff x="1606680" y="1225800"/>
            <a:chExt cx="6791400" cy="5251320"/>
          </a:xfrm>
        </p:grpSpPr>
        <p:grpSp>
          <p:nvGrpSpPr>
            <p:cNvPr id="278" name=""/>
            <p:cNvGrpSpPr/>
            <p:nvPr/>
          </p:nvGrpSpPr>
          <p:grpSpPr>
            <a:xfrm>
              <a:off x="2362320" y="2825640"/>
              <a:ext cx="4641840" cy="3194280"/>
              <a:chOff x="2362320" y="2825640"/>
              <a:chExt cx="4641840" cy="3194280"/>
            </a:xfrm>
          </p:grpSpPr>
          <p:sp>
            <p:nvSpPr>
              <p:cNvPr id="279" name=""/>
              <p:cNvSpPr/>
              <p:nvPr/>
            </p:nvSpPr>
            <p:spPr>
              <a:xfrm>
                <a:off x="2362320" y="2825640"/>
                <a:ext cx="0" cy="3187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368440" y="6019920"/>
                <a:ext cx="4635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1" name=""/>
            <p:cNvSpPr/>
            <p:nvPr/>
          </p:nvSpPr>
          <p:spPr>
            <a:xfrm>
              <a:off x="7071480" y="5816520"/>
              <a:ext cx="309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734120" y="2463840"/>
              <a:ext cx="1484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Probabilid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419720" y="2978280"/>
              <a:ext cx="0" cy="31874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008680" y="2463840"/>
              <a:ext cx="33894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Distribución de probabilidade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del VA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246200" y="6083280"/>
              <a:ext cx="327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1606680" y="1225800"/>
              <a:ext cx="5550840" cy="4602960"/>
              <a:chOff x="1606680" y="1225800"/>
              <a:chExt cx="5550840" cy="4602960"/>
            </a:xfrm>
          </p:grpSpPr>
          <p:sp>
            <p:nvSpPr>
              <p:cNvPr id="287" name=""/>
              <p:cNvSpPr/>
              <p:nvPr/>
            </p:nvSpPr>
            <p:spPr>
              <a:xfrm>
                <a:off x="1606680" y="1225800"/>
                <a:ext cx="2425320" cy="4558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732200" y="1225800"/>
                <a:ext cx="2425320" cy="4558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038480" y="3124080"/>
                <a:ext cx="700200" cy="389160"/>
              </a:xfrm>
              <a:custGeom>
                <a:avLst/>
                <a:gdLst/>
                <a:ahLst/>
                <a:rect l="l" t="t" r="r" b="b"/>
                <a:pathLst>
                  <a:path w="441" h="245">
                    <a:moveTo>
                      <a:pt x="0" y="240"/>
                    </a:moveTo>
                    <a:lnTo>
                      <a:pt x="0" y="224"/>
                    </a:lnTo>
                    <a:lnTo>
                      <a:pt x="0" y="212"/>
                    </a:lnTo>
                    <a:lnTo>
                      <a:pt x="4" y="200"/>
                    </a:lnTo>
                    <a:lnTo>
                      <a:pt x="4" y="188"/>
                    </a:lnTo>
                    <a:lnTo>
                      <a:pt x="4" y="176"/>
                    </a:lnTo>
                    <a:lnTo>
                      <a:pt x="8" y="160"/>
                    </a:lnTo>
                    <a:lnTo>
                      <a:pt x="12" y="148"/>
                    </a:lnTo>
                    <a:lnTo>
                      <a:pt x="16" y="136"/>
                    </a:lnTo>
                    <a:lnTo>
                      <a:pt x="20" y="124"/>
                    </a:lnTo>
                    <a:lnTo>
                      <a:pt x="28" y="112"/>
                    </a:lnTo>
                    <a:lnTo>
                      <a:pt x="40" y="104"/>
                    </a:lnTo>
                    <a:lnTo>
                      <a:pt x="52" y="92"/>
                    </a:lnTo>
                    <a:lnTo>
                      <a:pt x="60" y="80"/>
                    </a:lnTo>
                    <a:lnTo>
                      <a:pt x="72" y="72"/>
                    </a:lnTo>
                    <a:lnTo>
                      <a:pt x="80" y="60"/>
                    </a:lnTo>
                    <a:lnTo>
                      <a:pt x="92" y="52"/>
                    </a:lnTo>
                    <a:lnTo>
                      <a:pt x="104" y="44"/>
                    </a:lnTo>
                    <a:lnTo>
                      <a:pt x="116" y="36"/>
                    </a:lnTo>
                    <a:lnTo>
                      <a:pt x="128" y="28"/>
                    </a:lnTo>
                    <a:lnTo>
                      <a:pt x="140" y="24"/>
                    </a:lnTo>
                    <a:lnTo>
                      <a:pt x="152" y="16"/>
                    </a:lnTo>
                    <a:lnTo>
                      <a:pt x="164" y="12"/>
                    </a:lnTo>
                    <a:lnTo>
                      <a:pt x="176" y="8"/>
                    </a:lnTo>
                    <a:lnTo>
                      <a:pt x="188" y="0"/>
                    </a:lnTo>
                    <a:lnTo>
                      <a:pt x="200" y="0"/>
                    </a:lnTo>
                    <a:lnTo>
                      <a:pt x="212" y="0"/>
                    </a:lnTo>
                    <a:lnTo>
                      <a:pt x="224" y="0"/>
                    </a:lnTo>
                    <a:lnTo>
                      <a:pt x="236" y="4"/>
                    </a:lnTo>
                    <a:lnTo>
                      <a:pt x="248" y="4"/>
                    </a:lnTo>
                    <a:lnTo>
                      <a:pt x="260" y="4"/>
                    </a:lnTo>
                    <a:lnTo>
                      <a:pt x="276" y="8"/>
                    </a:lnTo>
                    <a:lnTo>
                      <a:pt x="288" y="8"/>
                    </a:lnTo>
                    <a:lnTo>
                      <a:pt x="300" y="12"/>
                    </a:lnTo>
                    <a:lnTo>
                      <a:pt x="312" y="16"/>
                    </a:lnTo>
                    <a:lnTo>
                      <a:pt x="324" y="20"/>
                    </a:lnTo>
                    <a:lnTo>
                      <a:pt x="332" y="32"/>
                    </a:lnTo>
                    <a:lnTo>
                      <a:pt x="344" y="36"/>
                    </a:lnTo>
                    <a:lnTo>
                      <a:pt x="352" y="48"/>
                    </a:lnTo>
                    <a:lnTo>
                      <a:pt x="364" y="56"/>
                    </a:lnTo>
                    <a:lnTo>
                      <a:pt x="368" y="68"/>
                    </a:lnTo>
                    <a:lnTo>
                      <a:pt x="376" y="80"/>
                    </a:lnTo>
                    <a:lnTo>
                      <a:pt x="388" y="88"/>
                    </a:lnTo>
                    <a:lnTo>
                      <a:pt x="392" y="100"/>
                    </a:lnTo>
                    <a:lnTo>
                      <a:pt x="404" y="112"/>
                    </a:lnTo>
                    <a:lnTo>
                      <a:pt x="416" y="124"/>
                    </a:lnTo>
                    <a:lnTo>
                      <a:pt x="420" y="136"/>
                    </a:lnTo>
                    <a:lnTo>
                      <a:pt x="428" y="148"/>
                    </a:lnTo>
                    <a:lnTo>
                      <a:pt x="428" y="160"/>
                    </a:lnTo>
                    <a:lnTo>
                      <a:pt x="436" y="172"/>
                    </a:lnTo>
                    <a:lnTo>
                      <a:pt x="436" y="184"/>
                    </a:lnTo>
                    <a:lnTo>
                      <a:pt x="440" y="196"/>
                    </a:lnTo>
                    <a:lnTo>
                      <a:pt x="440" y="208"/>
                    </a:lnTo>
                    <a:lnTo>
                      <a:pt x="440" y="220"/>
                    </a:lnTo>
                    <a:lnTo>
                      <a:pt x="440" y="232"/>
                    </a:lnTo>
                    <a:lnTo>
                      <a:pt x="436" y="24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734280" y="5191200"/>
                <a:ext cx="26532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SymbolProp BT"/>
                    <a:ea typeface="SymbolProp BT"/>
                  </a:rPr>
                  <a:t>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359160" y="5638680"/>
                <a:ext cx="1054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66680" y="76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Análisis Probabilístic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 Que inversión elegir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2362320" y="2825640"/>
            <a:ext cx="4641840" cy="3194280"/>
            <a:chOff x="2362320" y="2825640"/>
            <a:chExt cx="4641840" cy="3194280"/>
          </a:xfrm>
        </p:grpSpPr>
        <p:sp>
          <p:nvSpPr>
            <p:cNvPr id="295" name=""/>
            <p:cNvSpPr/>
            <p:nvPr/>
          </p:nvSpPr>
          <p:spPr>
            <a:xfrm>
              <a:off x="2362320" y="2825640"/>
              <a:ext cx="0" cy="318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368440" y="6019920"/>
              <a:ext cx="463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7071480" y="5816520"/>
            <a:ext cx="309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734120" y="2463840"/>
            <a:ext cx="1484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b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419720" y="2978280"/>
            <a:ext cx="0" cy="3187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08680" y="2463840"/>
            <a:ext cx="3389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stribución de probabilidad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l V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249440" y="6083280"/>
            <a:ext cx="44028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1606680" y="1225800"/>
            <a:ext cx="5550840" cy="4677840"/>
            <a:chOff x="1606680" y="1225800"/>
            <a:chExt cx="5550840" cy="4677840"/>
          </a:xfrm>
        </p:grpSpPr>
        <p:sp>
          <p:nvSpPr>
            <p:cNvPr id="303" name=""/>
            <p:cNvSpPr/>
            <p:nvPr/>
          </p:nvSpPr>
          <p:spPr>
            <a:xfrm>
              <a:off x="1606680" y="1225800"/>
              <a:ext cx="2425320" cy="455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732200" y="1225800"/>
              <a:ext cx="2425320" cy="455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038480" y="3124080"/>
              <a:ext cx="700200" cy="389160"/>
            </a:xfrm>
            <a:custGeom>
              <a:avLst/>
              <a:gdLst/>
              <a:ahLst/>
              <a:rect l="l" t="t" r="r" b="b"/>
              <a:pathLst>
                <a:path w="441" h="245">
                  <a:moveTo>
                    <a:pt x="0" y="240"/>
                  </a:moveTo>
                  <a:lnTo>
                    <a:pt x="0" y="224"/>
                  </a:lnTo>
                  <a:lnTo>
                    <a:pt x="0" y="212"/>
                  </a:lnTo>
                  <a:lnTo>
                    <a:pt x="4" y="200"/>
                  </a:lnTo>
                  <a:lnTo>
                    <a:pt x="4" y="188"/>
                  </a:lnTo>
                  <a:lnTo>
                    <a:pt x="4" y="176"/>
                  </a:lnTo>
                  <a:lnTo>
                    <a:pt x="8" y="160"/>
                  </a:lnTo>
                  <a:lnTo>
                    <a:pt x="12" y="148"/>
                  </a:lnTo>
                  <a:lnTo>
                    <a:pt x="16" y="136"/>
                  </a:lnTo>
                  <a:lnTo>
                    <a:pt x="20" y="124"/>
                  </a:lnTo>
                  <a:lnTo>
                    <a:pt x="28" y="112"/>
                  </a:lnTo>
                  <a:lnTo>
                    <a:pt x="40" y="104"/>
                  </a:lnTo>
                  <a:lnTo>
                    <a:pt x="52" y="92"/>
                  </a:lnTo>
                  <a:lnTo>
                    <a:pt x="60" y="80"/>
                  </a:lnTo>
                  <a:lnTo>
                    <a:pt x="72" y="72"/>
                  </a:lnTo>
                  <a:lnTo>
                    <a:pt x="80" y="60"/>
                  </a:lnTo>
                  <a:lnTo>
                    <a:pt x="92" y="52"/>
                  </a:lnTo>
                  <a:lnTo>
                    <a:pt x="104" y="44"/>
                  </a:lnTo>
                  <a:lnTo>
                    <a:pt x="116" y="36"/>
                  </a:lnTo>
                  <a:lnTo>
                    <a:pt x="128" y="28"/>
                  </a:lnTo>
                  <a:lnTo>
                    <a:pt x="140" y="24"/>
                  </a:lnTo>
                  <a:lnTo>
                    <a:pt x="152" y="16"/>
                  </a:lnTo>
                  <a:lnTo>
                    <a:pt x="164" y="12"/>
                  </a:lnTo>
                  <a:lnTo>
                    <a:pt x="176" y="8"/>
                  </a:lnTo>
                  <a:lnTo>
                    <a:pt x="188" y="0"/>
                  </a:lnTo>
                  <a:lnTo>
                    <a:pt x="200" y="0"/>
                  </a:lnTo>
                  <a:lnTo>
                    <a:pt x="212" y="0"/>
                  </a:lnTo>
                  <a:lnTo>
                    <a:pt x="224" y="0"/>
                  </a:lnTo>
                  <a:lnTo>
                    <a:pt x="236" y="4"/>
                  </a:lnTo>
                  <a:lnTo>
                    <a:pt x="248" y="4"/>
                  </a:lnTo>
                  <a:lnTo>
                    <a:pt x="260" y="4"/>
                  </a:lnTo>
                  <a:lnTo>
                    <a:pt x="276" y="8"/>
                  </a:lnTo>
                  <a:lnTo>
                    <a:pt x="288" y="8"/>
                  </a:lnTo>
                  <a:lnTo>
                    <a:pt x="300" y="12"/>
                  </a:lnTo>
                  <a:lnTo>
                    <a:pt x="312" y="16"/>
                  </a:lnTo>
                  <a:lnTo>
                    <a:pt x="324" y="20"/>
                  </a:lnTo>
                  <a:lnTo>
                    <a:pt x="332" y="32"/>
                  </a:lnTo>
                  <a:lnTo>
                    <a:pt x="344" y="36"/>
                  </a:lnTo>
                  <a:lnTo>
                    <a:pt x="352" y="48"/>
                  </a:lnTo>
                  <a:lnTo>
                    <a:pt x="364" y="56"/>
                  </a:lnTo>
                  <a:lnTo>
                    <a:pt x="368" y="68"/>
                  </a:lnTo>
                  <a:lnTo>
                    <a:pt x="376" y="80"/>
                  </a:lnTo>
                  <a:lnTo>
                    <a:pt x="388" y="88"/>
                  </a:lnTo>
                  <a:lnTo>
                    <a:pt x="392" y="100"/>
                  </a:lnTo>
                  <a:lnTo>
                    <a:pt x="404" y="112"/>
                  </a:lnTo>
                  <a:lnTo>
                    <a:pt x="416" y="124"/>
                  </a:lnTo>
                  <a:lnTo>
                    <a:pt x="420" y="136"/>
                  </a:lnTo>
                  <a:lnTo>
                    <a:pt x="428" y="148"/>
                  </a:lnTo>
                  <a:lnTo>
                    <a:pt x="428" y="160"/>
                  </a:lnTo>
                  <a:lnTo>
                    <a:pt x="436" y="172"/>
                  </a:lnTo>
                  <a:lnTo>
                    <a:pt x="436" y="184"/>
                  </a:lnTo>
                  <a:lnTo>
                    <a:pt x="440" y="196"/>
                  </a:lnTo>
                  <a:lnTo>
                    <a:pt x="440" y="208"/>
                  </a:lnTo>
                  <a:lnTo>
                    <a:pt x="440" y="220"/>
                  </a:lnTo>
                  <a:lnTo>
                    <a:pt x="440" y="232"/>
                  </a:lnTo>
                  <a:lnTo>
                    <a:pt x="436" y="24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717000" y="5191200"/>
              <a:ext cx="420840" cy="71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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359160" y="5638680"/>
              <a:ext cx="10540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5875200" y="4045320"/>
            <a:ext cx="3949560" cy="166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0000" y="3893040"/>
            <a:ext cx="4101480" cy="1967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629240" y="4680000"/>
            <a:ext cx="1252440" cy="217440"/>
          </a:xfrm>
          <a:custGeom>
            <a:avLst/>
            <a:gdLst/>
            <a:ahLst/>
            <a:rect l="l" t="t" r="r" b="b"/>
            <a:pathLst>
              <a:path w="789" h="137">
                <a:moveTo>
                  <a:pt x="12" y="124"/>
                </a:moveTo>
                <a:lnTo>
                  <a:pt x="0" y="136"/>
                </a:lnTo>
                <a:lnTo>
                  <a:pt x="12" y="128"/>
                </a:lnTo>
                <a:lnTo>
                  <a:pt x="24" y="120"/>
                </a:lnTo>
                <a:lnTo>
                  <a:pt x="36" y="108"/>
                </a:lnTo>
                <a:lnTo>
                  <a:pt x="48" y="100"/>
                </a:lnTo>
                <a:lnTo>
                  <a:pt x="60" y="96"/>
                </a:lnTo>
                <a:lnTo>
                  <a:pt x="72" y="92"/>
                </a:lnTo>
                <a:lnTo>
                  <a:pt x="84" y="88"/>
                </a:lnTo>
                <a:lnTo>
                  <a:pt x="96" y="84"/>
                </a:lnTo>
                <a:lnTo>
                  <a:pt x="108" y="84"/>
                </a:lnTo>
                <a:lnTo>
                  <a:pt x="120" y="76"/>
                </a:lnTo>
                <a:lnTo>
                  <a:pt x="132" y="68"/>
                </a:lnTo>
                <a:lnTo>
                  <a:pt x="144" y="64"/>
                </a:lnTo>
                <a:lnTo>
                  <a:pt x="156" y="60"/>
                </a:lnTo>
                <a:lnTo>
                  <a:pt x="168" y="52"/>
                </a:lnTo>
                <a:lnTo>
                  <a:pt x="180" y="48"/>
                </a:lnTo>
                <a:lnTo>
                  <a:pt x="192" y="44"/>
                </a:lnTo>
                <a:lnTo>
                  <a:pt x="204" y="36"/>
                </a:lnTo>
                <a:lnTo>
                  <a:pt x="216" y="32"/>
                </a:lnTo>
                <a:lnTo>
                  <a:pt x="228" y="28"/>
                </a:lnTo>
                <a:lnTo>
                  <a:pt x="240" y="20"/>
                </a:lnTo>
                <a:lnTo>
                  <a:pt x="252" y="16"/>
                </a:lnTo>
                <a:lnTo>
                  <a:pt x="264" y="12"/>
                </a:lnTo>
                <a:lnTo>
                  <a:pt x="276" y="12"/>
                </a:lnTo>
                <a:lnTo>
                  <a:pt x="288" y="8"/>
                </a:lnTo>
                <a:lnTo>
                  <a:pt x="300" y="4"/>
                </a:lnTo>
                <a:lnTo>
                  <a:pt x="312" y="0"/>
                </a:lnTo>
                <a:lnTo>
                  <a:pt x="324" y="0"/>
                </a:lnTo>
                <a:lnTo>
                  <a:pt x="340" y="0"/>
                </a:lnTo>
                <a:lnTo>
                  <a:pt x="352" y="0"/>
                </a:lnTo>
                <a:lnTo>
                  <a:pt x="364" y="0"/>
                </a:lnTo>
                <a:lnTo>
                  <a:pt x="376" y="0"/>
                </a:lnTo>
                <a:lnTo>
                  <a:pt x="392" y="0"/>
                </a:lnTo>
                <a:lnTo>
                  <a:pt x="404" y="0"/>
                </a:lnTo>
                <a:lnTo>
                  <a:pt x="416" y="0"/>
                </a:lnTo>
                <a:lnTo>
                  <a:pt x="428" y="0"/>
                </a:lnTo>
                <a:lnTo>
                  <a:pt x="440" y="0"/>
                </a:lnTo>
                <a:lnTo>
                  <a:pt x="452" y="0"/>
                </a:lnTo>
                <a:lnTo>
                  <a:pt x="464" y="4"/>
                </a:lnTo>
                <a:lnTo>
                  <a:pt x="476" y="4"/>
                </a:lnTo>
                <a:lnTo>
                  <a:pt x="488" y="4"/>
                </a:lnTo>
                <a:lnTo>
                  <a:pt x="500" y="8"/>
                </a:lnTo>
                <a:lnTo>
                  <a:pt x="512" y="8"/>
                </a:lnTo>
                <a:lnTo>
                  <a:pt x="524" y="8"/>
                </a:lnTo>
                <a:lnTo>
                  <a:pt x="536" y="8"/>
                </a:lnTo>
                <a:lnTo>
                  <a:pt x="548" y="12"/>
                </a:lnTo>
                <a:lnTo>
                  <a:pt x="560" y="12"/>
                </a:lnTo>
                <a:lnTo>
                  <a:pt x="572" y="16"/>
                </a:lnTo>
                <a:lnTo>
                  <a:pt x="584" y="20"/>
                </a:lnTo>
                <a:lnTo>
                  <a:pt x="596" y="24"/>
                </a:lnTo>
                <a:lnTo>
                  <a:pt x="608" y="28"/>
                </a:lnTo>
                <a:lnTo>
                  <a:pt x="620" y="32"/>
                </a:lnTo>
                <a:lnTo>
                  <a:pt x="632" y="36"/>
                </a:lnTo>
                <a:lnTo>
                  <a:pt x="648" y="40"/>
                </a:lnTo>
                <a:lnTo>
                  <a:pt x="660" y="52"/>
                </a:lnTo>
                <a:lnTo>
                  <a:pt x="672" y="56"/>
                </a:lnTo>
                <a:lnTo>
                  <a:pt x="684" y="60"/>
                </a:lnTo>
                <a:lnTo>
                  <a:pt x="696" y="72"/>
                </a:lnTo>
                <a:lnTo>
                  <a:pt x="708" y="80"/>
                </a:lnTo>
                <a:lnTo>
                  <a:pt x="720" y="88"/>
                </a:lnTo>
                <a:lnTo>
                  <a:pt x="728" y="100"/>
                </a:lnTo>
                <a:lnTo>
                  <a:pt x="740" y="104"/>
                </a:lnTo>
                <a:lnTo>
                  <a:pt x="752" y="108"/>
                </a:lnTo>
                <a:lnTo>
                  <a:pt x="764" y="116"/>
                </a:lnTo>
                <a:lnTo>
                  <a:pt x="776" y="124"/>
                </a:lnTo>
                <a:lnTo>
                  <a:pt x="788" y="13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257800" y="2978280"/>
            <a:ext cx="0" cy="3187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003280" y="6016680"/>
            <a:ext cx="42804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264280" y="5638680"/>
            <a:ext cx="1739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766840" y="5276880"/>
            <a:ext cx="4086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252680" y="2768760"/>
            <a:ext cx="365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cc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091120" y="4368960"/>
            <a:ext cx="350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cc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66680" y="76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Análisis Probabilístic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1310040" y="699480"/>
            <a:ext cx="5861520" cy="3350160"/>
            <a:chOff x="1310040" y="699480"/>
            <a:chExt cx="5861520" cy="3350160"/>
          </a:xfrm>
        </p:grpSpPr>
        <p:grpSp>
          <p:nvGrpSpPr>
            <p:cNvPr id="319" name=""/>
            <p:cNvGrpSpPr/>
            <p:nvPr/>
          </p:nvGrpSpPr>
          <p:grpSpPr>
            <a:xfrm>
              <a:off x="2458440" y="1718640"/>
              <a:ext cx="2929320" cy="2031840"/>
              <a:chOff x="2458440" y="1718640"/>
              <a:chExt cx="2929320" cy="2031840"/>
            </a:xfrm>
          </p:grpSpPr>
          <p:sp>
            <p:nvSpPr>
              <p:cNvPr id="320" name=""/>
              <p:cNvSpPr/>
              <p:nvPr/>
            </p:nvSpPr>
            <p:spPr>
              <a:xfrm>
                <a:off x="2458440" y="1718640"/>
                <a:ext cx="0" cy="202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464920" y="3750480"/>
                <a:ext cx="2922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5427000" y="3618000"/>
              <a:ext cx="187920" cy="23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058480" y="1482840"/>
              <a:ext cx="890280" cy="23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Probabilid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758760" y="1814400"/>
              <a:ext cx="0" cy="20257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188600" y="1482840"/>
              <a:ext cx="2027160" cy="41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 algn="ctr"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Distribución de probabilidade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del V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646080" y="3787920"/>
              <a:ext cx="26892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s-ES_tradnl" sz="1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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1983960" y="699480"/>
              <a:ext cx="3502080" cy="2952000"/>
              <a:chOff x="1983960" y="699480"/>
              <a:chExt cx="3502080" cy="2952000"/>
            </a:xfrm>
          </p:grpSpPr>
          <p:sp>
            <p:nvSpPr>
              <p:cNvPr id="328" name=""/>
              <p:cNvSpPr/>
              <p:nvPr/>
            </p:nvSpPr>
            <p:spPr>
              <a:xfrm>
                <a:off x="1983960" y="699480"/>
                <a:ext cx="1526760" cy="2897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959280" y="699480"/>
                <a:ext cx="1526760" cy="2897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517920" y="1905840"/>
                <a:ext cx="442800" cy="247320"/>
              </a:xfrm>
              <a:custGeom>
                <a:avLst/>
                <a:gdLst/>
                <a:ahLst/>
                <a:rect l="l" t="t" r="r" b="b"/>
                <a:pathLst>
                  <a:path w="265" h="147">
                    <a:moveTo>
                      <a:pt x="0" y="144"/>
                    </a:moveTo>
                    <a:lnTo>
                      <a:pt x="0" y="134"/>
                    </a:lnTo>
                    <a:lnTo>
                      <a:pt x="0" y="127"/>
                    </a:lnTo>
                    <a:lnTo>
                      <a:pt x="2" y="120"/>
                    </a:lnTo>
                    <a:lnTo>
                      <a:pt x="2" y="112"/>
                    </a:lnTo>
                    <a:lnTo>
                      <a:pt x="2" y="105"/>
                    </a:lnTo>
                    <a:lnTo>
                      <a:pt x="5" y="96"/>
                    </a:lnTo>
                    <a:lnTo>
                      <a:pt x="7" y="89"/>
                    </a:lnTo>
                    <a:lnTo>
                      <a:pt x="10" y="81"/>
                    </a:lnTo>
                    <a:lnTo>
                      <a:pt x="12" y="74"/>
                    </a:lnTo>
                    <a:lnTo>
                      <a:pt x="17" y="67"/>
                    </a:lnTo>
                    <a:lnTo>
                      <a:pt x="24" y="62"/>
                    </a:lnTo>
                    <a:lnTo>
                      <a:pt x="31" y="55"/>
                    </a:lnTo>
                    <a:lnTo>
                      <a:pt x="36" y="48"/>
                    </a:lnTo>
                    <a:lnTo>
                      <a:pt x="43" y="43"/>
                    </a:lnTo>
                    <a:lnTo>
                      <a:pt x="48" y="36"/>
                    </a:lnTo>
                    <a:lnTo>
                      <a:pt x="55" y="31"/>
                    </a:lnTo>
                    <a:lnTo>
                      <a:pt x="62" y="26"/>
                    </a:lnTo>
                    <a:lnTo>
                      <a:pt x="70" y="22"/>
                    </a:lnTo>
                    <a:lnTo>
                      <a:pt x="77" y="17"/>
                    </a:lnTo>
                    <a:lnTo>
                      <a:pt x="84" y="14"/>
                    </a:lnTo>
                    <a:lnTo>
                      <a:pt x="91" y="10"/>
                    </a:lnTo>
                    <a:lnTo>
                      <a:pt x="98" y="7"/>
                    </a:lnTo>
                    <a:lnTo>
                      <a:pt x="106" y="5"/>
                    </a:lnTo>
                    <a:lnTo>
                      <a:pt x="113" y="0"/>
                    </a:lnTo>
                    <a:lnTo>
                      <a:pt x="120" y="0"/>
                    </a:lnTo>
                    <a:lnTo>
                      <a:pt x="127" y="0"/>
                    </a:lnTo>
                    <a:lnTo>
                      <a:pt x="134" y="0"/>
                    </a:lnTo>
                    <a:lnTo>
                      <a:pt x="142" y="2"/>
                    </a:lnTo>
                    <a:lnTo>
                      <a:pt x="149" y="2"/>
                    </a:lnTo>
                    <a:lnTo>
                      <a:pt x="156" y="2"/>
                    </a:lnTo>
                    <a:lnTo>
                      <a:pt x="166" y="5"/>
                    </a:lnTo>
                    <a:lnTo>
                      <a:pt x="173" y="5"/>
                    </a:lnTo>
                    <a:lnTo>
                      <a:pt x="180" y="7"/>
                    </a:lnTo>
                    <a:lnTo>
                      <a:pt x="187" y="10"/>
                    </a:lnTo>
                    <a:lnTo>
                      <a:pt x="194" y="12"/>
                    </a:lnTo>
                    <a:lnTo>
                      <a:pt x="199" y="19"/>
                    </a:lnTo>
                    <a:lnTo>
                      <a:pt x="206" y="22"/>
                    </a:lnTo>
                    <a:lnTo>
                      <a:pt x="211" y="29"/>
                    </a:lnTo>
                    <a:lnTo>
                      <a:pt x="218" y="34"/>
                    </a:lnTo>
                    <a:lnTo>
                      <a:pt x="221" y="41"/>
                    </a:lnTo>
                    <a:lnTo>
                      <a:pt x="226" y="48"/>
                    </a:lnTo>
                    <a:lnTo>
                      <a:pt x="233" y="53"/>
                    </a:lnTo>
                    <a:lnTo>
                      <a:pt x="235" y="60"/>
                    </a:lnTo>
                    <a:lnTo>
                      <a:pt x="242" y="67"/>
                    </a:lnTo>
                    <a:lnTo>
                      <a:pt x="250" y="74"/>
                    </a:lnTo>
                    <a:lnTo>
                      <a:pt x="252" y="81"/>
                    </a:lnTo>
                    <a:lnTo>
                      <a:pt x="257" y="89"/>
                    </a:lnTo>
                    <a:lnTo>
                      <a:pt x="257" y="96"/>
                    </a:lnTo>
                    <a:lnTo>
                      <a:pt x="262" y="103"/>
                    </a:lnTo>
                    <a:lnTo>
                      <a:pt x="262" y="110"/>
                    </a:lnTo>
                    <a:lnTo>
                      <a:pt x="264" y="117"/>
                    </a:lnTo>
                    <a:lnTo>
                      <a:pt x="264" y="124"/>
                    </a:lnTo>
                    <a:lnTo>
                      <a:pt x="264" y="132"/>
                    </a:lnTo>
                    <a:lnTo>
                      <a:pt x="264" y="139"/>
                    </a:lnTo>
                    <a:lnTo>
                      <a:pt x="262" y="14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309480" y="3216240"/>
                <a:ext cx="258120" cy="43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5440" rIns="55440" tIns="27000" bIns="27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330120"/>
                    <a:tab algn="l" pos="660240"/>
                    <a:tab algn="l" pos="990720"/>
                    <a:tab algn="l" pos="1320840"/>
                    <a:tab algn="l" pos="1650960"/>
                    <a:tab algn="l" pos="1981080"/>
                    <a:tab algn="l" pos="2311560"/>
                    <a:tab algn="l" pos="2641680"/>
                    <a:tab algn="l" pos="2971800"/>
                    <a:tab algn="l" pos="3301920"/>
                    <a:tab algn="l" pos="3632040"/>
                    <a:tab algn="l" pos="3962520"/>
                    <a:tab algn="l" pos="4292640"/>
                    <a:tab algn="l" pos="4622760"/>
                    <a:tab algn="l" pos="4952880"/>
                    <a:tab algn="l" pos="5283360"/>
                    <a:tab algn="l" pos="5613480"/>
                    <a:tab algn="l" pos="5943600"/>
                    <a:tab algn="l" pos="6273720"/>
                    <a:tab algn="l" pos="660384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r>
                  <a:rPr b="0" lang="es-ES_tradnl" sz="11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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330120"/>
                    <a:tab algn="l" pos="660240"/>
                    <a:tab algn="l" pos="990720"/>
                    <a:tab algn="l" pos="1320840"/>
                    <a:tab algn="l" pos="1650960"/>
                    <a:tab algn="l" pos="1981080"/>
                    <a:tab algn="l" pos="2311560"/>
                    <a:tab algn="l" pos="2641680"/>
                    <a:tab algn="l" pos="2971800"/>
                    <a:tab algn="l" pos="3301920"/>
                    <a:tab algn="l" pos="3632040"/>
                    <a:tab algn="l" pos="3962520"/>
                    <a:tab algn="l" pos="4292640"/>
                    <a:tab algn="l" pos="4622760"/>
                    <a:tab algn="l" pos="4952880"/>
                    <a:tab algn="l" pos="5283360"/>
                    <a:tab algn="l" pos="5613480"/>
                    <a:tab algn="l" pos="5943600"/>
                    <a:tab algn="l" pos="6273720"/>
                    <a:tab algn="l" pos="660384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092040" y="3507840"/>
                <a:ext cx="659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4681440" y="2499120"/>
              <a:ext cx="2490120" cy="1050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1100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1100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310040" y="2401560"/>
              <a:ext cx="2587320" cy="124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71"/>
                  </a:moveTo>
                  <a:arcTo wR="10800" hR="10800" stAng="-9284" swAng="5413735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71"/>
                  </a:moveTo>
                  <a:arcTo wR="10800" hR="10800" stAng="-9284" swAng="541373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890880" y="2896200"/>
              <a:ext cx="792360" cy="139680"/>
            </a:xfrm>
            <a:custGeom>
              <a:avLst/>
              <a:gdLst/>
              <a:ahLst/>
              <a:rect l="l" t="t" r="r" b="b"/>
              <a:pathLst>
                <a:path w="474" h="83">
                  <a:moveTo>
                    <a:pt x="7" y="75"/>
                  </a:moveTo>
                  <a:lnTo>
                    <a:pt x="0" y="82"/>
                  </a:lnTo>
                  <a:lnTo>
                    <a:pt x="7" y="77"/>
                  </a:lnTo>
                  <a:lnTo>
                    <a:pt x="14" y="72"/>
                  </a:lnTo>
                  <a:lnTo>
                    <a:pt x="22" y="65"/>
                  </a:lnTo>
                  <a:lnTo>
                    <a:pt x="29" y="60"/>
                  </a:lnTo>
                  <a:lnTo>
                    <a:pt x="36" y="58"/>
                  </a:lnTo>
                  <a:lnTo>
                    <a:pt x="43" y="55"/>
                  </a:lnTo>
                  <a:lnTo>
                    <a:pt x="50" y="53"/>
                  </a:lnTo>
                  <a:lnTo>
                    <a:pt x="58" y="51"/>
                  </a:lnTo>
                  <a:lnTo>
                    <a:pt x="65" y="51"/>
                  </a:lnTo>
                  <a:lnTo>
                    <a:pt x="72" y="46"/>
                  </a:lnTo>
                  <a:lnTo>
                    <a:pt x="79" y="41"/>
                  </a:lnTo>
                  <a:lnTo>
                    <a:pt x="86" y="39"/>
                  </a:lnTo>
                  <a:lnTo>
                    <a:pt x="94" y="36"/>
                  </a:lnTo>
                  <a:lnTo>
                    <a:pt x="101" y="31"/>
                  </a:lnTo>
                  <a:lnTo>
                    <a:pt x="108" y="29"/>
                  </a:lnTo>
                  <a:lnTo>
                    <a:pt x="115" y="27"/>
                  </a:lnTo>
                  <a:lnTo>
                    <a:pt x="122" y="22"/>
                  </a:lnTo>
                  <a:lnTo>
                    <a:pt x="130" y="19"/>
                  </a:lnTo>
                  <a:lnTo>
                    <a:pt x="137" y="17"/>
                  </a:lnTo>
                  <a:lnTo>
                    <a:pt x="144" y="12"/>
                  </a:lnTo>
                  <a:lnTo>
                    <a:pt x="151" y="10"/>
                  </a:lnTo>
                  <a:lnTo>
                    <a:pt x="158" y="7"/>
                  </a:lnTo>
                  <a:lnTo>
                    <a:pt x="166" y="7"/>
                  </a:lnTo>
                  <a:lnTo>
                    <a:pt x="173" y="5"/>
                  </a:lnTo>
                  <a:lnTo>
                    <a:pt x="180" y="2"/>
                  </a:lnTo>
                  <a:lnTo>
                    <a:pt x="187" y="0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1" y="0"/>
                  </a:lnTo>
                  <a:lnTo>
                    <a:pt x="218" y="0"/>
                  </a:lnTo>
                  <a:lnTo>
                    <a:pt x="226" y="0"/>
                  </a:lnTo>
                  <a:lnTo>
                    <a:pt x="235" y="0"/>
                  </a:lnTo>
                  <a:lnTo>
                    <a:pt x="243" y="0"/>
                  </a:lnTo>
                  <a:lnTo>
                    <a:pt x="250" y="0"/>
                  </a:lnTo>
                  <a:lnTo>
                    <a:pt x="257" y="0"/>
                  </a:lnTo>
                  <a:lnTo>
                    <a:pt x="264" y="0"/>
                  </a:lnTo>
                  <a:lnTo>
                    <a:pt x="271" y="0"/>
                  </a:lnTo>
                  <a:lnTo>
                    <a:pt x="279" y="2"/>
                  </a:lnTo>
                  <a:lnTo>
                    <a:pt x="286" y="2"/>
                  </a:lnTo>
                  <a:lnTo>
                    <a:pt x="293" y="2"/>
                  </a:lnTo>
                  <a:lnTo>
                    <a:pt x="300" y="5"/>
                  </a:lnTo>
                  <a:lnTo>
                    <a:pt x="307" y="5"/>
                  </a:lnTo>
                  <a:lnTo>
                    <a:pt x="315" y="5"/>
                  </a:lnTo>
                  <a:lnTo>
                    <a:pt x="322" y="5"/>
                  </a:lnTo>
                  <a:lnTo>
                    <a:pt x="329" y="7"/>
                  </a:lnTo>
                  <a:lnTo>
                    <a:pt x="336" y="7"/>
                  </a:lnTo>
                  <a:lnTo>
                    <a:pt x="343" y="10"/>
                  </a:lnTo>
                  <a:lnTo>
                    <a:pt x="351" y="12"/>
                  </a:lnTo>
                  <a:lnTo>
                    <a:pt x="358" y="14"/>
                  </a:lnTo>
                  <a:lnTo>
                    <a:pt x="365" y="17"/>
                  </a:lnTo>
                  <a:lnTo>
                    <a:pt x="372" y="19"/>
                  </a:lnTo>
                  <a:lnTo>
                    <a:pt x="379" y="22"/>
                  </a:lnTo>
                  <a:lnTo>
                    <a:pt x="389" y="24"/>
                  </a:lnTo>
                  <a:lnTo>
                    <a:pt x="396" y="31"/>
                  </a:lnTo>
                  <a:lnTo>
                    <a:pt x="403" y="34"/>
                  </a:lnTo>
                  <a:lnTo>
                    <a:pt x="411" y="36"/>
                  </a:lnTo>
                  <a:lnTo>
                    <a:pt x="418" y="43"/>
                  </a:lnTo>
                  <a:lnTo>
                    <a:pt x="425" y="48"/>
                  </a:lnTo>
                  <a:lnTo>
                    <a:pt x="432" y="53"/>
                  </a:lnTo>
                  <a:lnTo>
                    <a:pt x="437" y="60"/>
                  </a:lnTo>
                  <a:lnTo>
                    <a:pt x="444" y="63"/>
                  </a:lnTo>
                  <a:lnTo>
                    <a:pt x="451" y="65"/>
                  </a:lnTo>
                  <a:lnTo>
                    <a:pt x="459" y="70"/>
                  </a:lnTo>
                  <a:lnTo>
                    <a:pt x="466" y="75"/>
                  </a:lnTo>
                  <a:lnTo>
                    <a:pt x="473" y="8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89040" y="1814400"/>
              <a:ext cx="0" cy="20257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125240" y="3745800"/>
              <a:ext cx="25956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s-ES_tradnl" sz="1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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295520" y="3508200"/>
              <a:ext cx="10926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604760" y="3270600"/>
              <a:ext cx="2502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s-ES_tradnl" sz="11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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1600200" y="4294080"/>
            <a:ext cx="1974960" cy="520920"/>
            <a:chOff x="1600200" y="4294080"/>
            <a:chExt cx="1974960" cy="520920"/>
          </a:xfrm>
        </p:grpSpPr>
        <p:sp>
          <p:nvSpPr>
            <p:cNvPr id="341" name=""/>
            <p:cNvSpPr/>
            <p:nvPr/>
          </p:nvSpPr>
          <p:spPr>
            <a:xfrm>
              <a:off x="1600200" y="4294080"/>
              <a:ext cx="5014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585520" y="4294080"/>
              <a:ext cx="48456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204280" y="4397400"/>
              <a:ext cx="324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209760" y="4454640"/>
              <a:ext cx="365400" cy="360360"/>
            </a:xfrm>
            <a:prstGeom prst="rightArrow">
              <a:avLst>
                <a:gd name="adj1" fmla="val 50000"/>
                <a:gd name="adj2" fmla="val 50704"/>
              </a:avLst>
            </a:prstGeom>
            <a:solidFill>
              <a:srgbClr val="00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1585080" y="4894200"/>
            <a:ext cx="1990080" cy="505080"/>
            <a:chOff x="1585080" y="4894200"/>
            <a:chExt cx="1990080" cy="505080"/>
          </a:xfrm>
        </p:grpSpPr>
        <p:sp>
          <p:nvSpPr>
            <p:cNvPr id="346" name=""/>
            <p:cNvSpPr/>
            <p:nvPr/>
          </p:nvSpPr>
          <p:spPr>
            <a:xfrm>
              <a:off x="1585080" y="4894200"/>
              <a:ext cx="4924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578320" y="4894200"/>
              <a:ext cx="47556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194920" y="4978440"/>
              <a:ext cx="324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206880" y="5035680"/>
              <a:ext cx="368280" cy="291960"/>
            </a:xfrm>
            <a:prstGeom prst="rightArrow">
              <a:avLst>
                <a:gd name="adj1" fmla="val 50000"/>
                <a:gd name="adj2" fmla="val 63076"/>
              </a:avLst>
            </a:prstGeom>
            <a:solidFill>
              <a:srgbClr val="00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0" name=""/>
          <p:cNvSpPr/>
          <p:nvPr/>
        </p:nvSpPr>
        <p:spPr>
          <a:xfrm>
            <a:off x="3781800" y="4368960"/>
            <a:ext cx="3112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nversión B es más Riesgo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789000" y="4978440"/>
            <a:ext cx="3096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nversión B es más Ren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¿Incertidumbre o Riesgo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8031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literatura tradicional hace una distinción entre riesgo e incertidumb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66cc"/>
                </a:solidFill>
                <a:latin typeface="Arial"/>
              </a:rPr>
              <a:t>Riesgo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: Cuando es posible especificar los resultados de un acontecimiento aleatorio y se conoce la probabilidad de que ocurra cada resulta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66cc"/>
                </a:solidFill>
                <a:latin typeface="Arial"/>
              </a:rPr>
              <a:t>Incertidumbre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: Cuando sólo se conocen los resultados posibles, pero no las probabilidad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n embargo, en la actualidad se ha suprimido esta distinción. La noción bayesiana de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probabilidades subjetiv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se puede emplear para convertir cualquier situación de incertidumbre en una de ries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probabilidad subjetiva es la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mejor estimació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para el que toma la decisión, de la probabilidad real de que ocurra el fenóm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90720" y="6400800"/>
            <a:ext cx="800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ernando Cartes Mena – IN42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Análisis Probabilístic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decisión depende del “comportamiento” del inversor frente al riesg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eu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m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dver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66"/>
                </a:solidFill>
                <a:latin typeface="Times New Roman"/>
              </a:rPr>
              <a:t>Ejempl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Multifondos AF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009880" y="27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190600" y="24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bolsitas" descr="Límites de inversión en renta variable"/>
          <p:cNvPicPr/>
          <p:nvPr/>
        </p:nvPicPr>
        <p:blipFill>
          <a:blip r:embed="rId1"/>
          <a:stretch/>
        </p:blipFill>
        <p:spPr>
          <a:xfrm>
            <a:off x="1295280" y="2666880"/>
            <a:ext cx="6267600" cy="25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66"/>
                </a:solidFill>
                <a:latin typeface="Times New Roman"/>
              </a:rPr>
              <a:t>Ejempl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Multifondos AF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009880" y="27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tabla_rentabilidad" descr="Tabla de rentabilidad"/>
          <p:cNvPicPr/>
          <p:nvPr/>
        </p:nvPicPr>
        <p:blipFill>
          <a:blip r:embed="rId1"/>
          <a:stretch/>
        </p:blipFill>
        <p:spPr>
          <a:xfrm>
            <a:off x="990720" y="3048120"/>
            <a:ext cx="7591320" cy="21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Times New Roman"/>
              </a:rPr>
              <a:t>Cuestionario Identificación perfil cotizante (actitud frente al riesgo)</a:t>
            </a:r>
            <a:br>
              <a:rPr sz="2800"/>
            </a:b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009880" y="27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1143000" y="1916280"/>
            <a:ext cx="6324480" cy="35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Times New Roman"/>
              </a:rPr>
              <a:t>Cuestionario Identificación perfil cotizante (actitud frente al riesgo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009880" y="27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324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Times New Roman"/>
              </a:rPr>
              <a:t>Cuestionario Identificación perfil cotizante (actitud frente al riesgo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009880" y="27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1674720" y="1523880"/>
            <a:ext cx="57927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66"/>
                </a:solidFill>
                <a:latin typeface="Times New Roman"/>
              </a:rPr>
              <a:t>Ejercici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066680" y="1932120"/>
            <a:ext cx="71629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1968480" y="914400"/>
            <a:ext cx="4653000" cy="518148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Ejercici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6" name=""/>
          <p:cNvGraphicFramePr/>
          <p:nvPr/>
        </p:nvGraphicFramePr>
        <p:xfrm>
          <a:off x="1143000" y="1447920"/>
          <a:ext cx="7053120" cy="190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447920"/>
                    <a:ext cx="705312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8" name=""/>
          <p:cNvGraphicFramePr/>
          <p:nvPr/>
        </p:nvGraphicFramePr>
        <p:xfrm>
          <a:off x="2590920" y="3352680"/>
          <a:ext cx="4190760" cy="2930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3352680"/>
                    <a:ext cx="4190760" cy="293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Análisis de Sensibilida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nálisis de Sens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versión evaluada en una situación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determinan las variables mas significativas que afectan los indicadores de rentabilidad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ecios de v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ecios de insu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stos de p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sto de ca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olúmenes de v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eficientes tecnológ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ver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Fuentes de Incertidumbre en Inversion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8031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co conocimiento del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e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man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lazos de adopción (penetra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stos de insu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cnologí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t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námica de los merc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demá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so de fuentes de información poco conf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rrores de interpretación de dato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rrores en la manipulación de infor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90720" y="6400800"/>
            <a:ext cx="800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ernando Cartes Mena – IN42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Análisis de Sensibilida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nálisis de Sensi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busca evaluar la sensibilidad de los indicadores de rentabilidad ante variaciones de las variables significativas  más inciert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606680" y="3587760"/>
            <a:ext cx="5930640" cy="273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606680" y="4191120"/>
            <a:ext cx="5930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661040" y="3781440"/>
            <a:ext cx="60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582560" y="4390920"/>
            <a:ext cx="296424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ituación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recio Venta* (1 - x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recio Insumos * (1 + y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Ventas *(1 - z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stos Operación * (1 + W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.  .   .  . 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572000" y="3587760"/>
            <a:ext cx="0" cy="273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630680" y="3705120"/>
            <a:ext cx="2720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VAN(t1)    VAN(t2)     T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638680" y="3587760"/>
            <a:ext cx="0" cy="273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705720" y="3587760"/>
            <a:ext cx="0" cy="273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Análisis de Sensibilida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nálisis de Sensi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i el impacto de una variable riesgosa en el VAN es importante, entonces el proyecto es RIESGOS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l nivel de riesgo se determina en la medida que el VAN se hace negativo para valores probables de la variab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n este caso, se debe hacer una evaluación costo-beneficio de la pertinencia de comprar certidumbre.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Análisis de Sensibilida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nálisis de Sens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entaj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ácil Apl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ácil de Ente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ventaj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ólo permite analizar variaciones de un parámetro a la ve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 utiliza información como las distribuciones de probabilidad del parámetro a sensibiliz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 entrega distribución de probabilidades de los indicadores de rentabilidad VAN y T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Análisis de Escenarios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nálisis de Escena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a técnica permite solventar el problema de unidimensionalidad del análisis de sensibilidad, definiendo escenarios para las distintas variables riesgosas que afectan la invers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da escenario está determinado por los valores que supuestamente tomarían las variables riesgosas en e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abitualmente se definen tres escenarios: optimista, medio y pesimis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Análisis de Escenarios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907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nálisis de Escena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n 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cenario optimis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ecio producto sube un 20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ecio de los insumos se mantie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ventas crecen en un 10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Ajuste en la tasa de descuent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portamiento del Inversionista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una inversión más riesgosa se le exige una mayor renta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or lo tanto se espera recibir un premio por asumir ries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a forma de incorporar el riego es castigar la tasa de descuento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975640" y="4886280"/>
            <a:ext cx="2566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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1149480" y="4635360"/>
            <a:ext cx="4494600" cy="1003320"/>
            <a:chOff x="1149480" y="4635360"/>
            <a:chExt cx="4494600" cy="1003320"/>
          </a:xfrm>
        </p:grpSpPr>
        <p:sp>
          <p:nvSpPr>
            <p:cNvPr id="404" name=""/>
            <p:cNvSpPr/>
            <p:nvPr/>
          </p:nvSpPr>
          <p:spPr>
            <a:xfrm>
              <a:off x="1149480" y="4635360"/>
              <a:ext cx="7041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</a:t>
              </a:r>
              <a:r>
                <a:rPr b="0" lang="es-ES_tradnl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200960" y="4939920"/>
              <a:ext cx="307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202040" y="5244840"/>
              <a:ext cx="2912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652760" y="4695480"/>
              <a:ext cx="399132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= Tasa de descuento que incorpora riesg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= Tasa de descuento libre de riesgo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= Premio por asumir el riesg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5727600" y="4578480"/>
            <a:ext cx="2959200" cy="1130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Ajuste en la tasa de descuent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1357200" y="1660680"/>
            <a:ext cx="1919520" cy="930240"/>
            <a:chOff x="1357200" y="1660680"/>
            <a:chExt cx="1919520" cy="930240"/>
          </a:xfrm>
        </p:grpSpPr>
        <p:sp>
          <p:nvSpPr>
            <p:cNvPr id="411" name=""/>
            <p:cNvSpPr/>
            <p:nvPr/>
          </p:nvSpPr>
          <p:spPr>
            <a:xfrm>
              <a:off x="1449000" y="1920960"/>
              <a:ext cx="1296360" cy="37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1680" bIns="31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85920"/>
                  <a:tab algn="l" pos="771480"/>
                  <a:tab algn="l" pos="1157400"/>
                  <a:tab algn="l" pos="1542960"/>
                  <a:tab algn="l" pos="1928880"/>
                  <a:tab algn="l" pos="2314440"/>
                  <a:tab algn="l" pos="2700360"/>
                  <a:tab algn="l" pos="3086280"/>
                  <a:tab algn="l" pos="3471840"/>
                  <a:tab algn="l" pos="3857760"/>
                  <a:tab algn="l" pos="4243320"/>
                  <a:tab algn="l" pos="4629240"/>
                  <a:tab algn="l" pos="5014800"/>
                  <a:tab algn="l" pos="5400720"/>
                  <a:tab algn="l" pos="5786280"/>
                  <a:tab algn="l" pos="6172200"/>
                  <a:tab algn="l" pos="6558120"/>
                  <a:tab algn="l" pos="6943680"/>
                  <a:tab algn="l" pos="7329600"/>
                  <a:tab algn="l" pos="771516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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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57200" y="1660680"/>
              <a:ext cx="1919520" cy="930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1378080" y="3282840"/>
            <a:ext cx="6616440" cy="234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378080" y="3962520"/>
            <a:ext cx="661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200400" y="3282840"/>
            <a:ext cx="0" cy="234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52880" y="3282840"/>
            <a:ext cx="0" cy="234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553080" y="3282840"/>
            <a:ext cx="0" cy="234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429920" y="3454560"/>
            <a:ext cx="1822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ivel de Rie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508040" y="4292640"/>
            <a:ext cx="846000" cy="16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l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800520" y="4314960"/>
            <a:ext cx="4222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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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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5828400" y="1539720"/>
            <a:ext cx="2523960" cy="1432800"/>
            <a:chOff x="5828400" y="1539720"/>
            <a:chExt cx="2523960" cy="1432800"/>
          </a:xfrm>
        </p:grpSpPr>
        <p:sp>
          <p:nvSpPr>
            <p:cNvPr id="422" name=""/>
            <p:cNvSpPr/>
            <p:nvPr/>
          </p:nvSpPr>
          <p:spPr>
            <a:xfrm>
              <a:off x="7311960" y="1557000"/>
              <a:ext cx="393840" cy="19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920" rIns="61920" tIns="30240" bIns="30240" anchor="t">
              <a:spAutoFit/>
            </a:bodyPr>
            <a:p>
              <a:pPr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Times New Roman"/>
                </a:rPr>
                <a:t>4500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967160" y="1539720"/>
              <a:ext cx="385200" cy="19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920" rIns="61920" tIns="30240" bIns="30240" anchor="t">
              <a:spAutoFit/>
            </a:bodyPr>
            <a:p>
              <a:pPr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Times New Roman"/>
                </a:rPr>
                <a:t>4500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4" name=""/>
            <p:cNvGrpSpPr/>
            <p:nvPr/>
          </p:nvGrpSpPr>
          <p:grpSpPr>
            <a:xfrm>
              <a:off x="5828400" y="1607760"/>
              <a:ext cx="2394720" cy="1364760"/>
              <a:chOff x="5828400" y="1607760"/>
              <a:chExt cx="2394720" cy="1364760"/>
            </a:xfrm>
          </p:grpSpPr>
          <p:sp>
            <p:nvSpPr>
              <p:cNvPr id="425" name=""/>
              <p:cNvSpPr/>
              <p:nvPr/>
            </p:nvSpPr>
            <p:spPr>
              <a:xfrm>
                <a:off x="6026040" y="2165040"/>
                <a:ext cx="0" cy="390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534440" y="1839600"/>
                <a:ext cx="0" cy="38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8211960" y="1788840"/>
                <a:ext cx="0" cy="43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5828400" y="2774520"/>
                <a:ext cx="44316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1920" rIns="61920" tIns="30240" bIns="30240" anchor="t">
                <a:spAutoFit/>
              </a:bodyPr>
              <a:p>
                <a:pPr>
                  <a:tabLst>
                    <a:tab algn="l" pos="0"/>
                    <a:tab algn="l" pos="399960"/>
                    <a:tab algn="l" pos="800280"/>
                    <a:tab algn="l" pos="1200240"/>
                    <a:tab algn="l" pos="1600200"/>
                    <a:tab algn="l" pos="2000160"/>
                    <a:tab algn="l" pos="2400480"/>
                    <a:tab algn="l" pos="2800440"/>
                    <a:tab algn="l" pos="3200400"/>
                    <a:tab algn="l" pos="3600360"/>
                    <a:tab algn="l" pos="4000680"/>
                    <a:tab algn="l" pos="4400640"/>
                    <a:tab algn="l" pos="4800600"/>
                    <a:tab algn="l" pos="5200560"/>
                    <a:tab algn="l" pos="5600880"/>
                    <a:tab algn="l" pos="6000840"/>
                    <a:tab algn="l" pos="6400800"/>
                    <a:tab algn="l" pos="6800760"/>
                    <a:tab algn="l" pos="7201080"/>
                    <a:tab algn="l" pos="7601040"/>
                    <a:tab algn="l" pos="8001000"/>
                  </a:tabLst>
                </a:pPr>
                <a:r>
                  <a:rPr b="0" lang="es-ES_tradnl" sz="900" spc="-1" strike="noStrike">
                    <a:solidFill>
                      <a:srgbClr val="000000"/>
                    </a:solidFill>
                    <a:latin typeface="Times New Roman"/>
                  </a:rPr>
                  <a:t>10.00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403680" y="1607760"/>
                <a:ext cx="38520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1920" rIns="61920" tIns="30240" bIns="30240" anchor="t">
                <a:spAutoFit/>
              </a:bodyPr>
              <a:p>
                <a:pPr>
                  <a:tabLst>
                    <a:tab algn="l" pos="0"/>
                    <a:tab algn="l" pos="399960"/>
                    <a:tab algn="l" pos="800280"/>
                    <a:tab algn="l" pos="1200240"/>
                    <a:tab algn="l" pos="1600200"/>
                    <a:tab algn="l" pos="2000160"/>
                    <a:tab algn="l" pos="2400480"/>
                    <a:tab algn="l" pos="2800440"/>
                    <a:tab algn="l" pos="3200400"/>
                    <a:tab algn="l" pos="3600360"/>
                    <a:tab algn="l" pos="4000680"/>
                    <a:tab algn="l" pos="4400640"/>
                    <a:tab algn="l" pos="4800600"/>
                    <a:tab algn="l" pos="5200560"/>
                    <a:tab algn="l" pos="5600880"/>
                    <a:tab algn="l" pos="6000840"/>
                    <a:tab algn="l" pos="6400800"/>
                    <a:tab algn="l" pos="6800760"/>
                    <a:tab algn="l" pos="7201080"/>
                    <a:tab algn="l" pos="7601040"/>
                    <a:tab algn="l" pos="8001000"/>
                  </a:tabLst>
                </a:pPr>
                <a:r>
                  <a:rPr b="0" lang="es-ES_tradnl" sz="900" spc="-1" strike="noStrike">
                    <a:solidFill>
                      <a:srgbClr val="000000"/>
                    </a:solidFill>
                    <a:latin typeface="Times New Roman"/>
                  </a:rPr>
                  <a:t>4500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026040" y="2187360"/>
                <a:ext cx="219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611760" y="1788840"/>
                <a:ext cx="0" cy="43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2" name=""/>
          <p:cNvSpPr/>
          <p:nvPr/>
        </p:nvSpPr>
        <p:spPr>
          <a:xfrm>
            <a:off x="3879000" y="3438360"/>
            <a:ext cx="39024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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627880" y="3438360"/>
            <a:ext cx="291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553000" y="4314960"/>
            <a:ext cx="4222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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995520" y="3454560"/>
            <a:ext cx="734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153200" y="4314960"/>
            <a:ext cx="7002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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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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Ajuste en la tasa de descuent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relación más usada entre riesgo y rentabilidad es lineal (CAP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o significa que la rentabilidad de un activo se “explica” en función de la cantidad de riesgo que tie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términos más forma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4419720" y="4597560"/>
                <a:ext cx="31240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40" name=""/>
          <p:cNvGrpSpPr/>
          <p:nvPr/>
        </p:nvGrpSpPr>
        <p:grpSpPr>
          <a:xfrm>
            <a:off x="3278160" y="5181480"/>
            <a:ext cx="5210640" cy="1340640"/>
            <a:chOff x="3278160" y="5181480"/>
            <a:chExt cx="5210640" cy="1340640"/>
          </a:xfrm>
        </p:grpSpPr>
        <p:sp>
          <p:nvSpPr>
            <p:cNvPr id="441" name=""/>
            <p:cNvSpPr/>
            <p:nvPr/>
          </p:nvSpPr>
          <p:spPr>
            <a:xfrm>
              <a:off x="3278160" y="5796000"/>
              <a:ext cx="115236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rentabilida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esperad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497480" y="5871960"/>
              <a:ext cx="9205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tasa lib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de riesg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432400" y="5194080"/>
              <a:ext cx="443160" cy="13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5889600" y="5181480"/>
              <a:ext cx="519120" cy="16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564520" y="5871960"/>
              <a:ext cx="10774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premio p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riesg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394400" y="5946480"/>
              <a:ext cx="109440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riesg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sistemáti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3832200" y="5181480"/>
              <a:ext cx="366840" cy="62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4899240" y="5181480"/>
              <a:ext cx="61920" cy="69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 flipV="1">
              <a:off x="5877000" y="5409720"/>
              <a:ext cx="1634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804000" y="5346720"/>
              <a:ext cx="366840" cy="21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7185240" y="5333760"/>
              <a:ext cx="519120" cy="23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 flipV="1">
              <a:off x="7248600" y="5638680"/>
              <a:ext cx="23976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Simulació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8031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imitaciones del modelo probabilístic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tendimiento de probabil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ifícil formulación matemá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delación de las relaciones entre fluj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delación de la relaciones entre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mposibilidad de llegar a una solución analí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olución : Simulación Comput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990720" y="6400800"/>
            <a:ext cx="800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ernando Cartes Mena – IN42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Simulació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8031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istribución de Probabilidades Más Us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ifor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ria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 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d hoc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6400800"/>
            <a:ext cx="800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ernando Cartes Mena – IN42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6254640" y="2209680"/>
            <a:ext cx="2502000" cy="381240"/>
            <a:chOff x="6254640" y="2209680"/>
            <a:chExt cx="2502000" cy="381240"/>
          </a:xfrm>
        </p:grpSpPr>
        <p:sp>
          <p:nvSpPr>
            <p:cNvPr id="460" name=""/>
            <p:cNvSpPr/>
            <p:nvPr/>
          </p:nvSpPr>
          <p:spPr>
            <a:xfrm>
              <a:off x="6254640" y="2590920"/>
              <a:ext cx="250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858000" y="221616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864480" y="2209680"/>
              <a:ext cx="1358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229600" y="221616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3511440" y="2749680"/>
            <a:ext cx="2502000" cy="679320"/>
            <a:chOff x="3511440" y="2749680"/>
            <a:chExt cx="2502000" cy="679320"/>
          </a:xfrm>
        </p:grpSpPr>
        <p:sp>
          <p:nvSpPr>
            <p:cNvPr id="465" name=""/>
            <p:cNvSpPr/>
            <p:nvPr/>
          </p:nvSpPr>
          <p:spPr>
            <a:xfrm>
              <a:off x="3511440" y="3429000"/>
              <a:ext cx="250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4032360" y="2749680"/>
              <a:ext cx="622080" cy="67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654440" y="2749680"/>
              <a:ext cx="596880" cy="67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6330960" y="3510000"/>
            <a:ext cx="2502000" cy="909720"/>
            <a:chOff x="6330960" y="3510000"/>
            <a:chExt cx="2502000" cy="909720"/>
          </a:xfrm>
        </p:grpSpPr>
        <p:sp>
          <p:nvSpPr>
            <p:cNvPr id="469" name=""/>
            <p:cNvSpPr/>
            <p:nvPr/>
          </p:nvSpPr>
          <p:spPr>
            <a:xfrm>
              <a:off x="6330960" y="4419720"/>
              <a:ext cx="250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781680" y="3510000"/>
              <a:ext cx="2032200" cy="801720"/>
            </a:xfrm>
            <a:custGeom>
              <a:avLst/>
              <a:gdLst/>
              <a:ahLst/>
              <a:rect l="l" t="t" r="r" b="b"/>
              <a:pathLst>
                <a:path w="1280" h="505">
                  <a:moveTo>
                    <a:pt x="0" y="477"/>
                  </a:moveTo>
                  <a:lnTo>
                    <a:pt x="27" y="468"/>
                  </a:lnTo>
                  <a:lnTo>
                    <a:pt x="63" y="468"/>
                  </a:lnTo>
                  <a:lnTo>
                    <a:pt x="113" y="468"/>
                  </a:lnTo>
                  <a:lnTo>
                    <a:pt x="142" y="460"/>
                  </a:lnTo>
                  <a:lnTo>
                    <a:pt x="171" y="453"/>
                  </a:lnTo>
                  <a:lnTo>
                    <a:pt x="199" y="453"/>
                  </a:lnTo>
                  <a:lnTo>
                    <a:pt x="221" y="439"/>
                  </a:lnTo>
                  <a:lnTo>
                    <a:pt x="243" y="424"/>
                  </a:lnTo>
                  <a:lnTo>
                    <a:pt x="271" y="410"/>
                  </a:lnTo>
                  <a:lnTo>
                    <a:pt x="300" y="381"/>
                  </a:lnTo>
                  <a:lnTo>
                    <a:pt x="329" y="345"/>
                  </a:lnTo>
                  <a:lnTo>
                    <a:pt x="343" y="288"/>
                  </a:lnTo>
                  <a:lnTo>
                    <a:pt x="365" y="259"/>
                  </a:lnTo>
                  <a:lnTo>
                    <a:pt x="372" y="201"/>
                  </a:lnTo>
                  <a:lnTo>
                    <a:pt x="394" y="172"/>
                  </a:lnTo>
                  <a:lnTo>
                    <a:pt x="401" y="136"/>
                  </a:lnTo>
                  <a:lnTo>
                    <a:pt x="415" y="108"/>
                  </a:lnTo>
                  <a:lnTo>
                    <a:pt x="430" y="86"/>
                  </a:lnTo>
                  <a:lnTo>
                    <a:pt x="437" y="64"/>
                  </a:lnTo>
                  <a:lnTo>
                    <a:pt x="451" y="36"/>
                  </a:lnTo>
                  <a:lnTo>
                    <a:pt x="473" y="14"/>
                  </a:lnTo>
                  <a:lnTo>
                    <a:pt x="495" y="7"/>
                  </a:lnTo>
                  <a:lnTo>
                    <a:pt x="523" y="0"/>
                  </a:lnTo>
                  <a:lnTo>
                    <a:pt x="545" y="0"/>
                  </a:lnTo>
                  <a:lnTo>
                    <a:pt x="567" y="7"/>
                  </a:lnTo>
                  <a:lnTo>
                    <a:pt x="617" y="21"/>
                  </a:lnTo>
                  <a:lnTo>
                    <a:pt x="646" y="28"/>
                  </a:lnTo>
                  <a:lnTo>
                    <a:pt x="675" y="50"/>
                  </a:lnTo>
                  <a:lnTo>
                    <a:pt x="703" y="72"/>
                  </a:lnTo>
                  <a:lnTo>
                    <a:pt x="732" y="93"/>
                  </a:lnTo>
                  <a:lnTo>
                    <a:pt x="739" y="115"/>
                  </a:lnTo>
                  <a:lnTo>
                    <a:pt x="761" y="129"/>
                  </a:lnTo>
                  <a:lnTo>
                    <a:pt x="768" y="151"/>
                  </a:lnTo>
                  <a:lnTo>
                    <a:pt x="783" y="180"/>
                  </a:lnTo>
                  <a:lnTo>
                    <a:pt x="797" y="208"/>
                  </a:lnTo>
                  <a:lnTo>
                    <a:pt x="811" y="230"/>
                  </a:lnTo>
                  <a:lnTo>
                    <a:pt x="826" y="252"/>
                  </a:lnTo>
                  <a:lnTo>
                    <a:pt x="833" y="280"/>
                  </a:lnTo>
                  <a:lnTo>
                    <a:pt x="855" y="302"/>
                  </a:lnTo>
                  <a:lnTo>
                    <a:pt x="855" y="324"/>
                  </a:lnTo>
                  <a:lnTo>
                    <a:pt x="876" y="352"/>
                  </a:lnTo>
                  <a:lnTo>
                    <a:pt x="891" y="374"/>
                  </a:lnTo>
                  <a:lnTo>
                    <a:pt x="905" y="396"/>
                  </a:lnTo>
                  <a:lnTo>
                    <a:pt x="927" y="410"/>
                  </a:lnTo>
                  <a:lnTo>
                    <a:pt x="941" y="432"/>
                  </a:lnTo>
                  <a:lnTo>
                    <a:pt x="963" y="446"/>
                  </a:lnTo>
                  <a:lnTo>
                    <a:pt x="991" y="460"/>
                  </a:lnTo>
                  <a:lnTo>
                    <a:pt x="1013" y="475"/>
                  </a:lnTo>
                  <a:lnTo>
                    <a:pt x="1035" y="482"/>
                  </a:lnTo>
                  <a:lnTo>
                    <a:pt x="1063" y="489"/>
                  </a:lnTo>
                  <a:lnTo>
                    <a:pt x="1085" y="489"/>
                  </a:lnTo>
                  <a:lnTo>
                    <a:pt x="1107" y="496"/>
                  </a:lnTo>
                  <a:lnTo>
                    <a:pt x="1135" y="504"/>
                  </a:lnTo>
                  <a:lnTo>
                    <a:pt x="1157" y="504"/>
                  </a:lnTo>
                  <a:lnTo>
                    <a:pt x="1179" y="504"/>
                  </a:lnTo>
                  <a:lnTo>
                    <a:pt x="1207" y="504"/>
                  </a:lnTo>
                  <a:lnTo>
                    <a:pt x="1229" y="504"/>
                  </a:lnTo>
                  <a:lnTo>
                    <a:pt x="1251" y="504"/>
                  </a:lnTo>
                  <a:lnTo>
                    <a:pt x="1279" y="5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3359160" y="4521240"/>
            <a:ext cx="1081800" cy="1003320"/>
            <a:chOff x="3359160" y="4521240"/>
            <a:chExt cx="1081800" cy="1003320"/>
          </a:xfrm>
        </p:grpSpPr>
        <p:sp>
          <p:nvSpPr>
            <p:cNvPr id="472" name=""/>
            <p:cNvSpPr/>
            <p:nvPr/>
          </p:nvSpPr>
          <p:spPr>
            <a:xfrm flipV="1">
              <a:off x="3359160" y="4718160"/>
              <a:ext cx="52056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359160" y="5035680"/>
              <a:ext cx="52056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947400" y="4521240"/>
              <a:ext cx="3931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S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47040" y="5130720"/>
              <a:ext cx="493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6019920" y="4800600"/>
            <a:ext cx="2501640" cy="1365120"/>
            <a:chOff x="6019920" y="4800600"/>
            <a:chExt cx="2501640" cy="1365120"/>
          </a:xfrm>
        </p:grpSpPr>
        <p:sp>
          <p:nvSpPr>
            <p:cNvPr id="477" name=""/>
            <p:cNvSpPr/>
            <p:nvPr/>
          </p:nvSpPr>
          <p:spPr>
            <a:xfrm>
              <a:off x="6019920" y="6165720"/>
              <a:ext cx="250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248160" y="5257800"/>
              <a:ext cx="63000" cy="901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324480" y="5334120"/>
              <a:ext cx="139320" cy="82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476760" y="5791320"/>
              <a:ext cx="2916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781680" y="5562720"/>
              <a:ext cx="215280" cy="596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010280" y="5257800"/>
              <a:ext cx="291600" cy="901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314840" y="4800600"/>
              <a:ext cx="63360" cy="1359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391160" y="5867280"/>
              <a:ext cx="748800" cy="292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Niveles de Riesg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8031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iesgo Paí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ariabilidad del PG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iesgo Sector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ariabilidad del PGB sectorial (del mercado objetivo y de insum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iesgo de una Inver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0000"/>
                </a:solidFill>
                <a:latin typeface="Arial"/>
              </a:rPr>
              <a:t>Apalancamiento Operativo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Asociado a costos operacionales fij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 mayores costos operacionales fijos mayor es el volumen de venta necesario para cubrir esos costos (mayor riesgo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0000"/>
                </a:solidFill>
                <a:latin typeface="Arial"/>
              </a:rPr>
              <a:t>Apalancamiento Financiero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Asociado al nivel de endeuda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Los pagos financieros mayores obligan a la empresa a mantener un nivel alto de utilidades para continuar con la actividad productiva y si la empresa no puede cubrir estos pagos, puede verse obligada a cerrar por aquellos acreedores pendientes de pag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90720" y="6400800"/>
            <a:ext cx="800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ernando Cartes Mena – IN42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Simulació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8031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ced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990720" y="6400800"/>
            <a:ext cx="800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ernando Cartes Mena – IN42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740720" y="3809880"/>
            <a:ext cx="1282680" cy="978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1131840" y="2209680"/>
            <a:ext cx="1796760" cy="1401480"/>
            <a:chOff x="1131840" y="2209680"/>
            <a:chExt cx="1796760" cy="1401480"/>
          </a:xfrm>
        </p:grpSpPr>
        <p:sp>
          <p:nvSpPr>
            <p:cNvPr id="490" name=""/>
            <p:cNvSpPr/>
            <p:nvPr/>
          </p:nvSpPr>
          <p:spPr>
            <a:xfrm>
              <a:off x="1155600" y="2209680"/>
              <a:ext cx="1739880" cy="1282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131840" y="2244600"/>
              <a:ext cx="1796760" cy="13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Datos de entrada 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- Tasa descuen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- Tasa Impositi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- Definición Probabilístic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de variables riesgos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- Relación entre variab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3594240" y="2362320"/>
            <a:ext cx="1206360" cy="977760"/>
            <a:chOff x="3594240" y="2362320"/>
            <a:chExt cx="1206360" cy="977760"/>
          </a:xfrm>
        </p:grpSpPr>
        <p:sp>
          <p:nvSpPr>
            <p:cNvPr id="493" name=""/>
            <p:cNvSpPr/>
            <p:nvPr/>
          </p:nvSpPr>
          <p:spPr>
            <a:xfrm>
              <a:off x="3594240" y="2362320"/>
              <a:ext cx="1206360" cy="977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722040" y="2549520"/>
              <a:ext cx="104112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Generador d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variable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aleatorias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3418200" y="5257800"/>
            <a:ext cx="1699200" cy="1036440"/>
            <a:chOff x="3418200" y="5257800"/>
            <a:chExt cx="1699200" cy="1036440"/>
          </a:xfrm>
        </p:grpSpPr>
        <p:sp>
          <p:nvSpPr>
            <p:cNvPr id="496" name=""/>
            <p:cNvSpPr/>
            <p:nvPr/>
          </p:nvSpPr>
          <p:spPr>
            <a:xfrm>
              <a:off x="3441600" y="5257800"/>
              <a:ext cx="1587600" cy="977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418200" y="5292720"/>
              <a:ext cx="1699200" cy="10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Criterios de Evaluación 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- V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- TI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- Pay-B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- .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5727600" y="3809880"/>
            <a:ext cx="1213200" cy="978120"/>
            <a:chOff x="5727600" y="3809880"/>
            <a:chExt cx="1213200" cy="978120"/>
          </a:xfrm>
        </p:grpSpPr>
        <p:sp>
          <p:nvSpPr>
            <p:cNvPr id="499" name=""/>
            <p:cNvSpPr/>
            <p:nvPr/>
          </p:nvSpPr>
          <p:spPr>
            <a:xfrm>
              <a:off x="5727600" y="3809880"/>
              <a:ext cx="1206720" cy="97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778000" y="3921120"/>
              <a:ext cx="116280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Distribución d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Probabilidade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del criterio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seleccionados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"/>
          <p:cNvSpPr/>
          <p:nvPr/>
        </p:nvSpPr>
        <p:spPr>
          <a:xfrm>
            <a:off x="2908440" y="2813040"/>
            <a:ext cx="672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197240" y="335268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889520" y="433692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946920" y="4336920"/>
            <a:ext cx="74916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3670200" y="3809880"/>
            <a:ext cx="1206720" cy="978120"/>
            <a:chOff x="3670200" y="3809880"/>
            <a:chExt cx="1206720" cy="978120"/>
          </a:xfrm>
        </p:grpSpPr>
        <p:sp>
          <p:nvSpPr>
            <p:cNvPr id="506" name=""/>
            <p:cNvSpPr/>
            <p:nvPr/>
          </p:nvSpPr>
          <p:spPr>
            <a:xfrm>
              <a:off x="3670200" y="3809880"/>
              <a:ext cx="1206720" cy="97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810600" y="4038480"/>
              <a:ext cx="83664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Modelo 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Inversió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7729200" y="3886200"/>
            <a:ext cx="140076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Análisis estadístic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de la distribució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de los criterios 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valuac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4267080" y="4800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Preferencias frente al riesg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8031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forma de la función de utilidad de una persona determina su preferencia frente al ries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Juego justo”: el juego deja inalterado el nivel de utilidad esperado (sólo introduce riesg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3480" indent="0" algn="just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or ejemplo, Cara gana $1.000 y Sello pierde $1.000 ¿qué hace un individuo averso, uno neutral y uno amante del riesg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90720" y="6400800"/>
            <a:ext cx="800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ernando Cartes Mena – IN42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449720" y="3886200"/>
            <a:ext cx="2421720" cy="2399400"/>
            <a:chOff x="1449720" y="3886200"/>
            <a:chExt cx="2421720" cy="2399400"/>
          </a:xfrm>
        </p:grpSpPr>
        <p:grpSp>
          <p:nvGrpSpPr>
            <p:cNvPr id="143" name=""/>
            <p:cNvGrpSpPr/>
            <p:nvPr/>
          </p:nvGrpSpPr>
          <p:grpSpPr>
            <a:xfrm>
              <a:off x="1905120" y="3897360"/>
              <a:ext cx="1936800" cy="2046240"/>
              <a:chOff x="1905120" y="3897360"/>
              <a:chExt cx="1936800" cy="2046240"/>
            </a:xfrm>
          </p:grpSpPr>
          <p:grpSp>
            <p:nvGrpSpPr>
              <p:cNvPr id="144" name=""/>
              <p:cNvGrpSpPr/>
              <p:nvPr/>
            </p:nvGrpSpPr>
            <p:grpSpPr>
              <a:xfrm>
                <a:off x="1905120" y="4266720"/>
                <a:ext cx="1936800" cy="1676880"/>
                <a:chOff x="1905120" y="4266720"/>
                <a:chExt cx="1936800" cy="1676880"/>
              </a:xfrm>
            </p:grpSpPr>
            <p:grpSp>
              <p:nvGrpSpPr>
                <p:cNvPr id="145" name=""/>
                <p:cNvGrpSpPr/>
                <p:nvPr/>
              </p:nvGrpSpPr>
              <p:grpSpPr>
                <a:xfrm>
                  <a:off x="1905120" y="4266720"/>
                  <a:ext cx="1936800" cy="1676880"/>
                  <a:chOff x="1905120" y="4266720"/>
                  <a:chExt cx="1936800" cy="167688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 flipV="1">
                    <a:off x="1905120" y="4266720"/>
                    <a:ext cx="0" cy="1676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1936800" y="5943600"/>
                    <a:ext cx="19051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8" name=""/>
                <p:cNvSpPr/>
                <p:nvPr/>
              </p:nvSpPr>
              <p:spPr>
                <a:xfrm>
                  <a:off x="1981080" y="4495680"/>
                  <a:ext cx="1447920" cy="1143000"/>
                </a:xfrm>
                <a:custGeom>
                  <a:avLst/>
                  <a:gdLst/>
                  <a:ahLst/>
                  <a:rect l="l" t="t" r="r" b="b"/>
                  <a:pathLst>
                    <a:path w="960" h="720">
                      <a:moveTo>
                        <a:pt x="0" y="720"/>
                      </a:moveTo>
                      <a:cubicBezTo>
                        <a:pt x="44" y="556"/>
                        <a:pt x="88" y="392"/>
                        <a:pt x="192" y="288"/>
                      </a:cubicBezTo>
                      <a:cubicBezTo>
                        <a:pt x="296" y="184"/>
                        <a:pt x="496" y="144"/>
                        <a:pt x="624" y="96"/>
                      </a:cubicBezTo>
                      <a:cubicBezTo>
                        <a:pt x="752" y="48"/>
                        <a:pt x="856" y="24"/>
                        <a:pt x="960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9" name=""/>
              <p:cNvSpPr/>
              <p:nvPr/>
            </p:nvSpPr>
            <p:spPr>
              <a:xfrm>
                <a:off x="2270160" y="3897360"/>
                <a:ext cx="974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Avers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1449720" y="3886200"/>
              <a:ext cx="2421720" cy="2399400"/>
              <a:chOff x="1449720" y="3886200"/>
              <a:chExt cx="2421720" cy="2399400"/>
            </a:xfrm>
          </p:grpSpPr>
          <p:sp>
            <p:nvSpPr>
              <p:cNvPr id="151" name=""/>
              <p:cNvSpPr/>
              <p:nvPr/>
            </p:nvSpPr>
            <p:spPr>
              <a:xfrm>
                <a:off x="1449720" y="38862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522960" y="5978520"/>
                <a:ext cx="348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W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3" name=""/>
          <p:cNvGrpSpPr/>
          <p:nvPr/>
        </p:nvGrpSpPr>
        <p:grpSpPr>
          <a:xfrm>
            <a:off x="3888000" y="3962520"/>
            <a:ext cx="2421720" cy="2399040"/>
            <a:chOff x="3888000" y="3962520"/>
            <a:chExt cx="2421720" cy="2399040"/>
          </a:xfrm>
        </p:grpSpPr>
        <p:grpSp>
          <p:nvGrpSpPr>
            <p:cNvPr id="154" name=""/>
            <p:cNvGrpSpPr/>
            <p:nvPr/>
          </p:nvGrpSpPr>
          <p:grpSpPr>
            <a:xfrm>
              <a:off x="4267080" y="4038480"/>
              <a:ext cx="1936800" cy="1905120"/>
              <a:chOff x="4267080" y="4038480"/>
              <a:chExt cx="1936800" cy="1905120"/>
            </a:xfrm>
          </p:grpSpPr>
          <p:grpSp>
            <p:nvGrpSpPr>
              <p:cNvPr id="155" name=""/>
              <p:cNvGrpSpPr/>
              <p:nvPr/>
            </p:nvGrpSpPr>
            <p:grpSpPr>
              <a:xfrm>
                <a:off x="4267080" y="4266720"/>
                <a:ext cx="1936800" cy="1676880"/>
                <a:chOff x="4267080" y="4266720"/>
                <a:chExt cx="1936800" cy="1676880"/>
              </a:xfrm>
            </p:grpSpPr>
            <p:sp>
              <p:nvSpPr>
                <p:cNvPr id="156" name=""/>
                <p:cNvSpPr/>
                <p:nvPr/>
              </p:nvSpPr>
              <p:spPr>
                <a:xfrm flipV="1">
                  <a:off x="4267080" y="4266720"/>
                  <a:ext cx="0" cy="1676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4298760" y="5943600"/>
                  <a:ext cx="1905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8" name=""/>
              <p:cNvSpPr/>
              <p:nvPr/>
            </p:nvSpPr>
            <p:spPr>
              <a:xfrm>
                <a:off x="4724280" y="4038480"/>
                <a:ext cx="1003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Neutra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3888000" y="3962520"/>
              <a:ext cx="2421720" cy="2399040"/>
              <a:chOff x="3888000" y="3962520"/>
              <a:chExt cx="2421720" cy="2399040"/>
            </a:xfrm>
          </p:grpSpPr>
          <p:sp>
            <p:nvSpPr>
              <p:cNvPr id="160" name=""/>
              <p:cNvSpPr/>
              <p:nvPr/>
            </p:nvSpPr>
            <p:spPr>
              <a:xfrm flipV="1">
                <a:off x="4419720" y="4419360"/>
                <a:ext cx="137160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888000" y="3962520"/>
                <a:ext cx="2421720" cy="2399040"/>
                <a:chOff x="3888000" y="3962520"/>
                <a:chExt cx="2421720" cy="239904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3888000" y="3962520"/>
                  <a:ext cx="308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Times New Roman"/>
                    </a:rPr>
                    <a:t>U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5961240" y="6054480"/>
                  <a:ext cx="348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Times New Roman"/>
                    </a:rPr>
                    <a:t>W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64" name=""/>
          <p:cNvGrpSpPr/>
          <p:nvPr/>
        </p:nvGrpSpPr>
        <p:grpSpPr>
          <a:xfrm>
            <a:off x="6174000" y="3886200"/>
            <a:ext cx="2421720" cy="2399400"/>
            <a:chOff x="6174000" y="3886200"/>
            <a:chExt cx="2421720" cy="2399400"/>
          </a:xfrm>
        </p:grpSpPr>
        <p:grpSp>
          <p:nvGrpSpPr>
            <p:cNvPr id="165" name=""/>
            <p:cNvGrpSpPr/>
            <p:nvPr/>
          </p:nvGrpSpPr>
          <p:grpSpPr>
            <a:xfrm>
              <a:off x="6477120" y="4038480"/>
              <a:ext cx="1936800" cy="1828800"/>
              <a:chOff x="6477120" y="4038480"/>
              <a:chExt cx="1936800" cy="1828800"/>
            </a:xfrm>
          </p:grpSpPr>
          <p:grpSp>
            <p:nvGrpSpPr>
              <p:cNvPr id="166" name=""/>
              <p:cNvGrpSpPr/>
              <p:nvPr/>
            </p:nvGrpSpPr>
            <p:grpSpPr>
              <a:xfrm>
                <a:off x="6477120" y="4191120"/>
                <a:ext cx="1936800" cy="1676160"/>
                <a:chOff x="6477120" y="4191120"/>
                <a:chExt cx="1936800" cy="1676160"/>
              </a:xfrm>
            </p:grpSpPr>
            <p:sp>
              <p:nvSpPr>
                <p:cNvPr id="167" name=""/>
                <p:cNvSpPr/>
                <p:nvPr/>
              </p:nvSpPr>
              <p:spPr>
                <a:xfrm flipV="1">
                  <a:off x="6477120" y="4191120"/>
                  <a:ext cx="0" cy="1676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6508800" y="5867280"/>
                  <a:ext cx="1905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9" name=""/>
              <p:cNvSpPr/>
              <p:nvPr/>
            </p:nvSpPr>
            <p:spPr>
              <a:xfrm>
                <a:off x="6629400" y="4267080"/>
                <a:ext cx="1752480" cy="1295640"/>
              </a:xfrm>
              <a:custGeom>
                <a:avLst/>
                <a:gdLst/>
                <a:ahLst/>
                <a:rect l="l" t="t" r="r" b="b"/>
                <a:pathLst>
                  <a:path w="1104" h="816">
                    <a:moveTo>
                      <a:pt x="0" y="816"/>
                    </a:moveTo>
                    <a:cubicBezTo>
                      <a:pt x="196" y="796"/>
                      <a:pt x="392" y="776"/>
                      <a:pt x="528" y="720"/>
                    </a:cubicBezTo>
                    <a:cubicBezTo>
                      <a:pt x="664" y="664"/>
                      <a:pt x="728" y="576"/>
                      <a:pt x="816" y="480"/>
                    </a:cubicBezTo>
                    <a:cubicBezTo>
                      <a:pt x="904" y="384"/>
                      <a:pt x="1008" y="224"/>
                      <a:pt x="1056" y="144"/>
                    </a:cubicBezTo>
                    <a:cubicBezTo>
                      <a:pt x="1104" y="64"/>
                      <a:pt x="1104" y="32"/>
                      <a:pt x="1104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087320" y="4038480"/>
                <a:ext cx="1056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Amant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6174000" y="3886200"/>
              <a:ext cx="2421720" cy="2399400"/>
              <a:chOff x="6174000" y="3886200"/>
              <a:chExt cx="2421720" cy="2399400"/>
            </a:xfrm>
          </p:grpSpPr>
          <p:sp>
            <p:nvSpPr>
              <p:cNvPr id="172" name=""/>
              <p:cNvSpPr/>
              <p:nvPr/>
            </p:nvSpPr>
            <p:spPr>
              <a:xfrm>
                <a:off x="6174000" y="38862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247240" y="5978520"/>
                <a:ext cx="348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Times New Roman"/>
                  </a:rPr>
                  <a:t>W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Prima por Riesg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8031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dividuo Averso al Ries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6400800"/>
            <a:ext cx="800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ernando Cartes Mena – IN42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762120" y="2362320"/>
            <a:ext cx="5027760" cy="3308040"/>
            <a:chOff x="762120" y="2362320"/>
            <a:chExt cx="5027760" cy="3308040"/>
          </a:xfrm>
        </p:grpSpPr>
        <p:sp>
          <p:nvSpPr>
            <p:cNvPr id="178" name=""/>
            <p:cNvSpPr/>
            <p:nvPr/>
          </p:nvSpPr>
          <p:spPr>
            <a:xfrm>
              <a:off x="3733920" y="36576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762120" y="2362320"/>
              <a:ext cx="5027760" cy="3308040"/>
              <a:chOff x="762120" y="2362320"/>
              <a:chExt cx="5027760" cy="3308040"/>
            </a:xfrm>
          </p:grpSpPr>
          <p:grpSp>
            <p:nvGrpSpPr>
              <p:cNvPr id="180" name=""/>
              <p:cNvGrpSpPr/>
              <p:nvPr/>
            </p:nvGrpSpPr>
            <p:grpSpPr>
              <a:xfrm>
                <a:off x="2362320" y="3276720"/>
                <a:ext cx="2286000" cy="1904760"/>
                <a:chOff x="2362320" y="3276720"/>
                <a:chExt cx="2286000" cy="1904760"/>
              </a:xfrm>
            </p:grpSpPr>
            <p:grpSp>
              <p:nvGrpSpPr>
                <p:cNvPr id="181" name=""/>
                <p:cNvGrpSpPr/>
                <p:nvPr/>
              </p:nvGrpSpPr>
              <p:grpSpPr>
                <a:xfrm>
                  <a:off x="2362320" y="3276720"/>
                  <a:ext cx="2286000" cy="1904760"/>
                  <a:chOff x="2362320" y="3276720"/>
                  <a:chExt cx="2286000" cy="1904760"/>
                </a:xfrm>
              </p:grpSpPr>
              <p:sp>
                <p:nvSpPr>
                  <p:cNvPr id="182" name=""/>
                  <p:cNvSpPr/>
                  <p:nvPr/>
                </p:nvSpPr>
                <p:spPr>
                  <a:xfrm>
                    <a:off x="4648320" y="3276720"/>
                    <a:ext cx="0" cy="1904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 flipH="1">
                    <a:off x="2362320" y="3276720"/>
                    <a:ext cx="2286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4" name=""/>
                <p:cNvGrpSpPr/>
                <p:nvPr/>
              </p:nvGrpSpPr>
              <p:grpSpPr>
                <a:xfrm>
                  <a:off x="2438280" y="4038480"/>
                  <a:ext cx="457200" cy="1143000"/>
                  <a:chOff x="2438280" y="4038480"/>
                  <a:chExt cx="457200" cy="1143000"/>
                </a:xfrm>
              </p:grpSpPr>
              <p:sp>
                <p:nvSpPr>
                  <p:cNvPr id="185" name=""/>
                  <p:cNvSpPr/>
                  <p:nvPr/>
                </p:nvSpPr>
                <p:spPr>
                  <a:xfrm>
                    <a:off x="2862360" y="4038480"/>
                    <a:ext cx="0" cy="1143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 flipH="1">
                    <a:off x="2438280" y="4038480"/>
                    <a:ext cx="457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7" name=""/>
                <p:cNvSpPr/>
                <p:nvPr/>
              </p:nvSpPr>
              <p:spPr>
                <a:xfrm flipV="1">
                  <a:off x="2819520" y="3276720"/>
                  <a:ext cx="1828800" cy="761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2437920" y="3657600"/>
                <a:ext cx="1295640" cy="1523880"/>
                <a:chOff x="2437920" y="3657600"/>
                <a:chExt cx="1295640" cy="1523880"/>
              </a:xfrm>
            </p:grpSpPr>
            <p:sp>
              <p:nvSpPr>
                <p:cNvPr id="189" name=""/>
                <p:cNvSpPr/>
                <p:nvPr/>
              </p:nvSpPr>
              <p:spPr>
                <a:xfrm flipH="1">
                  <a:off x="2437920" y="3657600"/>
                  <a:ext cx="1295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3287880" y="365760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762120" y="2362320"/>
                <a:ext cx="5027760" cy="3308040"/>
                <a:chOff x="762120" y="2362320"/>
                <a:chExt cx="5027760" cy="3308040"/>
              </a:xfrm>
            </p:grpSpPr>
            <p:grpSp>
              <p:nvGrpSpPr>
                <p:cNvPr id="192" name=""/>
                <p:cNvGrpSpPr/>
                <p:nvPr/>
              </p:nvGrpSpPr>
              <p:grpSpPr>
                <a:xfrm>
                  <a:off x="1602360" y="2362320"/>
                  <a:ext cx="4187520" cy="3308040"/>
                  <a:chOff x="1602360" y="2362320"/>
                  <a:chExt cx="4187520" cy="3308040"/>
                </a:xfrm>
              </p:grpSpPr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1602360" y="2362320"/>
                    <a:ext cx="4187520" cy="3173040"/>
                    <a:chOff x="1602360" y="2362320"/>
                    <a:chExt cx="4187520" cy="3173040"/>
                  </a:xfrm>
                </p:grpSpPr>
                <p:grpSp>
                  <p:nvGrpSpPr>
                    <p:cNvPr id="194" name=""/>
                    <p:cNvGrpSpPr/>
                    <p:nvPr/>
                  </p:nvGrpSpPr>
                  <p:grpSpPr>
                    <a:xfrm>
                      <a:off x="2400480" y="2377440"/>
                      <a:ext cx="3389400" cy="2801880"/>
                      <a:chOff x="2400480" y="2377440"/>
                      <a:chExt cx="3389400" cy="2801880"/>
                    </a:xfrm>
                  </p:grpSpPr>
                  <p:grpSp>
                    <p:nvGrpSpPr>
                      <p:cNvPr id="195" name=""/>
                      <p:cNvGrpSpPr/>
                      <p:nvPr/>
                    </p:nvGrpSpPr>
                    <p:grpSpPr>
                      <a:xfrm>
                        <a:off x="2400480" y="2883240"/>
                        <a:ext cx="3389400" cy="2296080"/>
                        <a:chOff x="2400480" y="2883240"/>
                        <a:chExt cx="3389400" cy="2296080"/>
                      </a:xfrm>
                    </p:grpSpPr>
                    <p:grpSp>
                      <p:nvGrpSpPr>
                        <p:cNvPr id="196" name=""/>
                        <p:cNvGrpSpPr/>
                        <p:nvPr/>
                      </p:nvGrpSpPr>
                      <p:grpSpPr>
                        <a:xfrm>
                          <a:off x="2400480" y="2883240"/>
                          <a:ext cx="3389400" cy="2296080"/>
                          <a:chOff x="2400480" y="2883240"/>
                          <a:chExt cx="3389400" cy="2296080"/>
                        </a:xfrm>
                      </p:grpSpPr>
                      <p:sp>
                        <p:nvSpPr>
                          <p:cNvPr id="197" name=""/>
                          <p:cNvSpPr/>
                          <p:nvPr/>
                        </p:nvSpPr>
                        <p:spPr>
                          <a:xfrm flipV="1">
                            <a:off x="2400480" y="2883240"/>
                            <a:ext cx="0" cy="229572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  <a:tailEnd len="med" type="triangle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98" name=""/>
                          <p:cNvSpPr/>
                          <p:nvPr/>
                        </p:nvSpPr>
                        <p:spPr>
                          <a:xfrm>
                            <a:off x="2455920" y="5179320"/>
                            <a:ext cx="3333960" cy="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000000"/>
                            </a:solidFill>
                            <a:miter/>
                            <a:tailEnd len="med" type="triangle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533320" y="3196440"/>
                          <a:ext cx="2534040" cy="1565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60" h="720">
                              <a:moveTo>
                                <a:pt x="0" y="720"/>
                              </a:moveTo>
                              <a:cubicBezTo>
                                <a:pt x="44" y="556"/>
                                <a:pt x="88" y="392"/>
                                <a:pt x="192" y="288"/>
                              </a:cubicBezTo>
                              <a:cubicBezTo>
                                <a:pt x="296" y="184"/>
                                <a:pt x="496" y="144"/>
                                <a:pt x="624" y="96"/>
                              </a:cubicBezTo>
                              <a:cubicBezTo>
                                <a:pt x="752" y="48"/>
                                <a:pt x="856" y="24"/>
                                <a:pt x="960" y="0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00" name=""/>
                      <p:cNvSpPr/>
                      <p:nvPr/>
                    </p:nvSpPr>
                    <p:spPr>
                      <a:xfrm>
                        <a:off x="3039120" y="2377440"/>
                        <a:ext cx="974880" cy="3988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s-ES_tradnl" sz="20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Averso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01" name=""/>
                    <p:cNvGrpSpPr/>
                    <p:nvPr/>
                  </p:nvGrpSpPr>
                  <p:grpSpPr>
                    <a:xfrm>
                      <a:off x="1602360" y="2362320"/>
                      <a:ext cx="3977280" cy="3173040"/>
                      <a:chOff x="1602360" y="2362320"/>
                      <a:chExt cx="3977280" cy="3173040"/>
                    </a:xfrm>
                  </p:grpSpPr>
                  <p:sp>
                    <p:nvSpPr>
                      <p:cNvPr id="202" name=""/>
                      <p:cNvSpPr/>
                      <p:nvPr/>
                    </p:nvSpPr>
                    <p:spPr>
                      <a:xfrm>
                        <a:off x="1602360" y="2362320"/>
                        <a:ext cx="308880" cy="3070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s-ES_tradnl" sz="1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U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3" name=""/>
                      <p:cNvSpPr/>
                      <p:nvPr/>
                    </p:nvSpPr>
                    <p:spPr>
                      <a:xfrm>
                        <a:off x="5231160" y="5228280"/>
                        <a:ext cx="348480" cy="3070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s-ES_tradnl" sz="1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W</a:t>
                        </a:r>
                        <a:endPara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204" name=""/>
                  <p:cNvSpPr/>
                  <p:nvPr/>
                </p:nvSpPr>
                <p:spPr>
                  <a:xfrm>
                    <a:off x="2590920" y="5334120"/>
                    <a:ext cx="2286000" cy="33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_tradnl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 </a:t>
                    </a:r>
                    <a:r>
                      <a:rPr b="0" lang="es-ES_tradnl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</a:t>
                    </a:r>
                    <a:r>
                      <a:rPr b="0" lang="es-ES_tradnl" sz="14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r>
                      <a:rPr b="0" lang="es-ES_tradnl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    EC    E(W)            W</a:t>
                    </a:r>
                    <a:r>
                      <a:rPr b="0" lang="es-ES_tradnl" sz="14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0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5" name=""/>
                <p:cNvSpPr/>
                <p:nvPr/>
              </p:nvSpPr>
              <p:spPr>
                <a:xfrm>
                  <a:off x="762120" y="2971800"/>
                  <a:ext cx="1447560" cy="132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Times New Roman"/>
                    </a:rPr>
                    <a:t>U(W0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Times New Roman"/>
                    </a:rPr>
                    <a:t>E(U(W))=U(EC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Times New Roman"/>
                    </a:rPr>
                    <a:t>U(W1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06" name=""/>
          <p:cNvSpPr/>
          <p:nvPr/>
        </p:nvSpPr>
        <p:spPr>
          <a:xfrm>
            <a:off x="5410080" y="2514600"/>
            <a:ext cx="3581640" cy="29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(W)=p*W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+(1-p)*W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C = Equivalente Cier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Máx. DaP por reducir riesgo = W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rima justa” = W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E(W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Recargo de seguro = Prima efectiva – Prima justa (permite cubrir gastos adm. y venta de la empresa de segur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Un averso al riesgo está dispuesto a pagar por reducir el ries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Prima por Riesg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8031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Qué pasa con los individuos neutros al riesg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.y con los amantes del riesg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oman un seguro? Desarro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90720" y="6400800"/>
            <a:ext cx="800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ernando Cartes Mena – IN42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¿Cómo incorporar el riesgo en una inversión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8031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nálisis Individual de una inver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nálisis probabilís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nálisis de sensibilidad y e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juste simple en la tasa de descu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mul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alue at Risk (V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nálisis de portfo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delo CAP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nálisis de decisiones secuenciales y árboles de dec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90720" y="6400800"/>
            <a:ext cx="800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ernando Cartes Mena – IN42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Análisis Probabilístico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8031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forma de Interpretar el Ries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 variabilidad de los flujos de caja, que implica la variabilidad del V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hora los flujos de caja son variables Aleato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90720" y="6400800"/>
            <a:ext cx="800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ernando Cartes Mena – IN42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511640" y="3941640"/>
            <a:ext cx="5736240" cy="2122200"/>
            <a:chOff x="1511640" y="3941640"/>
            <a:chExt cx="5736240" cy="2122200"/>
          </a:xfrm>
        </p:grpSpPr>
        <p:sp>
          <p:nvSpPr>
            <p:cNvPr id="217" name=""/>
            <p:cNvSpPr/>
            <p:nvPr/>
          </p:nvSpPr>
          <p:spPr>
            <a:xfrm>
              <a:off x="1682640" y="5029200"/>
              <a:ext cx="532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76520" y="503568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514600" y="442584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124080" y="503568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962520" y="442584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495680" y="503568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105520" y="4349880"/>
              <a:ext cx="0" cy="67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715000" y="442584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248520" y="442584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10280" y="503568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511640" y="5732640"/>
              <a:ext cx="33228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959560" y="5694480"/>
              <a:ext cx="33228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97640" y="4094280"/>
              <a:ext cx="33228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349720" y="4017960"/>
              <a:ext cx="33228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915600" y="5694480"/>
              <a:ext cx="33228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626440" y="4094280"/>
              <a:ext cx="33228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940640" y="3941640"/>
              <a:ext cx="33228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331160" y="5618160"/>
              <a:ext cx="33228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310080" y="4551480"/>
              <a:ext cx="486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.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083640" y="4094280"/>
              <a:ext cx="33228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1T00:35:54Z</dcterms:created>
  <dc:creator>Fernando Cartes</dc:creator>
  <dc:description/>
  <dc:language>en-US</dc:language>
  <cp:lastModifiedBy>Fernando</cp:lastModifiedBy>
  <dcterms:modified xsi:type="dcterms:W3CDTF">2005-06-06T23:09:01Z</dcterms:modified>
  <cp:revision>35</cp:revision>
  <dc:subject/>
  <dc:title>Evaluación de Proyectos Bajo Incertidumbre</dc:title>
</cp:coreProperties>
</file>