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8A9F-2D39-4CDC-BF67-624A7095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83DD-9CE4-4015-857F-12070B25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631-66A9-408F-BC98-E91CB934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260E-341C-455E-B8FC-B6E68DF9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D389-C527-4D3F-ACF2-69BEA1E7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B9E-76D7-45B7-8E66-06CAA2FC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A6D-388B-4C46-B21B-7EECC497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158F-6113-4466-B86A-AC354A78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F12A-A21C-48B8-85E1-C96C9AAF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760D-530E-44EE-8EB2-66C54A5A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5087-AD85-4DB6-B01C-1EC68AD5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4040-452F-4EC9-A5C3-066CB8EF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823F-2094-41D2-9089-4427804DB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sto de Oportunidad y Matemáticas Financie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2578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fesor: Matias L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Inflación y tasa de inter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jemplo: en qué banco me conviene depositar 100UM, en el banco que ofrece 18% de interés anual o en el que ofrece UF+5.5% an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erés nominal (i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143000"/>
            <a:ext cx="746748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 tasa incluye las expectativas de inflación o de variación de precios en el período relevante y una expectativa de tasa real. Esta tasa intenta igualar el valor del dinero en el futuro, para adquirir bienes re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erés real (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la tasa que iguala en términos físicos, bienes de hoy, con bienes del futur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5562720"/>
            <a:ext cx="746784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ipo de Interés nominal = tipo de interés real+tasa de inflación espe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85800"/>
            <a:ext cx="7696080" cy="43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d. es exactamente igual de feliz, con 100 manzanas hoy, que con 105 dentro de un año. En este caso el interés real es de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ongamos además que sabemos que el valor de las manzanas va a subir en un año en un 10%, es decir la inflación  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 = 1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sí entonces, la pregunta es, que tasa debo pedir en términos nominales (del dinero), para obtener las 105 manzanas dentro de un añ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Flujos de Dinero en el 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1752480"/>
            <a:ext cx="769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extendemos la situación en que nos es indiferente recibir un dinero hoy o en el futuro, siempre y cuando éste nos permita adquirir igual cantidad de bienes, podemos llegar al extremo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loración de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1523880"/>
            <a:ext cx="731520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Valor Actual de un activo que produce un flujo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ntro de un período, se puede calcular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 =    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289548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 +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3505320"/>
            <a:ext cx="701028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Valor Actual de un activo que genera un flujo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 cada período, se puede calcular entonce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 =        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4419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487692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+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5410080"/>
            <a:ext cx="7238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último, si agregamos el flujo inicial (normalmente negativo, llegamos al VAN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petuidades y Anualida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600200"/>
            <a:ext cx="7924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petuidad: Es una obligación que entrega cada cierto período un pago consta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A =     C     +     C     +     C    +…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895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+r         (1+r)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(1+r)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895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2895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3581280"/>
            <a:ext cx="7086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a  a = C/(1+r)     y      x = 1/(1+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enemos entonces que:     VA = a(1+x+x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+……..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(1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ultiplicando por “x” a ambos lados:  Vax = a(x+x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+……)  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stando (2)-(1), tenemos: VA(1-x) =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ustituyendo los valores de “a” y “x”, tenemos: VA (1-1/(1+r)) = C/(1+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inalmente entonces  :     VA = C/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85800"/>
            <a:ext cx="716292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petuidades Crec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ongamos que la perpetuidad crece a una tasa “g” en cada perío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A =   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+   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1+g)   + 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1+g)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+…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25146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+r          (1+r)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2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1+r)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57800" y="2590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3276720"/>
            <a:ext cx="693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llega finalmente a que VA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(r-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533520"/>
            <a:ext cx="784872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ualidad: es un activo que produce cada año (o período), una suma fija, durante un número determinado de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anualidad que paga el flujo permanentemente, desde el año 1, se transforma en una perpetuidad V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C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perpetuidad que hace su primer pago en el año t+1, se puede anotar como :  V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(C/r)* 1/(1+r)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t              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o debido a que en el año t, tiene un VA de C/r y debe ser traída a t=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ómo se valora entonces, una anualidad que paga un flujo desde el año 1 al año 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o se representa por la diferencia de los dos valores anterio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nualid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C        1     -      1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1320" y="6248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56386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5715000"/>
            <a:ext cx="152640" cy="762120"/>
          </a:xfrm>
          <a:custGeom>
            <a:avLst/>
            <a:gdLst>
              <a:gd name="textAreaLeft" fmla="*/ 44640 w 152640"/>
              <a:gd name="textAreaRight" fmla="*/ 153000 w 15264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6248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62720" y="6095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lores Futu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600200"/>
            <a:ext cx="70106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Futuro de una cuota consta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F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(1+r)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mostrar que se puede calcular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F = C(1+r)   (1+r)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657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3352680"/>
            <a:ext cx="76320" cy="533520"/>
          </a:xfrm>
          <a:custGeom>
            <a:avLst/>
            <a:gdLst>
              <a:gd name="textAreaLeft" fmla="*/ 22320 w 76320"/>
              <a:gd name="textAreaRight" fmla="*/ 76320 w 7632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3352680"/>
            <a:ext cx="76320" cy="533520"/>
          </a:xfrm>
          <a:custGeom>
            <a:avLst/>
            <a:gdLst>
              <a:gd name="textAreaLeft" fmla="*/ 0 w 76320"/>
              <a:gd name="textAreaRight" fmla="*/ 53640 w 7632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4267080"/>
            <a:ext cx="7467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: Si ahorramos $16.000 mensuales por los próximos 25 años, una tasa mensual de 1%, al término del período tendría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F = 16000*1,01*(1,01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- 1) = 30.363.1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59436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5943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76212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álculo de la cuota de un Présta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P =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1219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17524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143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676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167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25146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puede demostrar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VP *    (1+r)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312408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75960" cy="685800"/>
          </a:xfrm>
          <a:custGeom>
            <a:avLst/>
            <a:gdLst>
              <a:gd name="textAreaLeft" fmla="*/ 0 w 75960"/>
              <a:gd name="textAreaRight" fmla="*/ 53280 w 7596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038480"/>
            <a:ext cx="83055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pide un crédito de 1000UF para pagarse en 10 cuotas anuales, con una tasa de interés anual de 1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1000 * (1,1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* 0,1/(1,1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-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20574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ta: hacer S=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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1/(1+r)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,  se prueba que S= (1+r)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22860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 =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19051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1+r)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n *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el beneficio al que se renuncia al invertir en un proyecto determinado o de realizar una actividad determi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sí entonces el C. de O. Representa el máximo beneficio al que se puede optar si el recurso en análisis es dedicado a la mejor alterna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Oportunidad del Capital, es la rentabilidad a la que se renuncia al invertir en un proyecto, en vez de destinarlo a la mejor opción financiera que tiene la empresa: Tasa mínima o Tasa de Descu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838080" y="1447920"/>
          <a:ext cx="748692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74869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838080" y="6094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bla de desarrollo del crédi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685800"/>
            <a:ext cx="7925040" cy="53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alumno financia el 100% de su carrera con crédito. El arancel anual es de $1.600.000 (100 UF) y la tasa de interés real es de 2% an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s estudios duran 6 años. Una vez recibido tendrá dos años de gracia en que no paga intereses ni amortización y luego 10 años para pagarlo en cuotas mensuales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) Cuánto debe al término de la Carr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F = 100* (1,02)*(1,0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-1) = 643,43 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 Tasa de Interés mensu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e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(1 + 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nu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1/1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-1 = 0,16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,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426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99072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) Cálculo de la cuo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43,43 UF =            C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1905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1905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14479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20574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 = 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12952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1371600"/>
            <a:ext cx="76320" cy="990720"/>
          </a:xfrm>
          <a:custGeom>
            <a:avLst/>
            <a:gdLst>
              <a:gd name="textAreaLeft" fmla="*/ 22320 w 76320"/>
              <a:gd name="textAreaRight" fmla="*/ 76320 w 7632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1371600"/>
            <a:ext cx="75960" cy="990720"/>
          </a:xfrm>
          <a:custGeom>
            <a:avLst/>
            <a:gdLst>
              <a:gd name="textAreaLeft" fmla="*/ 0 w 75960"/>
              <a:gd name="textAreaRight" fmla="*/ 53280 w 7596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2819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sí se llega a que se deben pagar 6,154 UF/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cc"/>
                </a:solidFill>
                <a:uFillTx/>
                <a:latin typeface="Times New Roman"/>
              </a:rPr>
              <a:t>Anualidad</a:t>
            </a:r>
            <a:r>
              <a:rPr b="1" lang="es-CL" sz="2800" spc="-1" strike="noStrike">
                <a:solidFill>
                  <a:srgbClr val="0000cc"/>
                </a:solidFill>
                <a:latin typeface="Times New Roman"/>
              </a:rPr>
              <a:t>: Flujo constante C que se paga durante n añ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ultiplicando la ecuación anterior por (1+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stando la primera ecuación de la segun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09480" y="1828800"/>
                <a:ext cx="760104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39560" y="4140360"/>
                <a:ext cx="824724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362320" y="5869080"/>
                <a:ext cx="44910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Fórmulas úl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90080" y="1523880"/>
            <a:ext cx="8953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pejando el valor de V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cc"/>
                </a:solidFill>
                <a:uFillTx/>
                <a:latin typeface="Times New Roman"/>
              </a:rPr>
              <a:t>Perpetuidad</a:t>
            </a:r>
            <a:r>
              <a:rPr b="1" lang="es-CL" sz="2800" spc="-1" strike="noStrike">
                <a:solidFill>
                  <a:srgbClr val="0000cc"/>
                </a:solidFill>
                <a:latin typeface="Times New Roman"/>
              </a:rPr>
              <a:t>: Flujo constante C que se paga infinit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895480" y="2043000"/>
                <a:ext cx="33228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630520" y="4195800"/>
                <a:ext cx="3846600" cy="19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lim>
                        </m:limLow>
                        <m:r>
                          <m:t xml:space="preserve">C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Fórmulas úl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rentabilidad es el beneficio, como una proporción de la inversión o desembolso ini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2590920"/>
            <a:ext cx="61722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deremos un mundo sin impuestos, donde invertimos $150 y nos retorna $170 en un año, sin límite de inver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ntabilidad = (170-150)/150 = 13,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esta tasa, supera nuestro costo de oportunidad, entonces realizaríamos este tipo de inversió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Valor Futuro y Valor Pres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dinero, que es el medio que nos permite realizar las transacciones en los mercados, no tiene el mismo “valor”, en distintos instantes de tiempo. Ello nos lleva a buscar formas de igualar el valor de este dinero en distintos instantes de ti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é relación hay entre el valor de $1 hoy, en un año más o un año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sí entonces si hoy tengo $1 millón “seguro” en el bolsillo, que cantidad debería tener en un año más (también seguro) en el bolsillo para que sea indiferente tenerlo hoy o en un año m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lación entre Valor Futuro y Valor Pres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1523880"/>
            <a:ext cx="655344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F = VP +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Oportunidad = r*V.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onde “r” es la rentabilidad o tasa de descuento que debo exigir al dinero a causa de las oportunidades de inversión de que dispo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 el ejemplo anterior, entonces nos sería indiferente tener $1 millón hoy o $1.133.333 dentro de un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1066680"/>
            <a:ext cx="685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bién, podemos deci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P = factor de descuento x V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P = 1/(1+r) x V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380988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costo de oportunidad del dinero, se expresa como una tasa de interés para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295280"/>
            <a:ext cx="815328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erés Si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fija una tasa de interés, que se aplica sobre el VP, según el número de períodos que transcurr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F = VP (1 + n* i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erés Com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tasa de interés se aplica sobre el Valor Presente, calculado al inicio de cada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= V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n-1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1+i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 V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= VP, entonces V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= VP(1+i)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90440" y="176328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Times New Roman"/>
              </a:rPr>
              <a:t>Infl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 el aumento sostenido y generalizado del nivel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mide a través del Indice de Precios al Consumidor (IPC), que refleja los cambios en el precio de una canasta de bienes y servicios. Dicha canasta representa el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umo promedio de las famili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y se estima a partir de la Encuesta de Presupuestos Famili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der adquisitivo del dinero: ¿Cuántas canastas puedo comprar con una determinada cantidad de dinero?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 hay inflación el poder adquisitivo ca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Inflación y Tasa de Inter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nterés nominal: mide el aumento en dinero, es decir, lo que se paga por sobre lo adeud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jemplo : Depósitos en pesos a una cierta cantidad de dí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nterés real: mide el aumento de poder adquis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mplo: tasas en UF + X% (esto significa que al cabo de un año el dinero debiera tener el mismo poder adquisitivo que el dinero que invertí) ejemplo f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Inflación y Tasa de Inter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17:43:20Z</dcterms:created>
  <dc:creator>Mario Morales Parrague</dc:creator>
  <dc:description/>
  <dc:language>en-US</dc:language>
  <cp:lastModifiedBy>mstrobel</cp:lastModifiedBy>
  <dcterms:modified xsi:type="dcterms:W3CDTF">2005-03-16T02:48:28Z</dcterms:modified>
  <cp:revision>20</cp:revision>
  <dc:subject/>
  <dc:title>Costos y Toma de Decis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00137240</vt:r8>
  </property>
  <property fmtid="{D5CDD505-2E9C-101B-9397-08002B2CF9AE}" pid="3" name="_AuthorEmail">
    <vt:lpwstr>mlyon@surcafe.cl</vt:lpwstr>
  </property>
  <property fmtid="{D5CDD505-2E9C-101B-9397-08002B2CF9AE}" pid="4" name="_AuthorEmailDisplayName">
    <vt:lpwstr>Matías Lyon</vt:lpwstr>
  </property>
  <property fmtid="{D5CDD505-2E9C-101B-9397-08002B2CF9AE}" pid="5" name="_EmailSubject">
    <vt:lpwstr>in42a</vt:lpwstr>
  </property>
</Properties>
</file>