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E010-F4C3-4B00-A86D-57DBA65F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348-C53C-45FA-BA88-0EB3E47C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E98D-E017-4773-B7DF-DB784FAE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0203-B90B-461D-92B4-B875C00C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010-74E5-45A2-BCFE-0585CD84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5740-900F-4B7E-AE52-D825DF83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B20-7EB5-42B9-A280-4C6EDBB3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E26C-35FE-4AF7-BF06-A7D4D8E5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D0C3-54FF-499B-AEF2-47968965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B0A6-1FFB-4513-B173-FFDFF922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FDC5-B68F-4908-8ECB-DDEFA458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CB0-C1C0-404E-B910-36367FC0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6588-D888-4E04-B7B5-07AEB6D89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2120" y="304920"/>
            <a:ext cx="7467480" cy="6500160"/>
            <a:chOff x="762120" y="304920"/>
            <a:chExt cx="7467480" cy="6500160"/>
          </a:xfrm>
        </p:grpSpPr>
        <p:sp>
          <p:nvSpPr>
            <p:cNvPr id="42" name=""/>
            <p:cNvSpPr/>
            <p:nvPr/>
          </p:nvSpPr>
          <p:spPr>
            <a:xfrm>
              <a:off x="762120" y="609480"/>
              <a:ext cx="3809880" cy="33530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4572000" y="304920"/>
              <a:ext cx="3657600" cy="36576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3470400" y="3939120"/>
              <a:ext cx="1135800" cy="28659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untos Tripl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172200" y="60199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ier Álvarez 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52480" y="522360"/>
            <a:ext cx="5639040" cy="290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2514600" y="3733920"/>
            <a:ext cx="4191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traza de la fosa, en el triángulo de velocidades, va en el vértice que representa a la placa de arrib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4648320"/>
            <a:ext cx="0" cy="6094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5486400"/>
            <a:ext cx="2286000" cy="72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e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en este ca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gunos Puntos Trip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400" y="30492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ndocin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(falla-falla-fos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920" y="1109520"/>
            <a:ext cx="4120920" cy="5519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52480" y="3429000"/>
            <a:ext cx="609840" cy="6094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343400" cy="3209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19920" y="2819520"/>
            <a:ext cx="609480" cy="6094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Times New Roman"/>
              </a:rPr>
              <a:t>Rivera </a:t>
            </a: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(fosa-falla-ridg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71840" y="114300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0" y="5181480"/>
            <a:ext cx="609480" cy="6098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Times New Roman"/>
              </a:rPr>
              <a:t>Mar Rojo </a:t>
            </a: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(ridge-ridge-ridge)</a:t>
            </a:r>
            <a:r>
              <a:rPr b="0" lang="es-ES_tradnl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67200" y="762120"/>
            <a:ext cx="301140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Times New Roman"/>
              </a:rPr>
              <a:t>Pascua</a:t>
            </a:r>
            <a:br>
              <a:rPr sz="3300"/>
            </a:b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(ridge-ridge-fall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81968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3429000" y="3352680"/>
            <a:ext cx="1219320" cy="1295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Times New Roman"/>
              </a:rPr>
              <a:t>Galápagos</a:t>
            </a:r>
            <a:br>
              <a:rPr sz="3300"/>
            </a:b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(ridge-ridge-ridg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81968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4191120" y="1752480"/>
            <a:ext cx="761760" cy="7621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Times New Roman"/>
              </a:rPr>
              <a:t>Chile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(fosa-fosa-ridg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81968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5486400" y="4495680"/>
            <a:ext cx="762120" cy="7621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1173240"/>
            <a:ext cx="8496000" cy="4922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09960" y="266760"/>
            <a:ext cx="3124080" cy="9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Times New Roman"/>
              </a:rPr>
              <a:t>Caribe</a:t>
            </a: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(falla-fosa-ridg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1143000"/>
            <a:ext cx="746784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nto Trip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o en el cual tres placas litosféricas limitan entre s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de las causas de los cambios en la dinámica de las placas es el comportamiento del punto triple, los cuales son gemeralmente efímer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094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440" y="456840"/>
            <a:ext cx="41911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untos Tr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3124080"/>
            <a:ext cx="18288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3124080"/>
            <a:ext cx="18288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s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352320" y="1600200"/>
            <a:ext cx="12193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600200"/>
            <a:ext cx="12952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5181480"/>
            <a:ext cx="800100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stabilidad se analiza con diagramas de espacio velocidad (space velocity diagra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1280" y="380520"/>
            <a:ext cx="198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743200"/>
            <a:ext cx="78483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n 3 tipos de límites de placas, luego las combinaciones de ellos en grupos de 3 son el número total posible de puntos tri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13_11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438280" y="0"/>
            <a:ext cx="4178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2209680"/>
            <a:ext cx="236232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0 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4343400"/>
            <a:ext cx="19051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3 de ellas tienen sub-t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10280" y="457200"/>
            <a:ext cx="1600200" cy="1572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C: 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: 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T: F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ab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981080"/>
            <a:ext cx="83055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tilizan diagramas de espacio velo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se tienen 3 placas se cumple que la suma de las velocidad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as es n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quí sólo se verán los casos FFF, CCC, y TT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el resto de las configuraciones el razonamiento es  e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so Ridge-Ridge-Ri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3886200" cy="199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105520" y="1940040"/>
            <a:ext cx="3657600" cy="198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09480" y="4419720"/>
            <a:ext cx="2286000" cy="219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3200400" y="5486400"/>
            <a:ext cx="19810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4952880"/>
            <a:ext cx="2209680" cy="1167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ección en un punto =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able siemp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403848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 ridge entre A y B es una línea bicectriz y ortogonal a la línea que representa la veloc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so 3 Fallas Transform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86200" y="1676520"/>
            <a:ext cx="4267080" cy="285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258444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457200" y="5638680"/>
            <a:ext cx="33526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 velocidad de cada placa es paralela a la falla, por lo tanto es imposible la intersección en un pu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6019920"/>
            <a:ext cx="11430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5562720"/>
            <a:ext cx="228600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estable siemp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so Fosa-Fosa-Fo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56236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1:29:02Z</dcterms:created>
  <dc:creator>Álvarez</dc:creator>
  <dc:description/>
  <dc:language>en-US</dc:language>
  <cp:lastModifiedBy>Álvarez</cp:lastModifiedBy>
  <dcterms:modified xsi:type="dcterms:W3CDTF">2005-03-09T18:18:59Z</dcterms:modified>
  <cp:revision>19</cp:revision>
  <dc:subject/>
  <dc:title>Puntos Triples</dc:title>
</cp:coreProperties>
</file>