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379-5FB0-43BA-9B2B-ED0E62A3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095-78D2-4F40-AB2C-0FAFB28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6F7-3D79-4F8C-91D9-B59929F2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063-8FF2-42AB-BE3F-CE9B0B7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1FC-CFF2-4E44-8658-EB393561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F35-DCDC-4C40-960A-3AD2643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CC6-4EC4-4E80-9344-AAD35C7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0D0-E303-4A31-A9CF-C12D98AE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21F-E1A6-4AD6-B67D-97E7E9F3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C93-4D0D-4BDA-BFE0-AC45245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34C-8067-4F8A-B709-49B0475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547-6A2F-4626-8C77-4A53D90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06E-7C82-432A-856C-2278F1A093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 Falla de San And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39280" cy="488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534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3059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Régimen Transtensional Mioce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19-12 Ma, hay migración al NW del punto Mendocino (al N), mientras que el punto Rivera permanece estacionario. Tanto al Norte y Sur de estos puntos, el esquema de subducción continua activ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12-5 Ma, El punto Rivera, comienza a migrar al Sur, debido a que la dorsal es subducida. Mientras que al Norte, Transverse Range, se producen rotaciones horarias (80 a110ª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344080" cy="474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6305400" cy="695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2514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Mendoc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657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Riv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143000" y="2514240"/>
            <a:ext cx="15228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71600" y="3657240"/>
            <a:ext cx="533520" cy="152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267440" cy="367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5715000" cy="340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228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a. N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809520" y="380880"/>
            <a:ext cx="381240" cy="5335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1522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alla de San And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Gran Va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590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Falla Gar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562360" y="2971800"/>
            <a:ext cx="685800" cy="763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52280"/>
            <a:ext cx="83059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lio-Pleistoceno: Inicio Regimen Transpres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5 Ma: El margen este de la Placa Pacífica genera una fuerte extensión creando el Golfo de California y se inicia la separación de Baja California de Méx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l régimen transtensional finaliza y se inicia un período de transpresión, fenómeno representado por el sistema de San Andrés: (sistemas asociad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Big B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San Bernardi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omienzo de acortamientos y alzamien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0592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volución Cuaternar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Fallas Inversas con tendencia EW y NW, ocurren  cerca fallas de rumb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Máximo alzamiento ocurre en Punta Gorda y en Transverse Range (0,5-1 cm/añ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La falla San Andrés poseería una profundidad de 16 k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-La Falla San Andrés puede dividirse en tres segmen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rte: hay 2 ramas, Heyward y Calav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ro: Segmento continuo y sin grandes ram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: 2 ramas: San Jacinto y Elsin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Área comprometida en la deformación: 160.000 k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- Característic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ona de Falla de 150 km de ancho y 1300 km de l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Orientación general NN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alla transformante intracontinental, pone en contacto las placas Pacífica y Norteameric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égimen tectónico actual transpr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osee movimiento Dex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-Ub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2880" y="106632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lla San And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057880" cy="464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3352680"/>
            <a:ext cx="45720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371600"/>
            <a:ext cx="533160" cy="2133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-Borde Transformante de Plac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819520"/>
            <a:ext cx="4114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ovimiento Late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s el menos común de los bordes de pla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jemplo: Falla San Andr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uede ser de movimiento combinado compresional o extensional, o puede convertirse a uno de es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68316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1031" t="0" r="0" b="0"/>
          <a:stretch/>
        </p:blipFill>
        <p:spPr>
          <a:xfrm>
            <a:off x="6629400" y="228600"/>
            <a:ext cx="2362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286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-Placas Tectónicas-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mpuje de apertura (Ridge Push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rrastre de la placa subductada (Slab Pull,probablemente el más importan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rrastre por Convección (Convective Drag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02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1280" y="12193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Mesozoico y gran parte del Cenozoico (Paleogeno),el Margen W de la placa Norteamericana tenía subdu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Oligoceno: acercamiento de la dorsal de la placa Pacíf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Neógeno: se produce una reorganización de la morfolog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Plio-Pleistoceno:El contacto de placas pasa a la zona del golfo de California, fin régimen Transtensional, comienzo régimen Transpresional (acortamientos y alzamient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orteamerica%20placas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670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.-Contexto geológico de la z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643280" cy="541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6676920" cy="116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: Representa la configuración actual,mostrando las zonas creadas de rift durante el Cenozoico tardío.(achurad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: Configuración aproximada de la zona durante el Cenozoico Med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696960"/>
            <a:ext cx="1674720" cy="1258920"/>
          </a:xfrm>
          <a:custGeom>
            <a:avLst/>
            <a:gdLst/>
            <a:ahLst/>
            <a:rect l="l" t="t" r="r" b="b"/>
            <a:pathLst>
              <a:path w="1055" h="793">
                <a:moveTo>
                  <a:pt x="0" y="0"/>
                </a:moveTo>
                <a:cubicBezTo>
                  <a:pt x="16" y="16"/>
                  <a:pt x="36" y="37"/>
                  <a:pt x="46" y="57"/>
                </a:cubicBezTo>
                <a:cubicBezTo>
                  <a:pt x="53" y="70"/>
                  <a:pt x="49" y="77"/>
                  <a:pt x="63" y="86"/>
                </a:cubicBezTo>
                <a:cubicBezTo>
                  <a:pt x="73" y="92"/>
                  <a:pt x="86" y="92"/>
                  <a:pt x="97" y="97"/>
                </a:cubicBezTo>
                <a:cubicBezTo>
                  <a:pt x="114" y="106"/>
                  <a:pt x="127" y="121"/>
                  <a:pt x="143" y="131"/>
                </a:cubicBezTo>
                <a:cubicBezTo>
                  <a:pt x="155" y="165"/>
                  <a:pt x="181" y="210"/>
                  <a:pt x="217" y="223"/>
                </a:cubicBezTo>
                <a:cubicBezTo>
                  <a:pt x="237" y="241"/>
                  <a:pt x="260" y="246"/>
                  <a:pt x="280" y="262"/>
                </a:cubicBezTo>
                <a:cubicBezTo>
                  <a:pt x="301" y="280"/>
                  <a:pt x="323" y="300"/>
                  <a:pt x="343" y="319"/>
                </a:cubicBezTo>
                <a:cubicBezTo>
                  <a:pt x="348" y="336"/>
                  <a:pt x="352" y="358"/>
                  <a:pt x="365" y="371"/>
                </a:cubicBezTo>
                <a:cubicBezTo>
                  <a:pt x="370" y="376"/>
                  <a:pt x="377" y="378"/>
                  <a:pt x="383" y="382"/>
                </a:cubicBezTo>
                <a:cubicBezTo>
                  <a:pt x="387" y="385"/>
                  <a:pt x="390" y="390"/>
                  <a:pt x="394" y="394"/>
                </a:cubicBezTo>
                <a:cubicBezTo>
                  <a:pt x="402" y="416"/>
                  <a:pt x="408" y="426"/>
                  <a:pt x="428" y="439"/>
                </a:cubicBezTo>
                <a:cubicBezTo>
                  <a:pt x="441" y="476"/>
                  <a:pt x="476" y="502"/>
                  <a:pt x="502" y="531"/>
                </a:cubicBezTo>
                <a:cubicBezTo>
                  <a:pt x="510" y="540"/>
                  <a:pt x="514" y="554"/>
                  <a:pt x="525" y="559"/>
                </a:cubicBezTo>
                <a:cubicBezTo>
                  <a:pt x="539" y="565"/>
                  <a:pt x="556" y="563"/>
                  <a:pt x="571" y="565"/>
                </a:cubicBezTo>
                <a:cubicBezTo>
                  <a:pt x="592" y="597"/>
                  <a:pt x="570" y="571"/>
                  <a:pt x="599" y="588"/>
                </a:cubicBezTo>
                <a:cubicBezTo>
                  <a:pt x="617" y="599"/>
                  <a:pt x="607" y="601"/>
                  <a:pt x="622" y="616"/>
                </a:cubicBezTo>
                <a:cubicBezTo>
                  <a:pt x="653" y="647"/>
                  <a:pt x="735" y="638"/>
                  <a:pt x="759" y="639"/>
                </a:cubicBezTo>
                <a:cubicBezTo>
                  <a:pt x="790" y="659"/>
                  <a:pt x="821" y="674"/>
                  <a:pt x="856" y="684"/>
                </a:cubicBezTo>
                <a:cubicBezTo>
                  <a:pt x="870" y="699"/>
                  <a:pt x="882" y="701"/>
                  <a:pt x="901" y="707"/>
                </a:cubicBezTo>
                <a:cubicBezTo>
                  <a:pt x="913" y="711"/>
                  <a:pt x="936" y="719"/>
                  <a:pt x="936" y="719"/>
                </a:cubicBezTo>
                <a:cubicBezTo>
                  <a:pt x="962" y="759"/>
                  <a:pt x="977" y="760"/>
                  <a:pt x="1021" y="776"/>
                </a:cubicBezTo>
                <a:cubicBezTo>
                  <a:pt x="1031" y="780"/>
                  <a:pt x="1055" y="780"/>
                  <a:pt x="1055" y="793"/>
                </a:cubicBezTo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2840" y="1955880"/>
            <a:ext cx="814320" cy="452520"/>
          </a:xfrm>
          <a:custGeom>
            <a:avLst/>
            <a:gdLst/>
            <a:ahLst/>
            <a:rect l="l" t="t" r="r" b="b"/>
            <a:pathLst>
              <a:path w="513" h="285">
                <a:moveTo>
                  <a:pt x="0" y="0"/>
                </a:moveTo>
                <a:cubicBezTo>
                  <a:pt x="15" y="3"/>
                  <a:pt x="32" y="3"/>
                  <a:pt x="46" y="11"/>
                </a:cubicBezTo>
                <a:cubicBezTo>
                  <a:pt x="51" y="14"/>
                  <a:pt x="52" y="20"/>
                  <a:pt x="57" y="23"/>
                </a:cubicBezTo>
                <a:cubicBezTo>
                  <a:pt x="89" y="43"/>
                  <a:pt x="156" y="57"/>
                  <a:pt x="194" y="68"/>
                </a:cubicBezTo>
                <a:cubicBezTo>
                  <a:pt x="213" y="89"/>
                  <a:pt x="241" y="99"/>
                  <a:pt x="268" y="108"/>
                </a:cubicBezTo>
                <a:cubicBezTo>
                  <a:pt x="284" y="125"/>
                  <a:pt x="306" y="133"/>
                  <a:pt x="325" y="148"/>
                </a:cubicBezTo>
                <a:cubicBezTo>
                  <a:pt x="338" y="159"/>
                  <a:pt x="347" y="178"/>
                  <a:pt x="359" y="188"/>
                </a:cubicBezTo>
                <a:cubicBezTo>
                  <a:pt x="376" y="202"/>
                  <a:pt x="413" y="204"/>
                  <a:pt x="433" y="211"/>
                </a:cubicBezTo>
                <a:cubicBezTo>
                  <a:pt x="476" y="251"/>
                  <a:pt x="410" y="193"/>
                  <a:pt x="462" y="228"/>
                </a:cubicBezTo>
                <a:cubicBezTo>
                  <a:pt x="482" y="241"/>
                  <a:pt x="496" y="268"/>
                  <a:pt x="513" y="285"/>
                </a:cubicBezTo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0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imes New Roman"/>
              </a:rPr>
              <a:t>San Andrés Fault 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228600"/>
            <a:ext cx="3581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ajas Litotectó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286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sección de la dorsal Este Pací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ligoceno (27 Ma): se produce la intersección de la Dorsal Pacífica con la fosa, originando un margen Transtensional, cambiando la orientación de los movimientos y esfuerzos de las placas en la zona “subductada”- intersect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iempre existió una componente extensional en el movimiento del marge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n el borde de las placas se inicia un periodo de actividad volcánica y formación de cuencas evidenciando la fase transtens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14836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533520"/>
            <a:ext cx="3886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volución de la Península de Baja California en los últimos 25 ma. La subducción de la dorsal del Este de la Placa Pacífico y su posterior aparición  en el interior del continente provocó la apertura del Golfo de California y la traslación de la península hacia el Norte, creando el Sistema de Fracturas de la Falla San And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43:45Z</dcterms:created>
  <dc:creator>Alejandro Cancino</dc:creator>
  <dc:description/>
  <dc:language>en-US</dc:language>
  <cp:lastModifiedBy>Alejandro Cancino</cp:lastModifiedBy>
  <dcterms:modified xsi:type="dcterms:W3CDTF">2005-04-12T19:05:19Z</dcterms:modified>
  <cp:revision>87</cp:revision>
  <dc:subject/>
  <dc:title>Presentación de PowerPoint</dc:title>
</cp:coreProperties>
</file>