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23E-C8CE-4C4C-BA59-BB0147C1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D5C-7616-4516-91A1-F2B9F644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44D-A7E2-4E26-9634-A47AEA5F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F24-BD37-496A-AE31-4C3CEE4D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E42F-CA76-490E-8D0E-75656638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2CA0-5C2E-4C24-A2A7-0E9F8B7E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CD4A-DEC8-4E97-B620-5C718179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DC38-8907-4794-A338-72C8A3B6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E2A5-FE82-4362-8742-A40EE7A6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E03F-7DEE-4DC2-AE2B-30419F06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C68B-ECCA-4D0A-BD80-3F5F60E0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10B-4CA2-4072-A561-20D573CD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885B-A610-470A-81A4-B3DC3CD3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9E5B-4E35-4C55-B38F-223EA16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CA1E-1BB6-4DA1-98FA-66E53AC3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C630-4D54-4E88-82E1-A784CAB2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AD1F-3E20-43CA-A94C-66E5E8CF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FBF-F537-4F67-A31D-CB178302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02D-1E49-4C06-87D9-51FBB265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20B-F41E-418C-B65C-B0753305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63C-6943-4AE7-A807-1D6F323C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DC8-3E36-4FAF-8BB0-77131F0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5EB-51E3-496D-A634-3C5C059C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D15-FE4C-40B8-B8B5-8BD012E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180E-D44D-458B-AA25-F7E681A81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9694-DFC9-44CD-A262-C590DDF95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Sistemas Fluvia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oleta Muño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a porción proximal, gravas que se presentan como depósitos de barras. Interestratificados con estos horizontes, se tienen estratos lenticulares de arena que representan el depósito en canales abandonados o en los límites de las barras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orcentaje de gravas en los depósitos tipo Scott siempre será mayor del 60%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isten regiones donde los flujos no son tan constantes, lo que permite que la arcilla y el lodo puedan ser depositados sobre estas porciones, y con ello, preservar secuencias verticales donde la proporción de gravas varíe del 10 al 70%; en estas secuencias, llamadas del tipo Donjek, la estratificación cruzada plana y cóncava son las estructuras primarias más características de los horizontes arenos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as planicies distales las corrientes son distribuidas por canales muy someros. Pendiente más baja y menor energía que en la porción proxim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típicas secuencias verticales que se generan en las planicies distales se conocen como del tipo Platte: horizontes de arena con estratificación cruzada plan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ueden llegar a desarrollarse horizontes de gravas debido a la formación de barras longitudinales, o bien, depósitos finos de desbordamiento de can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secuencia vertical tipo Bijou Creek representa planicies distales en donde la canalización es muy incipiente y los canales son muy someros, llegando a depositar arenas muy finas con laminación horizon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1587600"/>
            <a:ext cx="79214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eec94"/>
                </a:solidFill>
                <a:latin typeface="Times New Roman"/>
              </a:rPr>
              <a:t>Sistema de Ríos Meandricos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1071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finados a un canal principal que presenta una sinuosidad mayor a 1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radiente de pendiente mucho men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dimentos involucrados en la carga de las corrientes son más finos.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lgunos ocurren como sistemas independientes, otros representan un cambio gradual (corriente abajo) de un sistema de ríos trenzados.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738440"/>
            <a:ext cx="82296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pósitos de canal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puestos generalmente de material grueso que los ríos pueden mover o transportar durante los períodos de máxima energía.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e material incluye gravas, troncos u otro material vegetal de grandes dimensiones, y lodo parcialmente consolidado que ha sido erosionado de las paredes del canal.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enden a ser depósitos de forma lenticular, en donde lo más característico es la imbricación de clastos que present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Barras de Punta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es interiores de las curvas del ca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granos más gruesos tienden a ser depositados en las partes basales de la bar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sminución de tamaño de grano hacia arriba de barra de pu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atificación cruzada cóncav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Bord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ción cóncava de la curva que delimitan los meandro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de mayor espesor y de grano más grueso cerca de los canale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cen más finos a medida que se avanza hacia la planicie de inundac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renas finas con estratificación horizontal y rizaduras de corriente que subyacen bajo lodos laminado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Sistemas fluvia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depósitos fluviales están constituidos por sedimentos que se acumulan a partir de la actividad de los ríos. Estos depósitos se generan en diversas condiciones climáticas, desde desérticas hasta gla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 función de su sinuosidad se reconocen tres sistem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íos trenz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íos meán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íos anastomos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Planicies de Inundació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dimentos finos depositados por suspensión a partir de las aguas que inundan la planicie adyacente al canal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enden a desarrollar poco espes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múnmente contienen grandes cantidades de material vegetal y presentan una bioturbación moderada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desbord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generan cuando las aguas de la corriente principal logra romper los muros que la confina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sedimentación por tracción y suspensión ocurre rápidamente cuando el agua cargada, tanto con material grueso como fino, pierde su capacidad para transportarla, dando como resultado depósitos gradados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pósitos de lago later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dimentos finos, arcillas y lodo, que han sido introducidos a los lagos laterales durante las épocas de inundacione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múnmente lami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ueden llegar a presentar restos de plantas, ostrácodos y moluscos de agua dul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sedimentación dentro de los sistemas de ríos meándricos se lleva cabo casi simultáneamente en todos l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tipos de depós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uando el canal del río migra por su acción erosiva, los diferentes ambientes del sistema migran también lateralmente y los sedimentos depositados en ambientes continuos llegan a sobreponerse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depósitos gruesos de los canales tienden a subyacer bajo secuencias arenosas que disminuyen su tamaño de grano hacia arriba (depósitos de barras de punta), los cuales a su vez subyacen a lodos y arcillas de los depósitos de planicie de inundación.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meandric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sedimen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43280" y="1557360"/>
          <a:ext cx="360036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557360"/>
                    <a:ext cx="3600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eec94"/>
                </a:solidFill>
                <a:latin typeface="Times New Roman"/>
              </a:rPr>
              <a:t>Sistema de Ríos Anastomosados</a:t>
            </a: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1287360"/>
            <a:ext cx="7561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ste sistema ha sido considerado como un tipo especial de los sistemas de ríos meándricos, en donde se desarrolla un sistema de canales de muy alta sinuosidad de manera estable y permanente (Miall, 197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radiente muy bajo (0.09 - 0.012 m/k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terconectan una serie de canales de muy alta sinuosidad, angostos y relativamente profun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canales son separados por planicies de inundación que consisten de islas con vegetación, muros naturales y áreas donde pueden desarrollarse depósitos de desbord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canales son rellenados con arena y grava, formando depósitos lenticulares, limitados por depósitos areno-arcillosos de muro natur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as planicies de inundación, materiales limo-arcillosos finamente laminados, incluyendo depósitos finos de pantanos con un alto contenido de materia orgán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940040"/>
            <a:ext cx="82296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Sistemas fluvia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97160" y="1600200"/>
            <a:ext cx="6348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depósi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depósitos de canal en estos sistemas contienen sedimentos muy similares a los de los otros sistemas fluviales (gravas estratificadas y arenas con estratificación cruzada cóncava).  No pueden ser tomados como diagnóstico de este tipo de sistem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facies distintivas son las que se desarrollan en las áreas de intercanales: depósitos de desborde y de canal de desborde con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sencia abundante de raíces y la acumulación de materia orgánica (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mith, 1983)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anastomos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Características de los depósito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sedimentos de los ríos anastomosados están representados por cuerpos elongados de arenisca, encajonados entre delgadas capas de areniscas de grano fino y lut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que una secuencia de este tipo de sistema fluvial se preserve, deben de mantenerse las características de bajo relieve y muy bajo gradiente por largos períodos geológ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cuencas de antepaís y de graben son los sitios que mejor mantienen estas condiciones. (Nadon,199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Referenci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D. Miall, 1996. The Geology of Fluvial Deposits. Sedimentary facies, Basin analysis and Petroleum Geolo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. E. Reineck, I.B. Singh, 1980. Depositional Sedimentary Environ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geologia.uson.mx/academico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eec94"/>
                </a:solidFill>
                <a:latin typeface="Times New Roman"/>
              </a:rPr>
              <a:t>Sistema de Ríos Trenzados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982800"/>
            <a:ext cx="8642160" cy="57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uosidad&lt;1.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uchos canales separados por barras y pequeñas isl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encuentran donde los sedimentos son abundantes, las descargas de agua son altas y esporádicas, y los ríos son sobrecargados con sedime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forman barras durante los períodos de descarga alta que van desviando al r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971720"/>
            <a:ext cx="82296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Barras longitudin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medio del canal, paralelas a la corr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dimentos más gruesos que trae la corriente (gravas y aren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ratificación masiva y granodecreciente hacia arriba y en la dirección de la corr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arras Transversales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forman de manera transversal al flujo principal de la corriente, y son muy características en sistemas de ríos trenzados que transportan una mayor carga de detritos de tamaño arena. Las barras transversales presentan formas rómb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Ríos trenzados</a:t>
            </a: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Procesos de depósi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arras Laterales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barras muy largas que se desarrollan en áreas de energía relativamente baja a lo largo de las porciones laterales de la corriente princip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03:21:42Z</dcterms:created>
  <dc:creator>Amanda Duran</dc:creator>
  <dc:description/>
  <dc:language>en-US</dc:language>
  <cp:lastModifiedBy>Amanda Duran</cp:lastModifiedBy>
  <dcterms:modified xsi:type="dcterms:W3CDTF">2005-06-03T05:06:01Z</dcterms:modified>
  <cp:revision>2</cp:revision>
  <dc:subject/>
  <dc:title>Sistemas Fluviales</dc:title>
</cp:coreProperties>
</file>