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BB5-6680-4AF2-8D52-7F582817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E2-FA2E-4F3E-A3FF-BBF7A50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10F-6F97-4869-9012-658D28AC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27D-335E-4ED7-9097-8C05F9B3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866-7E96-426B-9C30-30B42251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C1AE-DA2E-4108-BB0B-572F476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2EC-E89D-4B63-9A8D-ACDD746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5BD-B30A-4E75-9EE6-C317583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896-4D93-4577-AACC-CC90010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0372-2AEA-4CF7-9A68-C96FE65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6CB-B189-4CBB-B69D-4A4DF17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099-E438-4B99-9CE5-17F1B23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C40C-EDAB-4CC9-819F-8ACBAF6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BCDB-9F6E-4FE5-84CE-726EE80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37F-9DB0-4560-A1EE-84234EB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E462-EFE3-438C-8FAE-1F8D2663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92DE-F39D-4FC4-B454-0AA79919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BCF-A96B-4ED6-B0D5-848BD107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954-2D3E-4E46-B609-24A0A15F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DD3-D82C-4482-8861-C460594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A68-6175-4B59-808D-43C2E9D1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32A-356A-4D53-BDAC-175A1DF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4C4-2BB2-4081-A42E-92F8B4D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173-07D1-42E9-A2F8-834AE86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83D-89C9-4554-B0CD-C8DF21DA8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F7C-8A9C-4079-8CCF-1149ADB33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oleta Muñ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 porción proximal, gravas que se presentan como depósitos de barras. Interestratificados con estos horizontes, se tienen estratos lenticulares de arena que representan el depósito en canales abandonados o en los límites de las barra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orcentaje de gravas en los depósitos tipo Scott siempre será mayor del 60%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isten regiones donde los flujos no son tan constantes, lo que permite que la arcilla y el lodo puedan ser depositados sobre estas porciones, y con ello, preservar secuencias verticales donde la proporción de gravas varíe del 10 al 70%; en estas secuencias, llamadas del tipo Donjek, la estratificación cruzada plana y cóncava son las estructuras primarias más características de los horizontes areno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s planicies distales las corrientes son distribuidas por canales muy someros. Pendiente más baja y menor energía que en la porción proxi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típicas secuencias verticales que se generan en las planicies distales se conocen como del tipo Platte: horizontes de arena con estratificación cruzada plan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n llegar a desarrollarse horizontes de gravas debido a la formación de barras longitudinales, o bien, depósitos finos de desbordamiento de can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secuencia vertical tipo Bijou Creek representa planicies distales en donde la canalización es muy incipiente y los canales son muy someros, llegando a depositar arenas muy finas con laminación horizo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587600"/>
            <a:ext cx="7921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Meandric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071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dos a un canal principal que presenta una sinuosidad mayor a 1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de pendiente mucho men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dimentos involucrados en la carga de las corrientes son más fin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gunos ocurren como sistemas independientes, otros representan un cambio gradual (corriente abajo) de un sistema de ríos trenzad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738440"/>
            <a:ext cx="82296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pósitos de canal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puestos generalmente de material grueso que los ríos pueden mover o transportar durante los períodos de máxima energía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e material incluye gravas, troncos u otro material vegetal de grandes dimensiones, y lodo parcialmente consolidado que ha sido erosionado de las paredes del canal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enden a ser depósitos de forma lenticular, en donde lo más característico es la imbricación de clastos que presen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arras de Punta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es interiores de las curvas del ca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granos más gruesos tienden a ser depositados en las partes basales de la ba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sminución de tamaño de grano hacia arriba de barra de pu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cruzada cóncav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ord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ción cóncava de la curva que delimitan los meandr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de mayor espesor y de grano más grueso cerca de los canal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cen más finos a medida que se avanza hacia la planicie de inundac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enas finas con estratificación horizontal y rizaduras de corriente que subyacen bajo lodos laminad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depósitos fluviales están constituidos por sedimentos que se acumulan a partir de la actividad de los ríos. Estos depósitos se generan en diversas condiciones climáticas, desde desérticas hasta gla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 función de su sinuosidad se reconocen tres sistem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tren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meán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anastomos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Planicies de Inundació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 depositados por suspensión a partir de las aguas que inundan la planicie adyacente al canal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enden a desarrollar poco espes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contienen grandes cantidades de material vegetal y presentan una bioturbación moderada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desbord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generan cuando las aguas de la corriente principal logra romper los muros que la confina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sedimentación por tracción y suspensión ocurre rápidamente cuando el agua cargada, tanto con material grueso como fino, pierde su capacidad para transportarla, dando como resultado depósitos gradado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lago later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, arcillas y lodo, que han sido introducidos a los lagos laterales durante las épocas de inundacion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lami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ueden llegar a presentar restos de plantas, ostrácodos y moluscos de agua dul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dimentación dentro de los sistemas de ríos meándricos se lleva cabo casi simultáneamente en todos l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tipos de depós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uando el canal del río migra por su acción erosiva, los diferentes ambientes del sistema migran también lateralmente y los sedimentos depositados en ambientes continuos llegan a sobreponerse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depósitos gruesos de los canales tienden a subyacer bajo secuencias arenosas que disminuyen su tamaño de grano hacia arriba (depósitos de barras de punta), los cuales a su vez subyacen a lodos y arcillas de los depósitos de planicie de inundación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43280" y="1557360"/>
          <a:ext cx="3600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557360"/>
                    <a:ext cx="3600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Anastomosad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1287360"/>
            <a:ext cx="7561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ste sistema ha sido considerado como un tipo especial de los sistemas de ríos meándricos, en donde se desarrolla un sistema de canales de muy alta sinuosidad de manera estable y permanente (Miall, 197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muy bajo (0.09 - 0.012 m/k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terconectan una serie de canales de muy alta sinuosidad, angostos y relativamente profun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separados por planicies de inundación que consisten de islas con vegetación, muros naturales y áreas donde pueden desarrollarse depósitos de desbord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rellenados con arena y grava, formando depósitos lenticulares, limitados por depósitos areno-arcillosos de muro natu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s planicies de inundación, materiales limo-arcillosos finamente laminados, incluyendo depósitos finos de pantanos con un alto contenido de materia orgán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940040"/>
            <a:ext cx="8229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97160" y="1600200"/>
            <a:ext cx="63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depósitos de canal en estos sistemas contienen sedimentos muy similares a los de los otros sistemas fluviales (gravas estratificadas y arenas con estratificación cruzada cóncava).  No pueden ser tomados como diagnóstico de este tipo de sistem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facies distintivas son las que se desarrollan en las áreas de intercanales: depósitos de desborde y de canal de desborde con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sencia abundante de raíces y la acumulación de materia orgánica (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mith, 1983)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edimentos de los ríos anastomosados están representados por cuerpos elongados de arenisca, encajonados entre delgadas capas de areniscas de grano fino y lu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que una secuencia de este tipo de sistema fluvial se preserve, deben de mantenerse las características de bajo relieve y muy bajo gradiente por largos períodos geológ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cuencas de antepaís y de graben son los sitios que mejor mantienen estas condiciones. (Nadon,199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Refer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. Miall, 1996. The Geology of Fluvial Deposits. Sedimentary facies, Basin analysis and Petroleum Geolo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. E. Reineck, I.B. Singh, 1980. Depositional Sedimentary Environ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geologia.uson.mx/academico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eec94"/>
                </a:solidFill>
                <a:latin typeface="Times New Roman"/>
              </a:rPr>
              <a:t>Sistema de Ríos Trenzados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982800"/>
            <a:ext cx="864216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uosidad&lt;1.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uchos canales separados por barras y pequeñas is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cuentran donde los sedimentos son abundantes, las descargas de agua son altas y esporádicas, y los ríos son sobrecargados con sed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forman barras durante los períodos de descarga alta que van desviando al r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71720"/>
            <a:ext cx="82296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arras longitudin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medio del canal, paralelas a la corr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más gruesos que trae la corriente (gravas y aren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masiva y granodecreciente hacia arriba y en la dirección de l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Transversales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forman de manera transversal al flujo principal de la corriente, y son muy características en sistemas de ríos trenzados que transportan una mayor carga de detritos de tamaño arena. Las barras transversales presentan formas rómb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Laterales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barras muy largas que se desarrollan en áreas de energía relativamente baja a lo largo de las porciones laterales de la corriente princip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3:21:42Z</dcterms:created>
  <dc:creator>Amanda Duran</dc:creator>
  <dc:description/>
  <dc:language>en-US</dc:language>
  <cp:lastModifiedBy>Amanda Duran</cp:lastModifiedBy>
  <dcterms:modified xsi:type="dcterms:W3CDTF">2005-06-03T05:06:01Z</dcterms:modified>
  <cp:revision>2</cp:revision>
  <dc:subject/>
  <dc:title>Sistemas Fluviales</dc:title>
</cp:coreProperties>
</file>