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A3F-7134-4592-9B80-ED7F6E46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DC3-A634-4D14-9EBC-2C1EFEF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597-17B9-4784-89E5-34FFF24A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728-E799-42D4-98F0-7A6686D7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BA6-FC85-401F-8BA2-BBF5F59F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96A3-572D-4481-B4A2-47B7EC2C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C069-1ECE-4539-BEEC-EF31B8AE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37FC-E418-4821-8303-01FA940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C32-D34D-4A9E-B702-FF24EB54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7352-531F-4AC7-B03A-C6BA80E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4E5E-EE08-4FA9-8B55-9E10C83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3CD-5E8B-4964-B122-18CF3C3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73C2-7BA1-4AB3-AA40-B3DA0A1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39B2-7EF6-4A9D-AC98-C09CD75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390-7910-400B-AD94-0F968974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887-6F7B-47AF-A80F-8CFCD390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FA2-FA5A-4295-AD80-42165DC7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604-F88B-4F79-9E72-4494FF6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83C-3940-4A4C-BCBA-111B5130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499-DF10-4BD3-A387-76FE763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1DC-BE01-4663-8F5A-4DB57B44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385-E1EA-44DB-9D11-B41CB2E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6EF-49DE-43D8-8172-7A32502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3E8-BB0B-4438-B012-423510D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481B-D538-4595-9507-796D0E895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71E4-82B6-4808-80E4-6F7527C1E0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ahoma"/>
              </a:rPr>
              <a:t>Metalogénesis GL54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uxiliares: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atalia Astudi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re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yudant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issette Wäckerling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Joseli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Tania Villaseñ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Rodrigo Bar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soc15" descr="crisoc15.jpg (127778 bytes)"/>
          <p:cNvPicPr/>
          <p:nvPr/>
        </p:nvPicPr>
        <p:blipFill>
          <a:blip r:embed="rId1"/>
          <a:stretch/>
        </p:blipFill>
        <p:spPr>
          <a:xfrm>
            <a:off x="2133720" y="762120"/>
            <a:ext cx="6324480" cy="41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5105520"/>
            <a:ext cx="4317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risocol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(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,Al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(OH)·n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x6 c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ó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ilec" descr="Chilec.jpg (1404 bytes)"/>
          <p:cNvPicPr/>
          <p:nvPr/>
        </p:nvPicPr>
        <p:blipFill>
          <a:blip r:embed="rId2"/>
          <a:stretch/>
        </p:blipFill>
        <p:spPr>
          <a:xfrm>
            <a:off x="7848720" y="579132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alcop17" descr="calcop17.jpg (120241 bytes)"/>
          <p:cNvPicPr/>
          <p:nvPr/>
        </p:nvPicPr>
        <p:blipFill>
          <a:blip r:embed="rId1"/>
          <a:stretch/>
        </p:blipFill>
        <p:spPr>
          <a:xfrm>
            <a:off x="1905120" y="1143000"/>
            <a:ext cx="6248160" cy="417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1800" y="5791320"/>
            <a:ext cx="355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alcopir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x3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       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uarón, Pasco 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ru1" descr="Peru1.jpg (1539 bytes)"/>
          <p:cNvPicPr/>
          <p:nvPr/>
        </p:nvPicPr>
        <p:blipFill>
          <a:blip r:embed="rId2"/>
          <a:stretch/>
        </p:blipFill>
        <p:spPr>
          <a:xfrm>
            <a:off x="6629400" y="6095880"/>
            <a:ext cx="41904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ornita2" descr="bornita2.jpg (151283 bytes)"/>
          <p:cNvPicPr/>
          <p:nvPr/>
        </p:nvPicPr>
        <p:blipFill>
          <a:blip r:embed="rId1"/>
          <a:stretch/>
        </p:blipFill>
        <p:spPr>
          <a:xfrm>
            <a:off x="1600200" y="609480"/>
            <a:ext cx="6251400" cy="4754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5486400"/>
            <a:ext cx="44197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Born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nora (Méjico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lección de Don José Manuel Sanchí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exicoc" descr="Mexicoc.jpg (1499 bytes)"/>
          <p:cNvPicPr/>
          <p:nvPr/>
        </p:nvPicPr>
        <p:blipFill>
          <a:blip r:embed="rId2"/>
          <a:stretch/>
        </p:blipFill>
        <p:spPr>
          <a:xfrm>
            <a:off x="6324480" y="5864400"/>
            <a:ext cx="45720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rita11" descr="pirita11.jpg (126488 bytes)"/>
          <p:cNvPicPr/>
          <p:nvPr/>
        </p:nvPicPr>
        <p:blipFill>
          <a:blip r:embed="rId1"/>
          <a:stretch/>
        </p:blipFill>
        <p:spPr>
          <a:xfrm>
            <a:off x="1219320" y="380880"/>
            <a:ext cx="6765840" cy="445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90920" y="5257800"/>
            <a:ext cx="39621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irita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useo Municipal de Geología (Museo Martorell),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eru1" descr="Peru1.jpg (1539 bytes)"/>
          <p:cNvPicPr/>
          <p:nvPr/>
        </p:nvPicPr>
        <p:blipFill>
          <a:blip r:embed="rId2"/>
          <a:stretch/>
        </p:blipFill>
        <p:spPr>
          <a:xfrm>
            <a:off x="5410080" y="56386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ca Fresca / Roca Alte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inera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eración hidrotermal y mete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Flu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echa Hidrotermal y Brecha sedi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 de alteración / Minerales de 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orfismo / Metasomat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ipo de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contextos geológicos ocurren los procesos anterior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uales son los tipos de yacimientos que conocen?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yacimien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órfidos Cupríf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oli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piterm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dimen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olcano-Exhal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órf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s Endógenos / Procesos Exóge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v/s minerales sulf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radica la difere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acam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isoc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ocant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tle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urqu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zu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971800" y="2514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971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v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asociados a la 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iagnó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lor del mi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Ray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mediante uso del rayad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Brill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opaco, vítreo, metál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Form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abular, cúb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Hábit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radial, masiv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istribu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en vetillas, diseminad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tr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livaje, peso específico, sistema cristalográf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taca28" descr="ataca28.jpg (296174 bytes)"/>
          <p:cNvPicPr/>
          <p:nvPr/>
        </p:nvPicPr>
        <p:blipFill>
          <a:blip r:embed="rId1"/>
          <a:stretch/>
        </p:blipFill>
        <p:spPr>
          <a:xfrm>
            <a:off x="1828800" y="914400"/>
            <a:ext cx="6629400" cy="419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3200" y="5334120"/>
            <a:ext cx="44956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Atacam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Cl(OH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x15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o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ilec" descr="Chilec.jpg (1404 bytes)"/>
          <p:cNvPicPr/>
          <p:nvPr/>
        </p:nvPicPr>
        <p:blipFill>
          <a:blip r:embed="rId2"/>
          <a:stretch/>
        </p:blipFill>
        <p:spPr>
          <a:xfrm>
            <a:off x="7581960" y="575136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3:16:08Z</dcterms:created>
  <dc:creator>sablereau</dc:creator>
  <dc:description/>
  <dc:language>en-US</dc:language>
  <cp:lastModifiedBy>Juice</cp:lastModifiedBy>
  <dcterms:modified xsi:type="dcterms:W3CDTF">2005-03-17T00:49:23Z</dcterms:modified>
  <cp:revision>5</cp:revision>
  <dc:subject/>
  <dc:title>Metalogénesis GL54A</dc:title>
</cp:coreProperties>
</file>