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70C-75E6-4A51-BDE5-BD96DCF0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72F-CB8B-432B-A132-D85A9880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CC5-6B8B-4881-866C-BE043EC6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C84-87F3-48B3-BEE8-29ACCE48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638B-5D0A-41C8-AB3B-C710CE0A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2CE9-3B16-4C44-9151-5BAB075F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CE26-3F9A-41EA-A730-508A0C5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AC34-ADB7-436D-8E34-DD0B85C3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880B-0AB1-4014-BCF5-A7497B16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DF50-DD3B-4109-8B24-76F43F3E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FFBC-0EF1-4BB6-BFF4-DCDA2933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6FA-FB0B-40CE-9265-85058D0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D858-D949-49C3-903B-CBB65E1B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89AA-B54F-49A7-8B71-92A43F5F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9FDA-7886-4078-8F16-82FBC2CF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EF6B-45AA-4FD3-87A3-A4FD30B3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0C4F-F096-4DF8-B292-702CEEA0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C84-5AB1-457C-8291-D465E639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B3A-0289-4BB6-B3E0-536ADBBA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11F-FBF2-4422-88BA-4A3B5A52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476-E8FF-4006-B212-1B6986D0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EE3-D4F9-4569-A1A1-DCF3887D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A38-DCEF-4E9B-8F3A-EFC6B741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157-6391-4D43-8460-C78B4891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4768-EC3C-4A5D-A7B8-F677A67C0D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F2EE-165A-4826-98AC-404D0AABD4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ahoma"/>
              </a:rPr>
              <a:t>Metalogénesis GL54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uxiliares: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atalia Astudi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rene Tap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yudant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Lissette Wäckerling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Joseline Tap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Tania Villaseñ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Rodrigo Bar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risoc15" descr="crisoc15.jpg (127778 bytes)"/>
          <p:cNvPicPr/>
          <p:nvPr/>
        </p:nvPicPr>
        <p:blipFill>
          <a:blip r:embed="rId1"/>
          <a:stretch/>
        </p:blipFill>
        <p:spPr>
          <a:xfrm>
            <a:off x="2133720" y="762120"/>
            <a:ext cx="6324480" cy="412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8120" y="5105520"/>
            <a:ext cx="4317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Crisocol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(Cu</a:t>
            </a:r>
            <a:r>
              <a:rPr b="0" lang="es-ES" sz="20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,Al)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(OH)·nH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x6 c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piapó (Chile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seo Nacional de Ciencias Naturales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chilec" descr="Chilec.jpg (1404 bytes)"/>
          <p:cNvPicPr/>
          <p:nvPr/>
        </p:nvPicPr>
        <p:blipFill>
          <a:blip r:embed="rId2"/>
          <a:stretch/>
        </p:blipFill>
        <p:spPr>
          <a:xfrm>
            <a:off x="7848720" y="5791320"/>
            <a:ext cx="68580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alcop17" descr="calcop17.jpg (120241 bytes)"/>
          <p:cNvPicPr/>
          <p:nvPr/>
        </p:nvPicPr>
        <p:blipFill>
          <a:blip r:embed="rId1"/>
          <a:stretch/>
        </p:blipFill>
        <p:spPr>
          <a:xfrm>
            <a:off x="1905120" y="1143000"/>
            <a:ext cx="6248160" cy="4176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71800" y="5791320"/>
            <a:ext cx="35514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Calcopir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FeS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x3 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        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Huarón, Pasco (Perú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ru1" descr="Peru1.jpg (1539 bytes)"/>
          <p:cNvPicPr/>
          <p:nvPr/>
        </p:nvPicPr>
        <p:blipFill>
          <a:blip r:embed="rId2"/>
          <a:stretch/>
        </p:blipFill>
        <p:spPr>
          <a:xfrm>
            <a:off x="6629400" y="6095880"/>
            <a:ext cx="419040" cy="2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bornita2" descr="bornita2.jpg (151283 bytes)"/>
          <p:cNvPicPr/>
          <p:nvPr/>
        </p:nvPicPr>
        <p:blipFill>
          <a:blip r:embed="rId1"/>
          <a:stretch/>
        </p:blipFill>
        <p:spPr>
          <a:xfrm>
            <a:off x="1600200" y="609480"/>
            <a:ext cx="6251400" cy="4754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971800" y="5486400"/>
            <a:ext cx="44197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Born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FeS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onora (Méjico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lección de Don José Manuel Sanchí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Val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mexicoc" descr="Mexicoc.jpg (1499 bytes)"/>
          <p:cNvPicPr/>
          <p:nvPr/>
        </p:nvPicPr>
        <p:blipFill>
          <a:blip r:embed="rId2"/>
          <a:stretch/>
        </p:blipFill>
        <p:spPr>
          <a:xfrm>
            <a:off x="6324480" y="5864400"/>
            <a:ext cx="45720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rita11" descr="pirita11.jpg (126488 bytes)"/>
          <p:cNvPicPr/>
          <p:nvPr/>
        </p:nvPicPr>
        <p:blipFill>
          <a:blip r:embed="rId1"/>
          <a:stretch/>
        </p:blipFill>
        <p:spPr>
          <a:xfrm>
            <a:off x="1219320" y="380880"/>
            <a:ext cx="6765840" cy="4457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90920" y="5257800"/>
            <a:ext cx="396216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Pirita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FeS</a:t>
            </a:r>
            <a:r>
              <a:rPr b="0" lang="es-ES" sz="14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(Perú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useo Municipal de Geología (Museo Martorell),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arcel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eru1" descr="Peru1.jpg (1539 bytes)"/>
          <p:cNvPicPr/>
          <p:nvPr/>
        </p:nvPicPr>
        <p:blipFill>
          <a:blip r:embed="rId2"/>
          <a:stretch/>
        </p:blipFill>
        <p:spPr>
          <a:xfrm>
            <a:off x="5410080" y="5638680"/>
            <a:ext cx="57168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s ent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oca Fresca / Roca Alte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Minera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teración hidrotermal y meteor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Fluí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recha Hidrotermal y Brecha sedimen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 de alteración / Minerales de M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s ent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amorfismo / Metasomatis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Tipo de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En que contextos geológicos ocurren los procesos anterior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uales son los tipos de yacimientos que conocen?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yacimien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órfidos Cupríf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oli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piterm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k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dimen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olcano-Exhal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amórf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I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sos Endógenos / Procesos Exóge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oxidados v/s minerales sulfu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En que radica la diferenc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Oxidados de Cobr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tacam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risoco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rocant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ntle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urqu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zu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971800" y="2514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2971800" y="3048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Sulfurados de Cobr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lco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orn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lcos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vel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inerales Sulfurados asociados a la me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senopir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libden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362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97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952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ahoma"/>
              </a:rPr>
              <a:t>Conceptos Básicos (V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Diagnós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Color del mi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Ray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mediante uso del rayad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Brill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opaco, vítreo, metál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Form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abular, cúb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Hábit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radial, masiv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Distribu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en vetillas, diseminad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Otr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clivaje, peso específico, sistema cristalográfico,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taca28" descr="ataca28.jpg (296174 bytes)"/>
          <p:cNvPicPr/>
          <p:nvPr/>
        </p:nvPicPr>
        <p:blipFill>
          <a:blip r:embed="rId1"/>
          <a:stretch/>
        </p:blipFill>
        <p:spPr>
          <a:xfrm>
            <a:off x="1828800" y="914400"/>
            <a:ext cx="6629400" cy="4197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743200" y="5334120"/>
            <a:ext cx="449568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Atacamita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: Cu</a:t>
            </a:r>
            <a:r>
              <a:rPr b="0" lang="es-ES" sz="20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Cl(OH)</a:t>
            </a:r>
            <a:r>
              <a:rPr b="0" lang="es-ES" sz="20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20x15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  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piapo (Chile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     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seo Nacional de Ciencias Natural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hilec" descr="Chilec.jpg (1404 bytes)"/>
          <p:cNvPicPr/>
          <p:nvPr/>
        </p:nvPicPr>
        <p:blipFill>
          <a:blip r:embed="rId2"/>
          <a:stretch/>
        </p:blipFill>
        <p:spPr>
          <a:xfrm>
            <a:off x="7581960" y="5751360"/>
            <a:ext cx="57132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3:16:08Z</dcterms:created>
  <dc:creator>sablereau</dc:creator>
  <dc:description/>
  <dc:language>en-US</dc:language>
  <cp:lastModifiedBy>Juice</cp:lastModifiedBy>
  <dcterms:modified xsi:type="dcterms:W3CDTF">2005-03-17T00:49:23Z</dcterms:modified>
  <cp:revision>5</cp:revision>
  <dc:subject/>
  <dc:title>Metalogénesis GL54A</dc:title>
</cp:coreProperties>
</file>