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BAB-677C-49BB-9699-4EB4A30A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AEF-A155-478E-B8F2-AD1434C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3BE-57F6-4AC8-BD1B-E7311E7B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BBE-7D6E-4DA3-9D98-AE8F3120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311-680C-4157-A826-11CD3A20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E4C9-6DDF-4823-8F37-BDC3AF4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7DA0-4292-4E89-8311-297E13FA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59E4-9646-498A-9778-3CFBEF5C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82AB-A06B-4473-9B0F-3422FCCB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8E60-A53C-4591-AC2D-29D5F98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F236-97A9-4D22-A377-29BD3362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194-467C-4425-A934-4200EE92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EC6-B346-4E16-80E0-495270D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99F3-27AC-4452-B028-3F1FD20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DCED-D859-4BB1-9368-9FD94388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B771-8D94-491A-8CCF-BF91BC66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3322-1C96-4913-B11C-82915310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CC7-AD6E-4D2D-8F09-D95255C6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37B-007D-4D9E-85E4-F0BD021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F94-24F1-454A-99C4-31802D27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587-1B56-4F67-8883-90C78DD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414-A12A-4C2E-8C19-AC11521F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91D-AC1B-4E07-9C41-4E83265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AAD-1A21-4127-B8B7-47F6C19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DF5-7090-4E67-8113-7A9913DC6C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359D-39A5-4B84-B7FE-31447DF975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ahoma"/>
              </a:rPr>
              <a:t>Metalogénesis GL54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uxiliares: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atalia Astudi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re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yudant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issette Wäckerling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Joseli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Tania Villaseñ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Rodrigo Bar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isoc15" descr="crisoc15.jpg (127778 bytes)"/>
          <p:cNvPicPr/>
          <p:nvPr/>
        </p:nvPicPr>
        <p:blipFill>
          <a:blip r:embed="rId1"/>
          <a:stretch/>
        </p:blipFill>
        <p:spPr>
          <a:xfrm>
            <a:off x="2133720" y="762120"/>
            <a:ext cx="6324480" cy="41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5105520"/>
            <a:ext cx="4317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risocol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(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,Al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(OH)·n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x6 c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ó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hilec" descr="Chilec.jpg (1404 bytes)"/>
          <p:cNvPicPr/>
          <p:nvPr/>
        </p:nvPicPr>
        <p:blipFill>
          <a:blip r:embed="rId2"/>
          <a:stretch/>
        </p:blipFill>
        <p:spPr>
          <a:xfrm>
            <a:off x="7848720" y="579132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alcop17" descr="calcop17.jpg (120241 bytes)"/>
          <p:cNvPicPr/>
          <p:nvPr/>
        </p:nvPicPr>
        <p:blipFill>
          <a:blip r:embed="rId1"/>
          <a:stretch/>
        </p:blipFill>
        <p:spPr>
          <a:xfrm>
            <a:off x="1905120" y="1143000"/>
            <a:ext cx="6248160" cy="417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71800" y="5791320"/>
            <a:ext cx="3551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alcopir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x3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       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uarón, Pasco 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ru1" descr="Peru1.jpg (1539 bytes)"/>
          <p:cNvPicPr/>
          <p:nvPr/>
        </p:nvPicPr>
        <p:blipFill>
          <a:blip r:embed="rId2"/>
          <a:stretch/>
        </p:blipFill>
        <p:spPr>
          <a:xfrm>
            <a:off x="6629400" y="6095880"/>
            <a:ext cx="41904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ornita2" descr="bornita2.jpg (151283 bytes)"/>
          <p:cNvPicPr/>
          <p:nvPr/>
        </p:nvPicPr>
        <p:blipFill>
          <a:blip r:embed="rId1"/>
          <a:stretch/>
        </p:blipFill>
        <p:spPr>
          <a:xfrm>
            <a:off x="1600200" y="609480"/>
            <a:ext cx="6251400" cy="4754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5486400"/>
            <a:ext cx="44197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Born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onora (Méjico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lección de Don José Manuel Sanchí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mexicoc" descr="Mexicoc.jpg (1499 bytes)"/>
          <p:cNvPicPr/>
          <p:nvPr/>
        </p:nvPicPr>
        <p:blipFill>
          <a:blip r:embed="rId2"/>
          <a:stretch/>
        </p:blipFill>
        <p:spPr>
          <a:xfrm>
            <a:off x="6324480" y="5864400"/>
            <a:ext cx="45720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rita11" descr="pirita11.jpg (126488 bytes)"/>
          <p:cNvPicPr/>
          <p:nvPr/>
        </p:nvPicPr>
        <p:blipFill>
          <a:blip r:embed="rId1"/>
          <a:stretch/>
        </p:blipFill>
        <p:spPr>
          <a:xfrm>
            <a:off x="1219320" y="380880"/>
            <a:ext cx="6765840" cy="445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90920" y="5257800"/>
            <a:ext cx="396216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irita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useo Municipal de Geología (Museo Martorell),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arce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eru1" descr="Peru1.jpg (1539 bytes)"/>
          <p:cNvPicPr/>
          <p:nvPr/>
        </p:nvPicPr>
        <p:blipFill>
          <a:blip r:embed="rId2"/>
          <a:stretch/>
        </p:blipFill>
        <p:spPr>
          <a:xfrm>
            <a:off x="5410080" y="56386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ca Fresca / Roca Alte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Minera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eración hidrotermal y meteor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Fluí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echa Hidrotermal y Brecha sedi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 de alteración / Minerales de 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orfismo / Metasomat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Tipo de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contextos geológicos ocurren los procesos anterior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uales son los tipos de yacimientos que conocen?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yacimien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órfidos Cupríf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oli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piterm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dimen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olcano-Exhal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órf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s Endógenos / Procesos Exóge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v/s minerales sulfu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radica la diferenc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tacam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risoc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ocant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tle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urqu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zu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971800" y="2514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971800" y="3048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vel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asociados a la me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sen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libde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95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iagnó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Color del mi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Ray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mediante uso del rayad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Brill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opaco, vítreo, metál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Form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abular, cúb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Hábit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radial, masiv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istribu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en vetillas, diseminad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Otr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clivaje, peso específico, sistema cristalográf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taca28" descr="ataca28.jpg (296174 bytes)"/>
          <p:cNvPicPr/>
          <p:nvPr/>
        </p:nvPicPr>
        <p:blipFill>
          <a:blip r:embed="rId1"/>
          <a:stretch/>
        </p:blipFill>
        <p:spPr>
          <a:xfrm>
            <a:off x="1828800" y="914400"/>
            <a:ext cx="6629400" cy="419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43200" y="5334120"/>
            <a:ext cx="44956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Atacam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Cl(OH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20x15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o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hilec" descr="Chilec.jpg (1404 bytes)"/>
          <p:cNvPicPr/>
          <p:nvPr/>
        </p:nvPicPr>
        <p:blipFill>
          <a:blip r:embed="rId2"/>
          <a:stretch/>
        </p:blipFill>
        <p:spPr>
          <a:xfrm>
            <a:off x="7581960" y="5751360"/>
            <a:ext cx="5713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3:16:08Z</dcterms:created>
  <dc:creator>sablereau</dc:creator>
  <dc:description/>
  <dc:language>en-US</dc:language>
  <cp:lastModifiedBy>Juice</cp:lastModifiedBy>
  <dcterms:modified xsi:type="dcterms:W3CDTF">2005-03-17T00:49:23Z</dcterms:modified>
  <cp:revision>5</cp:revision>
  <dc:subject/>
  <dc:title>Metalogénesis GL54A</dc:title>
</cp:coreProperties>
</file>