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219-A585-492D-9F2E-4322AD29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572-EB62-4355-A4A1-31BDB4C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9C2-5908-41D0-860E-437E364D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F11-1FE8-4EDE-A26E-4814FC46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C2BD-3D49-4577-80E1-C650775C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0C5F-3455-4758-A8BE-D5B07C55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BE79-83A0-4CFA-B4A7-5D165AD9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AA18-5F44-4BEB-8783-2C936C9E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138E-22F3-45C9-8685-69ECDDAF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AB59-CE87-4BA4-9BC6-AE1BAD5D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420B-85A6-4067-9774-E7109B7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AE3-BF11-443B-ACB5-0A56F919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34F6-312D-4438-9BBC-F4864DD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05B3-43D7-43B3-81F5-52130B3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12EC-54C2-4667-96B8-1C1E54EB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412F-644B-4CDE-8A41-7445780C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D5CC-974A-482E-A0DF-46CC249F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B5D-30D0-4F25-8D31-C121FCDA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9D0-09FD-4458-9E0B-178ED818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122-6594-42D0-8859-1ACA7D34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18E-606F-40BE-AE65-804678C1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269-981D-4B11-967C-1455674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A32-B407-4241-BBF8-5CE58CB7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C17-2DCF-42C7-A461-0ECC569E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A197-77DF-4838-B0FD-F6CF2328A1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CDFA-F5A2-4E45-86B7-4647FDC395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ahoma"/>
              </a:rPr>
              <a:t>Metalogénesis GL54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uxiliares: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atalia Astudi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rene Tap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yudant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issette Wäckerling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Joseline Tap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Tania Villaseñ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Rodrigo Bar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risoc15" descr="crisoc15.jpg (127778 bytes)"/>
          <p:cNvPicPr/>
          <p:nvPr/>
        </p:nvPicPr>
        <p:blipFill>
          <a:blip r:embed="rId1"/>
          <a:stretch/>
        </p:blipFill>
        <p:spPr>
          <a:xfrm>
            <a:off x="2133720" y="762120"/>
            <a:ext cx="6324480" cy="412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8120" y="5105520"/>
            <a:ext cx="4317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Crisocol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(Cu</a:t>
            </a:r>
            <a:r>
              <a:rPr b="0" lang="es-ES" sz="20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,Al)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(OH)·nH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x6 c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piapó (Chile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seo Nacional de Ciencias Naturales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chilec" descr="Chilec.jpg (1404 bytes)"/>
          <p:cNvPicPr/>
          <p:nvPr/>
        </p:nvPicPr>
        <p:blipFill>
          <a:blip r:embed="rId2"/>
          <a:stretch/>
        </p:blipFill>
        <p:spPr>
          <a:xfrm>
            <a:off x="7848720" y="5791320"/>
            <a:ext cx="6858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alcop17" descr="calcop17.jpg (120241 bytes)"/>
          <p:cNvPicPr/>
          <p:nvPr/>
        </p:nvPicPr>
        <p:blipFill>
          <a:blip r:embed="rId1"/>
          <a:stretch/>
        </p:blipFill>
        <p:spPr>
          <a:xfrm>
            <a:off x="1905120" y="1143000"/>
            <a:ext cx="6248160" cy="4176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71800" y="5791320"/>
            <a:ext cx="35514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Calcopir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FeS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x3 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        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Huarón, Pasco (Perú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ru1" descr="Peru1.jpg (1539 bytes)"/>
          <p:cNvPicPr/>
          <p:nvPr/>
        </p:nvPicPr>
        <p:blipFill>
          <a:blip r:embed="rId2"/>
          <a:stretch/>
        </p:blipFill>
        <p:spPr>
          <a:xfrm>
            <a:off x="6629400" y="6095880"/>
            <a:ext cx="419040" cy="2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ornita2" descr="bornita2.jpg (151283 bytes)"/>
          <p:cNvPicPr/>
          <p:nvPr/>
        </p:nvPicPr>
        <p:blipFill>
          <a:blip r:embed="rId1"/>
          <a:stretch/>
        </p:blipFill>
        <p:spPr>
          <a:xfrm>
            <a:off x="1600200" y="609480"/>
            <a:ext cx="6251400" cy="4754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1800" y="5486400"/>
            <a:ext cx="44197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Born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FeS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onora (Méjico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lección de Don José Manuel Sanchí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Val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mexicoc" descr="Mexicoc.jpg (1499 bytes)"/>
          <p:cNvPicPr/>
          <p:nvPr/>
        </p:nvPicPr>
        <p:blipFill>
          <a:blip r:embed="rId2"/>
          <a:stretch/>
        </p:blipFill>
        <p:spPr>
          <a:xfrm>
            <a:off x="6324480" y="5864400"/>
            <a:ext cx="45720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rita11" descr="pirita11.jpg (126488 bytes)"/>
          <p:cNvPicPr/>
          <p:nvPr/>
        </p:nvPicPr>
        <p:blipFill>
          <a:blip r:embed="rId1"/>
          <a:stretch/>
        </p:blipFill>
        <p:spPr>
          <a:xfrm>
            <a:off x="1219320" y="380880"/>
            <a:ext cx="6765840" cy="4457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90920" y="5257800"/>
            <a:ext cx="396216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Pirita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FeS</a:t>
            </a:r>
            <a:r>
              <a:rPr b="0" lang="es-ES" sz="14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(Perú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useo Municipal de Geología (Museo Martorell),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arcel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eru1" descr="Peru1.jpg (1539 bytes)"/>
          <p:cNvPicPr/>
          <p:nvPr/>
        </p:nvPicPr>
        <p:blipFill>
          <a:blip r:embed="rId2"/>
          <a:stretch/>
        </p:blipFill>
        <p:spPr>
          <a:xfrm>
            <a:off x="5410080" y="5638680"/>
            <a:ext cx="5716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s ent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ca Fresca / Roca Alte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Minera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teración hidrotermal y meteor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Fluí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recha Hidrotermal y Brecha sedi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 de alteración / Minerales de M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s ent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morfismo / Metasomat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Tipo de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En que contextos geológicos ocurren los procesos anterior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uales son los tipos de yacimientos que conocen?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yacimien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órfidos Cupríf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oli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piterm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k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dimen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olcano-Exhal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mórf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sos Endógenos / Procesos Exóge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oxidados v/s minerales sulfu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En que radica la diferenc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Oxidados de Cobr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tacam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risoc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rocant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tle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urqu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zu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971800" y="2514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2971800" y="3048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Sulfurados de Cobr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lco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orn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lcos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vel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Sulfurados asociados a la me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seno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libden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362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97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95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iagnó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Color del mi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Ray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mediante uso del rayad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Brill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opaco, vítreo, metál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Form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abular, cúb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Hábit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radial, masiv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istribu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en vetillas, diseminad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Otr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clivaje, peso específico, sistema cristalográf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taca28" descr="ataca28.jpg (296174 bytes)"/>
          <p:cNvPicPr/>
          <p:nvPr/>
        </p:nvPicPr>
        <p:blipFill>
          <a:blip r:embed="rId1"/>
          <a:stretch/>
        </p:blipFill>
        <p:spPr>
          <a:xfrm>
            <a:off x="1828800" y="914400"/>
            <a:ext cx="6629400" cy="4197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743200" y="5334120"/>
            <a:ext cx="449568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Atacam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</a:t>
            </a:r>
            <a:r>
              <a:rPr b="0" lang="es-ES" sz="20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Cl(OH)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20x15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piapo (Chile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seo Nacional de Ciencias Natural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hilec" descr="Chilec.jpg (1404 bytes)"/>
          <p:cNvPicPr/>
          <p:nvPr/>
        </p:nvPicPr>
        <p:blipFill>
          <a:blip r:embed="rId2"/>
          <a:stretch/>
        </p:blipFill>
        <p:spPr>
          <a:xfrm>
            <a:off x="7581960" y="5751360"/>
            <a:ext cx="57132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3:16:08Z</dcterms:created>
  <dc:creator>sablereau</dc:creator>
  <dc:description/>
  <dc:language>en-US</dc:language>
  <cp:lastModifiedBy>Juice</cp:lastModifiedBy>
  <dcterms:modified xsi:type="dcterms:W3CDTF">2005-03-17T00:49:23Z</dcterms:modified>
  <cp:revision>5</cp:revision>
  <dc:subject/>
  <dc:title>Metalogénesis GL54A</dc:title>
</cp:coreProperties>
</file>