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716-8DE7-43CB-8796-C2556716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2757-7697-409D-91E4-97AE9F4C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9C7-9EF2-4F74-8D64-9075604C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2C6-DCC8-4920-99DA-9AF3B8FE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7A3-D91F-4191-A8F9-89FCAF79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5B7-B766-4CB2-B24D-8FEC3C43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149-6B01-4C07-966D-0D42FDC8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34B-BD12-49A2-A5AE-325CFE7A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4E4-7E31-4123-A8DC-DDDFDE50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422-9227-4278-8C88-A61751ED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AF5-95AF-46C4-B1D2-6D992CC3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D5C-0520-450D-8ABF-906FE3BE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1177-483B-4BEF-B308-891F4A7FC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685800"/>
            <a:ext cx="94489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Modelacion de la Escorrent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715000" y="3048120"/>
            <a:ext cx="1914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I71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I61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43" name="arrayan1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304920"/>
            <a:ext cx="5867280" cy="4597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cuaciones de Escur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fig171c" descr=""/>
          <p:cNvPicPr/>
          <p:nvPr/>
        </p:nvPicPr>
        <p:blipFill>
          <a:blip r:embed="rId2"/>
          <a:stretch/>
        </p:blipFill>
        <p:spPr>
          <a:xfrm>
            <a:off x="3505320" y="930240"/>
            <a:ext cx="5181480" cy="3595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162920" y="2590920"/>
            <a:ext cx="1522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581280" y="1295280"/>
            <a:ext cx="5105520" cy="2974320"/>
            <a:chOff x="3581280" y="1295280"/>
            <a:chExt cx="5105520" cy="2974320"/>
          </a:xfrm>
        </p:grpSpPr>
        <p:sp>
          <p:nvSpPr>
            <p:cNvPr id="48" name=""/>
            <p:cNvSpPr/>
            <p:nvPr/>
          </p:nvSpPr>
          <p:spPr>
            <a:xfrm>
              <a:off x="3581280" y="3809880"/>
              <a:ext cx="510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cuación de Continu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2880" y="3276720"/>
              <a:ext cx="609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811800">
              <a:off x="3885840" y="1905120"/>
              <a:ext cx="304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2209680"/>
              <a:ext cx="3045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24280" y="2438280"/>
              <a:ext cx="3049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43600" y="2743200"/>
              <a:ext cx="3049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5943600" y="2286000"/>
                  <a:ext cx="76212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Q+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d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7010280" y="3276720"/>
              <a:ext cx="2286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15200" y="2590920"/>
              <a:ext cx="2286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7238880" y="22096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7315200" y="22096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52880" y="1371600"/>
              <a:ext cx="381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129528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15000" y="152388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-762120" y="1143000"/>
            <a:ext cx="4343400" cy="6789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0 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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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V+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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v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VC             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0" y="2362320"/>
                <a:ext cx="33526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</m:e>
                    </m:nary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d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+qd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52280" y="3733920"/>
                <a:ext cx="3276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salida</m:t>
                        </m:r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</m:e>
                    </m:nary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d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= 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d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28600" y="4876920"/>
                <a:ext cx="2971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limLow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Low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ρd</m:t>
                            </m:r>
                          </m:e>
                        </m:nary>
                        <m:r>
                          <m:t xml:space="preserve">∀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r>
                              <m:t xml:space="preserve">ρ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d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4038480" y="4724280"/>
            <a:ext cx="457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Suponiendo que la densidad del fluido es con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800600" y="5487840"/>
                <a:ext cx="28954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-q=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8686800" y="3808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1093"/>
                </a:moveTo>
                <a:lnTo>
                  <a:pt x="7301" y="11093"/>
                </a:lnTo>
                <a:lnTo>
                  <a:pt x="7301" y="16428"/>
                </a:lnTo>
                <a:cubicBezTo>
                  <a:pt x="7301" y="17351"/>
                  <a:pt x="8102" y="18082"/>
                  <a:pt x="9138" y="18082"/>
                </a:cubicBezTo>
                <a:lnTo>
                  <a:pt x="10800" y="18082"/>
                </a:lnTo>
                <a:cubicBezTo>
                  <a:pt x="11836" y="18082"/>
                  <a:pt x="12636" y="17351"/>
                  <a:pt x="12636" y="16428"/>
                </a:cubicBezTo>
                <a:lnTo>
                  <a:pt x="12636" y="11093"/>
                </a:lnTo>
                <a:lnTo>
                  <a:pt x="10800" y="11093"/>
                </a:lnTo>
                <a:lnTo>
                  <a:pt x="14308" y="7585"/>
                </a:lnTo>
                <a:lnTo>
                  <a:pt x="17981" y="11093"/>
                </a:lnTo>
                <a:lnTo>
                  <a:pt x="16144" y="11093"/>
                </a:lnTo>
                <a:lnTo>
                  <a:pt x="16144" y="16428"/>
                </a:lnTo>
                <a:cubicBezTo>
                  <a:pt x="16144" y="19196"/>
                  <a:pt x="13568" y="21755"/>
                  <a:pt x="10800" y="21755"/>
                </a:cubicBezTo>
                <a:lnTo>
                  <a:pt x="9138" y="21755"/>
                </a:lnTo>
                <a:cubicBezTo>
                  <a:pt x="6370" y="21755"/>
                  <a:pt x="3794" y="19196"/>
                  <a:pt x="3794" y="164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219320" y="685800"/>
                <a:ext cx="31035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B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A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B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562720" y="500040"/>
                <a:ext cx="29718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y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343400" y="6858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ec5" descr=""/>
          <p:cNvPicPr/>
          <p:nvPr/>
        </p:nvPicPr>
        <p:blipFill>
          <a:blip r:embed="rId2"/>
          <a:stretch/>
        </p:blipFill>
        <p:spPr>
          <a:xfrm>
            <a:off x="2057400" y="3193920"/>
            <a:ext cx="2286000" cy="844560"/>
          </a:xfrm>
          <a:prstGeom prst="rect">
            <a:avLst/>
          </a:prstGeom>
          <a:ln w="93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3" name="ec4" descr=""/>
          <p:cNvPicPr/>
          <p:nvPr/>
        </p:nvPicPr>
        <p:blipFill>
          <a:blip r:embed="rId3"/>
          <a:stretch/>
        </p:blipFill>
        <p:spPr>
          <a:xfrm>
            <a:off x="2209680" y="1762200"/>
            <a:ext cx="1905120" cy="931680"/>
          </a:xfrm>
          <a:prstGeom prst="rect">
            <a:avLst/>
          </a:prstGeom>
          <a:ln w="93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4" name="ec6" descr=""/>
          <p:cNvPicPr/>
          <p:nvPr/>
        </p:nvPicPr>
        <p:blipFill>
          <a:blip r:embed="rId4"/>
          <a:stretch/>
        </p:blipFill>
        <p:spPr>
          <a:xfrm>
            <a:off x="3581280" y="4610160"/>
            <a:ext cx="5334120" cy="1333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75" name=""/>
          <p:cNvSpPr/>
          <p:nvPr/>
        </p:nvSpPr>
        <p:spPr>
          <a:xfrm>
            <a:off x="5638680" y="251460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cuación de continuidad 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15200" y="3048120"/>
            <a:ext cx="533520" cy="2666880"/>
          </a:xfrm>
          <a:custGeom>
            <a:avLst/>
            <a:gdLst>
              <a:gd name="textAreaLeft" fmla="*/ 71280 w 533520"/>
              <a:gd name="textAreaRight" fmla="*/ 462240 w 533520"/>
              <a:gd name="textAreaTop" fmla="*/ 466560 h 2666880"/>
              <a:gd name="textAreaBottom" fmla="*/ 19335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228600"/>
            <a:ext cx="53341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ff99"/>
                </a:solidFill>
                <a:latin typeface="Verdana"/>
              </a:rPr>
              <a:t>Ecuación de Cantidad de Mo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4681440"/>
          <a:ext cx="9144000" cy="155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681440"/>
                    <a:ext cx="91440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" name=""/>
          <p:cNvGrpSpPr/>
          <p:nvPr/>
        </p:nvGrpSpPr>
        <p:grpSpPr>
          <a:xfrm>
            <a:off x="1828800" y="1295280"/>
            <a:ext cx="6781680" cy="2814480"/>
            <a:chOff x="1828800" y="1295280"/>
            <a:chExt cx="6781680" cy="2814480"/>
          </a:xfrm>
        </p:grpSpPr>
        <p:grpSp>
          <p:nvGrpSpPr>
            <p:cNvPr id="81" name=""/>
            <p:cNvGrpSpPr/>
            <p:nvPr/>
          </p:nvGrpSpPr>
          <p:grpSpPr>
            <a:xfrm>
              <a:off x="1828800" y="1295280"/>
              <a:ext cx="6781680" cy="2814480"/>
              <a:chOff x="1828800" y="1295280"/>
              <a:chExt cx="6781680" cy="2814480"/>
            </a:xfrm>
          </p:grpSpPr>
          <p:pic>
            <p:nvPicPr>
              <p:cNvPr id="82" name="fig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28800" y="1295280"/>
                <a:ext cx="6781680" cy="281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 flipH="1" flipV="1">
                <a:off x="3504960" y="190440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733920" y="144756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s-ES_tradnl" sz="1400" spc="-1" strike="noStrike" baseline="-25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2743200" y="2361960"/>
              <a:ext cx="53316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1" lang="es-ES_tradnl" sz="1400" spc="-1" strike="noStrike" baseline="-25000">
                  <a:solidFill>
                    <a:srgbClr val="000000"/>
                  </a:solidFill>
                  <a:latin typeface="Verdana"/>
                </a:rPr>
                <a:t>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160" y="2666880"/>
              <a:ext cx="53352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1" lang="es-ES_tradnl" sz="1400" spc="-1" strike="noStrike" baseline="-25000">
                  <a:solidFill>
                    <a:srgbClr val="000000"/>
                  </a:solidFill>
                  <a:latin typeface="Verdana"/>
                </a:rPr>
                <a:t>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8229600" y="380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9655"/>
                </a:moveTo>
                <a:lnTo>
                  <a:pt x="7301" y="9655"/>
                </a:lnTo>
                <a:lnTo>
                  <a:pt x="7301" y="14990"/>
                </a:lnTo>
                <a:cubicBezTo>
                  <a:pt x="7301" y="15913"/>
                  <a:pt x="8102" y="16644"/>
                  <a:pt x="9138" y="16644"/>
                </a:cubicBezTo>
                <a:lnTo>
                  <a:pt x="10800" y="16644"/>
                </a:lnTo>
                <a:cubicBezTo>
                  <a:pt x="11836" y="16644"/>
                  <a:pt x="12636" y="15913"/>
                  <a:pt x="12636" y="14990"/>
                </a:cubicBezTo>
                <a:lnTo>
                  <a:pt x="12636" y="9655"/>
                </a:lnTo>
                <a:lnTo>
                  <a:pt x="10800" y="9655"/>
                </a:lnTo>
                <a:lnTo>
                  <a:pt x="14308" y="6147"/>
                </a:lnTo>
                <a:lnTo>
                  <a:pt x="17981" y="9655"/>
                </a:lnTo>
                <a:lnTo>
                  <a:pt x="16144" y="9655"/>
                </a:lnTo>
                <a:lnTo>
                  <a:pt x="16144" y="14990"/>
                </a:lnTo>
                <a:cubicBezTo>
                  <a:pt x="16144" y="17758"/>
                  <a:pt x="13568" y="20317"/>
                  <a:pt x="10800" y="20317"/>
                </a:cubicBezTo>
                <a:lnTo>
                  <a:pt x="9138" y="20317"/>
                </a:lnTo>
                <a:cubicBezTo>
                  <a:pt x="6370" y="20317"/>
                  <a:pt x="3794" y="17758"/>
                  <a:pt x="3794" y="1499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80880" y="1066680"/>
                <a:ext cx="5886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Adx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≈</m:t>
                    </m:r>
                    <m:r>
                      <m:t xml:space="preserve">ρg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838080" y="152280"/>
            <a:ext cx="586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dirección mo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419720" y="2362320"/>
                <a:ext cx="34290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ρg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522680" y="3660840"/>
                <a:ext cx="42879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A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08660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rav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2514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886200"/>
            <a:ext cx="2819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pansiones o cont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48006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endiente de la línea de energí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315200" y="4419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029200" y="5334120"/>
                <a:ext cx="266688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g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Q/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8839080" y="3049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14600" y="258840"/>
                <a:ext cx="2819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d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723920" y="6094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1447920"/>
            <a:ext cx="4114800" cy="3070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velocidad del agua relativa a la del ai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200400" y="6094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600200"/>
            <a:ext cx="3505320" cy="3070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coeficiente de esfuerzo de cor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029200" y="2617920"/>
                <a:ext cx="36766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228600" y="2743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ultante fuerzas de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3920" y="3533760"/>
                <a:ext cx="24382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A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 flipH="1">
            <a:off x="6171840" y="34290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6320" y="5105520"/>
                <a:ext cx="90676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F=</m:t>
                        </m:r>
                      </m:e>
                    </m:nary>
                    <m:r>
                      <m:t xml:space="preserve">ρg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-</m:t>
                    </m:r>
                    <m:r>
                      <m:t xml:space="preserve">ρg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-</m:t>
                    </m:r>
                    <m:r>
                      <m:t xml:space="preserve">ρg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-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Bρ</m:t>
                    </m:r>
                    <m:r>
                      <m:rPr>
                        <m:lit/>
                        <m:nor/>
                      </m:rPr>
                      <m:t xml:space="preserve">dx-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A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686800" y="2286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304920"/>
            <a:ext cx="8153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Flujo neto de salida de momentum a través de las paredes del volumen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447920" y="1752480"/>
                <a:ext cx="57909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lim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</m:nary>
                    <m:r>
                      <m:t xml:space="preserve">ρ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d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ρ</m:t>
                    </m:r>
                    <m:r>
                      <m:t xml:space="preserve">[</m:t>
                    </m:r>
                    <m:r>
                      <m:t xml:space="preserve">β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q-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143000" y="327672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coeficiente de Boussines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96252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componente de la velocidad, en la dirección del eje x, del caudal lateral q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581280" y="25142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876920" y="2438280"/>
            <a:ext cx="9144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572000"/>
            <a:ext cx="8153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Variación de cantidad de movimiento en el interior del volumen de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09680" y="5630760"/>
                <a:ext cx="365760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limLow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lim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</m:nary>
                      </m:e>
                    </m:nary>
                    <m:r>
                      <m:t xml:space="preserve">ρd</m:t>
                    </m:r>
                    <m:r>
                      <m:t xml:space="preserve">∀</m:t>
                    </m:r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63120" y="19810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4920" y="609480"/>
                <a:ext cx="864864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/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gA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βq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B=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809880" y="2286000"/>
                <a:ext cx="23432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=y+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80880" y="3581280"/>
                <a:ext cx="83822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/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gA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βq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B=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676520" y="2438280"/>
                <a:ext cx="65721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-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57200" y="304920"/>
            <a:ext cx="8001000" cy="7038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espreciando pérdidas de energía, el flujo lateral y el efecto del vient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495680"/>
            <a:ext cx="2743200" cy="13107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Verdana"/>
              </a:rPr>
              <a:t>aceleración local que  describe el cambio de momentum debido a cambios de la velocidad co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362320" y="3809880"/>
            <a:ext cx="22860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1143000"/>
            <a:ext cx="3962160" cy="8240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Verdana"/>
              </a:rPr>
              <a:t>aceleración convectiva, que describe el cambio de momentum debido a cambios espaciales de la velo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114440" y="21337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5299200"/>
            <a:ext cx="2590920" cy="13107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Verdana"/>
              </a:rPr>
              <a:t>fuerza de presión,  proporcional a la variación de la profundidad del agua en la can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724280" y="3657240"/>
            <a:ext cx="7621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5867280"/>
            <a:ext cx="2819520" cy="8575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Verdana"/>
              </a:rPr>
              <a:t>fuerza de gravedad, proporcional a la pendiente del lecho S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172200" y="3429000"/>
            <a:ext cx="45720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4191120"/>
            <a:ext cx="2438640" cy="11008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Verdana"/>
              </a:rPr>
              <a:t>fuerza de fricción, proporcional a la pendiente de fricción S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848720" y="34290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4:06:18Z</dcterms:created>
  <dc:creator>Ximena Vargas</dc:creator>
  <dc:description/>
  <dc:language>en-US</dc:language>
  <cp:lastModifiedBy>xv</cp:lastModifiedBy>
  <dcterms:modified xsi:type="dcterms:W3CDTF">2005-03-08T13:00:53Z</dcterms:modified>
  <cp:revision>3</cp:revision>
  <dc:subject/>
  <dc:title>Sin título de diapositiva</dc:title>
</cp:coreProperties>
</file>