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55C6-0AC6-46B4-8F5D-8CB008CF1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D6B1-DDB4-4A9C-B497-5B110162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73D-D944-4132-9653-FBE24D37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75BE-8F32-4FA1-862A-4F496D98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1434-CC72-4DF2-B979-C82C1C41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1BA8-6CD2-46B7-B220-05110C9C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684B-185B-418D-95BD-39F3DBAF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7FA4-183D-4DB1-881A-4994B38F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98AB-F344-4CB9-B5C3-B7FAD61D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F9A1-E153-438B-B6D4-B36A618B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492D-38D4-466D-A1CA-50F45F70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035-4848-4B49-BD45-1C6195A7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E7EF-C005-427D-87B5-10929731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A515-C71F-4309-805F-5E790316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E938-9CED-4124-8D91-BF1CE3C4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D90B-8EE3-4A5F-9C93-D8FBFCE3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4424-13E8-429E-A240-B4636D90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938-2290-4164-8B73-8EB452D6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19A8-8482-43F6-A01F-E83176F7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DF0-2723-4327-9AF2-B4B3B8AD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5E7-A9E1-4708-B937-655778FE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93D-026F-4311-BD86-ADEE7A69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68E-B552-4A5F-9A36-73EE769B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ADCF-559B-4BC6-B52E-283B09D0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70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c70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70c4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c70c4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c70c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52EB-0027-41E8-BD84-6D03D99D63DF}" type="slidenum">
              <a:rPr b="0" lang="en-US" sz="1400" spc="-1" strike="noStrike">
                <a:solidFill>
                  <a:srgbClr val="3c70c4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c7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c70c4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F570-818E-40E4-AFCF-16D48483B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Schoolbook"/>
              </a:rPr>
              <a:t>Unidad 2-4</a:t>
            </a:r>
            <a:endParaRPr b="0" lang="en-US" sz="3600" spc="-1" strike="noStrike">
              <a:solidFill>
                <a:srgbClr val="3c70c4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Century Schoolbook"/>
              </a:rPr>
              <a:t>Elección modal</a:t>
            </a:r>
            <a:endParaRPr b="0" lang="en-US" sz="36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specificación término aleatorio </a:t>
            </a:r>
            <a:r>
              <a:rPr b="0" lang="es-ES_tradnl" sz="4400" spc="-1" strike="noStrike">
                <a:solidFill>
                  <a:srgbClr val="336699"/>
                </a:solidFill>
                <a:latin typeface="Symbol"/>
                <a:ea typeface="Symbol"/>
              </a:rPr>
              <a:t></a:t>
            </a:r>
            <a:r>
              <a:rPr b="0" i="1" lang="es-ES_tradnl" sz="4400" spc="-1" strike="noStrike" baseline="-25000">
                <a:solidFill>
                  <a:srgbClr val="336699"/>
                </a:solidFill>
                <a:latin typeface="Times New Roman"/>
              </a:rPr>
              <a:t>in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79440" y="178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7160" y="1863720"/>
            <a:ext cx="5943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finir la distribución del término aleatorio 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permite definir la función de probabilidad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295640" y="2895480"/>
            <a:ext cx="6802560" cy="961200"/>
            <a:chOff x="1295640" y="2895480"/>
            <a:chExt cx="6802560" cy="961200"/>
          </a:xfrm>
        </p:grpSpPr>
        <p:sp>
          <p:nvSpPr>
            <p:cNvPr id="174" name=""/>
            <p:cNvSpPr/>
            <p:nvPr/>
          </p:nvSpPr>
          <p:spPr>
            <a:xfrm>
              <a:off x="2911320" y="3159000"/>
              <a:ext cx="838080" cy="0"/>
            </a:xfrm>
            <a:prstGeom prst="line">
              <a:avLst/>
            </a:prstGeom>
            <a:ln w="28440">
              <a:solidFill>
                <a:srgbClr val="3c70c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5640" y="2895480"/>
              <a:ext cx="111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c70c4"/>
                  </a:solidFill>
                  <a:latin typeface="Times New Roman"/>
                </a:rPr>
                <a:t>Normal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38640" y="2930400"/>
              <a:ext cx="20548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N(0,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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)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	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  ;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Cov(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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n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, 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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jn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Times New Roman"/>
                </a:rPr>
                <a:t>)=</a:t>
              </a:r>
              <a:r>
                <a:rPr b="0" i="1" lang="es-ES_tradnl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</a:t>
              </a:r>
              <a:r>
                <a:rPr b="0" i="1" lang="es-ES_tradnl" sz="2400" spc="-1" strike="noStrike" baseline="-25000">
                  <a:solidFill>
                    <a:srgbClr val="3c70c4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6960" y="297180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c70c4"/>
                  </a:solidFill>
                  <a:latin typeface="Times New Roman"/>
                </a:rPr>
                <a:t>Probit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371960" y="4191120"/>
            <a:ext cx="6667200" cy="545760"/>
            <a:chOff x="1371960" y="4191120"/>
            <a:chExt cx="6667200" cy="545760"/>
          </a:xfrm>
        </p:grpSpPr>
        <p:sp>
          <p:nvSpPr>
            <p:cNvPr id="179" name=""/>
            <p:cNvSpPr/>
            <p:nvPr/>
          </p:nvSpPr>
          <p:spPr>
            <a:xfrm>
              <a:off x="2987640" y="4448880"/>
              <a:ext cx="838080" cy="0"/>
            </a:xfrm>
            <a:prstGeom prst="line">
              <a:avLst/>
            </a:prstGeom>
            <a:ln w="28440">
              <a:solidFill>
                <a:srgbClr val="3c70c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71960" y="4191120"/>
              <a:ext cx="116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c70c4"/>
                  </a:solidFill>
                  <a:latin typeface="Times New Roman"/>
                </a:rPr>
                <a:t>Gumbel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41920" y="4226760"/>
              <a:ext cx="109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G(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Symbol"/>
                  <a:ea typeface="Symbol"/>
                </a:rPr>
                <a:t></a:t>
              </a:r>
              <a:r>
                <a:rPr b="0" i="1" lang="en-US" sz="24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3c70c4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63640" y="426564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3c70c4"/>
                  </a:solidFill>
                  <a:latin typeface="Times New Roman"/>
                </a:rPr>
                <a:t>Logit</a:t>
              </a:r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Modelo Logit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Supuestos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     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V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=V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+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	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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i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C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c70c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 </a:t>
            </a:r>
            <a:r>
              <a:rPr b="0" i="1" lang="es-ES_tradnl" sz="28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3c70c4"/>
                </a:solidFill>
                <a:latin typeface="Times New Roman"/>
              </a:rPr>
              <a:t>se distribuye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Gumbel (0,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Idénticamente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único)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3c70c4"/>
                </a:solidFill>
                <a:latin typeface="Times New Roman"/>
              </a:rPr>
              <a:t>IIDG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c70c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Independiente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j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nulo)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32004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048120" y="5029200"/>
                <a:ext cx="2743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29400" y="4800600"/>
            <a:ext cx="1523880" cy="1066680"/>
          </a:xfrm>
          <a:prstGeom prst="wedgeRectCallout">
            <a:avLst>
              <a:gd name="adj1" fmla="val -98856"/>
              <a:gd name="adj2" fmla="val 1383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Matriz d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covarianza IID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diagonal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Symbol"/>
                <a:ea typeface="Symbol"/>
              </a:rPr>
              <a:t></a:t>
            </a: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cte/</a:t>
            </a:r>
            <a:r>
              <a:rPr b="1" lang="es-ES_tradnl" sz="18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Función de probabilidad Gumb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Modelo Logit.....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200400" y="3048120"/>
                <a:ext cx="548640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με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μ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μ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με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2666880"/>
            <a:ext cx="1523880" cy="457200"/>
          </a:xfrm>
          <a:prstGeom prst="wedgeRectCallout">
            <a:avLst>
              <a:gd name="adj1" fmla="val 78231"/>
              <a:gd name="adj2" fmla="val 95138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cumulad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191120"/>
            <a:ext cx="1524240" cy="457200"/>
          </a:xfrm>
          <a:prstGeom prst="wedgeRectCallout">
            <a:avLst>
              <a:gd name="adj1" fmla="val 88541"/>
              <a:gd name="adj2" fmla="val -8159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Densidad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...probabilidad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240" y="4419360"/>
            <a:ext cx="7543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Ejemplos de elección: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Transporte privado versus Transporte público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Viaje a dos destino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014560" y="1600200"/>
                <a:ext cx="420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60480" y="2847960"/>
                <a:ext cx="487368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6459480" y="2057400"/>
            <a:ext cx="1523880" cy="579600"/>
          </a:xfrm>
          <a:prstGeom prst="wedgeRectCallout">
            <a:avLst>
              <a:gd name="adj1" fmla="val -120523"/>
              <a:gd name="adj2" fmla="val 72569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Component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istemátic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...probabilidad mult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94920" y="4800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Ejemplos de elección: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Transporte en auto, metro, bus o a pie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Viaje a uno de varios destinos posible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3c70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Desarrollar actividad en una de varias zona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448000" y="2362320"/>
                <a:ext cx="4809960" cy="19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6934320" y="4191120"/>
            <a:ext cx="1523880" cy="579240"/>
          </a:xfrm>
          <a:prstGeom prst="wedgeRectCallout">
            <a:avLst>
              <a:gd name="adj1" fmla="val -157916"/>
              <a:gd name="adj2" fmla="val -109453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uma sobre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47920" y="1447920"/>
                <a:ext cx="4724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ε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MNL...prob. mult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4920" y="4800600"/>
            <a:ext cx="7543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Aplicación agregada</a:t>
            </a:r>
            <a:r>
              <a:rPr b="0" lang="es-ES_tradnl" sz="2400" spc="-1" strike="noStrike">
                <a:solidFill>
                  <a:srgbClr val="3c70c4"/>
                </a:solidFill>
                <a:latin typeface="Arial"/>
              </a:rPr>
              <a:t>: a grupos homogeneos</a:t>
            </a: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Parámetro 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0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: ajusta probabilidades agregadas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P</a:t>
            </a:r>
            <a:r>
              <a:rPr b="1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n(i/Cn)</a:t>
            </a:r>
            <a:r>
              <a:rPr b="0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pende de gustos (</a:t>
            </a:r>
            <a:r>
              <a:rPr b="0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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y diferencias de atributos entre alternativas (Z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kj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Z</a:t>
            </a:r>
            <a:r>
              <a:rPr b="0" lang="es-ES_tradnl" sz="2400" spc="-1" strike="noStrike" baseline="-25000">
                <a:solidFill>
                  <a:srgbClr val="3c70c4"/>
                </a:solidFill>
                <a:latin typeface="Times New Roman"/>
              </a:rPr>
              <a:t>kin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804960" y="1905120"/>
                <a:ext cx="83296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7391520" y="3581280"/>
            <a:ext cx="1523880" cy="579600"/>
          </a:xfrm>
          <a:prstGeom prst="wedgeRectCallout">
            <a:avLst>
              <a:gd name="adj1" fmla="val -3435"/>
              <a:gd name="adj2" fmla="val -15191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Z: Dato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3581280"/>
            <a:ext cx="1676160" cy="579600"/>
          </a:xfrm>
          <a:prstGeom prst="wedgeRectCallout">
            <a:avLst>
              <a:gd name="adj1" fmla="val -22064"/>
              <a:gd name="adj2" fmla="val -14397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y </a:t>
            </a:r>
            <a:r>
              <a:rPr b="1" lang="en-US" sz="1800" spc="-1" strike="noStrike">
                <a:solidFill>
                  <a:srgbClr val="3c70c4"/>
                </a:solidFill>
                <a:latin typeface="Symbol"/>
                <a:ea typeface="Symbol"/>
              </a:rPr>
              <a:t>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se calibran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581280"/>
            <a:ext cx="1828800" cy="609840"/>
          </a:xfrm>
          <a:prstGeom prst="wedgeRectCallout">
            <a:avLst>
              <a:gd name="adj1" fmla="val -27430"/>
              <a:gd name="adj2" fmla="val -170050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Elecciones 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observad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MNL  Propiedad 1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371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El máximo de utilidades IIDG con idéntico parámetro </a:t>
            </a:r>
            <a:r>
              <a:rPr b="0" lang="es-ES_tradnl" sz="32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32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es Gumb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531800" y="3070080"/>
                <a:ext cx="64389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con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IID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057400" y="3809880"/>
                <a:ext cx="50497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7315200" y="3886200"/>
            <a:ext cx="1523880" cy="579600"/>
          </a:xfrm>
          <a:prstGeom prst="wedgeRectCallout">
            <a:avLst>
              <a:gd name="adj1" fmla="val -75208"/>
              <a:gd name="adj2" fmla="val 56574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Logsum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2590920"/>
            <a:ext cx="1066680" cy="304560"/>
          </a:xfrm>
          <a:prstGeom prst="wedgeRectCallout">
            <a:avLst>
              <a:gd name="adj1" fmla="val 171726"/>
              <a:gd name="adj2" fmla="val 14010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IIDG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75000" y="5562720"/>
            <a:ext cx="643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V* es el valor esperado de la máxima utilidad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El término     se distribuye IID Gumbel.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La Gumbel es cerrada respecto de la maximización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ropiedad 1....continuació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El máximo de utilidades IIDG con idéntico parámetro </a:t>
            </a:r>
            <a:r>
              <a:rPr b="0" lang="es-ES_tradnl" sz="3200" spc="-1" strike="noStrike">
                <a:solidFill>
                  <a:srgbClr val="3c70c4"/>
                </a:solidFill>
                <a:latin typeface="Symbol"/>
                <a:ea typeface="Symbol"/>
              </a:rPr>
              <a:t></a:t>
            </a:r>
            <a:r>
              <a:rPr b="0" lang="es-ES_tradnl" sz="32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es Gumbel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341440" y="4191120"/>
                <a:ext cx="5024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447920" y="3117960"/>
                <a:ext cx="4724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ε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447920" y="565452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La probabilidad es función de la desviación respecto del máximo esperado. Notar que 0&lt;P&lt;1.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MNL  Propiedad 2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Relación con el modelo máxima entropí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209680" y="3556080"/>
                <a:ext cx="4567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651680" y="5603760"/>
            <a:ext cx="68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¿En qué se parece con el modelo de máxima entropía?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Times New Roman"/>
              </a:rPr>
              <a:t>Propiedad 2, solució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600200" y="3505320"/>
                <a:ext cx="643572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V</m:t>
                    </m:r>
                    <m:r>
                      <m:t xml:space="preserve">∗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209680" y="1828800"/>
                <a:ext cx="456732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295280" y="4952880"/>
                <a:ext cx="72504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μβ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352160" y="6213600"/>
            <a:ext cx="68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c70c4"/>
                </a:solidFill>
                <a:latin typeface="Times New Roman"/>
              </a:rPr>
              <a:t>MNL idéntico al máx estropía simplemente acotado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Times New Roman"/>
              </a:rPr>
              <a:t>II. UTILIDAD ALEATORIA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nfoque 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desagregado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Usuarios eligen alternativa de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 </a:t>
            </a:r>
            <a:r>
              <a:rPr b="0" i="1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máxim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utilidad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 </a:t>
            </a: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ntre alternativas </a:t>
            </a:r>
            <a:r>
              <a:rPr b="0" lang="en-US" sz="3200" spc="-1" strike="noStrike" u="sng">
                <a:solidFill>
                  <a:srgbClr val="3c70c4"/>
                </a:solidFill>
                <a:uFillTx/>
                <a:latin typeface="Arial"/>
              </a:rPr>
              <a:t>discreta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3551400"/>
            <a:ext cx="615636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Utilidad usuario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n </a:t>
            </a: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en alternativa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i</a:t>
            </a:r>
            <a:r>
              <a:rPr b="1" lang="es-ES_tradnl" sz="2800" spc="-1" strike="noStrike">
                <a:solidFill>
                  <a:srgbClr val="3c70c4"/>
                </a:solidFill>
                <a:latin typeface="Times New Roman"/>
              </a:rPr>
              <a:t>:  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V</a:t>
            </a:r>
            <a:r>
              <a:rPr b="1" i="1" lang="es-ES_tradnl" sz="28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3c70c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	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=V(z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 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, S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 , 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r>
              <a:rPr b="1" i="1" lang="es-ES_tradnl" sz="2800" spc="-1" strike="noStrike">
                <a:solidFill>
                  <a:srgbClr val="4d4d4d"/>
                </a:solidFill>
                <a:latin typeface="Times New Roman"/>
              </a:rPr>
              <a:t>) + </a:t>
            </a:r>
            <a:r>
              <a:rPr b="1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d4d4d"/>
                </a:solidFill>
                <a:latin typeface="Times New Roman"/>
              </a:rPr>
              <a:t>z</a:t>
            </a:r>
            <a:r>
              <a:rPr b="1" i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atributos de alternativa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i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 según percepción de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4d4d4d"/>
                </a:solidFill>
                <a:latin typeface="Times New Roman"/>
              </a:rPr>
              <a:t>S</a:t>
            </a:r>
            <a:r>
              <a:rPr b="1" i="1" lang="es-ES_tradnl" sz="24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atributos de usuarios 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n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 (ingreso,....)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4d4d4d"/>
                </a:solidFill>
                <a:latin typeface="Symbol"/>
                <a:ea typeface="Symbol"/>
              </a:rPr>
              <a:t>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parámetros de comportamient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1" i="1" lang="es-ES_tradnl" sz="20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: errores de atributos por no observados (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z</a:t>
            </a:r>
            <a:r>
              <a:rPr b="1" i="1" lang="es-ES_tradnl" sz="2000" spc="-1" strike="noStrike" baseline="30000">
                <a:solidFill>
                  <a:srgbClr val="3c70c4"/>
                </a:solidFill>
                <a:latin typeface="Times New Roman"/>
              </a:rPr>
              <a:t>u</a:t>
            </a:r>
            <a:r>
              <a:rPr b="1" i="1" lang="es-ES_tradnl" sz="2000" spc="-1" strike="noStrike">
                <a:solidFill>
                  <a:srgbClr val="3c70c4"/>
                </a:solidFill>
                <a:latin typeface="Times New Roman"/>
              </a:rPr>
              <a:t>,S</a:t>
            </a:r>
            <a:r>
              <a:rPr b="1" i="1" lang="es-ES_tradnl" sz="2000" spc="-1" strike="noStrike" baseline="30000">
                <a:solidFill>
                  <a:srgbClr val="3c70c4"/>
                </a:solidFill>
                <a:latin typeface="Times New Roman"/>
              </a:rPr>
              <a:t>u</a:t>
            </a: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) 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c70c4"/>
                </a:solidFill>
                <a:latin typeface="Times New Roman"/>
              </a:rPr>
              <a:t>de su medició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Times New Roman"/>
              </a:rPr>
              <a:t>MNL   Propiedad 3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Independencia de alternativas irrelevantes (IAI)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164040" y="3219480"/>
                <a:ext cx="40748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546280" y="4724280"/>
                <a:ext cx="47736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1154520" y="5867280"/>
            <a:ext cx="754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Sistema de ecuaciones lineales, permite calibrar parámetros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por método de regresión múltiple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MNL Propiedad 4. </a:t>
            </a:r>
            <a:br>
              <a:rPr sz="4400"/>
            </a:b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s buses de color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Dos modos: Bus y auto, Va=Vb=V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081240" y="2895480"/>
                <a:ext cx="2703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1219320" y="3809880"/>
            <a:ext cx="77724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Bus amarillos y rojos; autos: Va=Vb(a)=Vb(r )=V</a:t>
            </a:r>
            <a:endParaRPr b="0" lang="en-US" sz="32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335320" y="4978440"/>
                <a:ext cx="3890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814400" y="61372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c70c4"/>
                </a:solidFill>
                <a:latin typeface="Times New Roman"/>
              </a:rPr>
              <a:t>Paradoja?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Times New Roman"/>
              </a:rPr>
              <a:t>MNL Propiedad 4... continuación. </a:t>
            </a:r>
            <a:br>
              <a:rPr sz="3200"/>
            </a:br>
            <a:r>
              <a:rPr b="0" lang="es-ES_tradnl" sz="3200" spc="-1" strike="noStrike">
                <a:solidFill>
                  <a:srgbClr val="336699"/>
                </a:solidFill>
                <a:latin typeface="Times New Roman"/>
              </a:rPr>
              <a:t>Los buses de colores, solució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1600" y="182880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c70c4"/>
                </a:solidFill>
                <a:latin typeface="Arial"/>
              </a:rPr>
              <a:t>Bus amarillos y rojos; autos: Va=Vb(a)=Vb(r )=V</a:t>
            </a:r>
            <a:endParaRPr b="0" lang="en-US" sz="32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882800" y="3352680"/>
                <a:ext cx="45464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sub>
                    </m:sSub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1815840" y="5832360"/>
            <a:ext cx="51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c70c4"/>
                </a:solidFill>
                <a:latin typeface="Times New Roman"/>
              </a:rPr>
              <a:t>Paradoja? No, supuestos inadecuados.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441972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En este caso no se puede justificar el supuesto de indeopendencia de las utilidades aleatorias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352680" y="5257800"/>
                <a:ext cx="2355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MNL Propiedad 5. Elasticidade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90720" y="27558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lasticidad direct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286000" y="3594240"/>
                <a:ext cx="4424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n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438280" y="5423040"/>
                <a:ext cx="3959280" cy="67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kn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n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1066680" y="458460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c70c4"/>
                </a:solidFill>
                <a:latin typeface="Arial"/>
              </a:rPr>
              <a:t>Elasticidad cruzada</a:t>
            </a:r>
            <a:endParaRPr b="0" lang="en-US" sz="32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905120" y="1600200"/>
                <a:ext cx="51559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47920" y="2320920"/>
                <a:ext cx="388620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sSub>
                          <m:e>
                            <m:r>
                              <m:t xml:space="preserve">0</m:t>
                            </m:r>
                          </m:e>
                          <m:sub/>
                        </m:sSub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13255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6699"/>
                </a:solidFill>
                <a:latin typeface="Times New Roman"/>
              </a:rPr>
              <a:t>MNL Propiedad 6. Logit incremental</a:t>
            </a:r>
            <a:endParaRPr b="0" lang="en-US" sz="40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952880" y="1535040"/>
                <a:ext cx="19814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1655280" y="1565280"/>
            <a:ext cx="27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Sea la utilidad lineal: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447920" y="4038480"/>
                <a:ext cx="38210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sSub>
                          <m:e>
                            <m:r>
                              <m:t xml:space="preserve">1</m:t>
                            </m:r>
                          </m:e>
                          <m:sub/>
                        </m:sSub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660680" y="571500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Calcular P</a:t>
            </a:r>
            <a:r>
              <a:rPr b="0" lang="es-CL" sz="2400" spc="-1" strike="noStrike" baseline="30000">
                <a:solidFill>
                  <a:srgbClr val="3c70c4"/>
                </a:solidFill>
                <a:latin typeface="Times New Roman"/>
              </a:rPr>
              <a:t>1</a:t>
            </a: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(V</a:t>
            </a:r>
            <a:r>
              <a:rPr b="0" lang="es-CL" sz="2400" spc="-1" strike="noStrike" baseline="30000">
                <a:solidFill>
                  <a:srgbClr val="3c70c4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3c70c4"/>
                </a:solidFill>
                <a:latin typeface="Symbol"/>
                <a:ea typeface="Symbol"/>
              </a:rPr>
              <a:t></a:t>
            </a: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z)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6" name=""/>
          <p:cNvSpPr/>
          <p:nvPr/>
        </p:nvSpPr>
        <p:spPr>
          <a:xfrm>
            <a:off x="1371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baseline="30000">
                <a:solidFill>
                  <a:srgbClr val="336699"/>
                </a:solidFill>
                <a:latin typeface="Times New Roman"/>
              </a:rPr>
              <a:t>MNL Propiedad 6. Logit incremental, solución</a:t>
            </a:r>
            <a:endParaRPr b="0" lang="en-US" sz="36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3120" y="1687680"/>
                <a:ext cx="63356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μ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905120" y="2666880"/>
                <a:ext cx="494172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sSub>
                          <m:e>
                            <m:r>
                              <m:t xml:space="preserve">1</m:t>
                            </m:r>
                          </m:e>
                          <m:sub/>
                        </m:sSub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1660680" y="5715000"/>
            <a:ext cx="70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c70c4"/>
                </a:solidFill>
                <a:latin typeface="Times New Roman"/>
              </a:rPr>
              <a:t>Para predecir basta conocer los atributos que varían, el resto queda representado por la probabilidad original 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2025720" y="4114800"/>
                <a:ext cx="4546440" cy="15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sSub>
                          <m:e>
                            <m:r>
                              <m:t xml:space="preserve">1</m:t>
                            </m:r>
                          </m:e>
                          <m:sub/>
                        </m:sSub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Δ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8031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Supera limitación de independencia de alternativas irrelevantes (IIA)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Agrupa subconjuntos de alternativas correlacionadas en nidos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Cada nido es representado en la jerarquía superior por una </a:t>
            </a:r>
            <a:r>
              <a:rPr b="0" i="1" lang="es-ES_tradnl" sz="3200" spc="-1" strike="noStrike">
                <a:solidFill>
                  <a:srgbClr val="336699"/>
                </a:solidFill>
                <a:latin typeface="Arial"/>
              </a:rPr>
              <a:t>alternativa compuesta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28800" y="2362320"/>
            <a:ext cx="533520" cy="167616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2438280"/>
            <a:ext cx="0" cy="152424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2362320"/>
            <a:ext cx="457200" cy="160020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2362320"/>
            <a:ext cx="838080" cy="1523880"/>
          </a:xfrm>
          <a:prstGeom prst="line">
            <a:avLst/>
          </a:prstGeom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276640" y="428148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C</a:t>
            </a:r>
            <a:r>
              <a:rPr b="1" lang="es-ES_tradnl" sz="2000" spc="-1" strike="noStrike" baseline="-25000">
                <a:solidFill>
                  <a:srgbClr val="33669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7200" y="1752480"/>
            <a:ext cx="775080" cy="398880"/>
          </a:xfrm>
          <a:prstGeom prst="rect">
            <a:avLst/>
          </a:prstGeom>
          <a:noFill/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MN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446360" y="1461960"/>
            <a:ext cx="4702320" cy="3398400"/>
            <a:chOff x="4446360" y="1461960"/>
            <a:chExt cx="4702320" cy="3398400"/>
          </a:xfrm>
        </p:grpSpPr>
        <p:sp>
          <p:nvSpPr>
            <p:cNvPr id="281" name=""/>
            <p:cNvSpPr/>
            <p:nvPr/>
          </p:nvSpPr>
          <p:spPr>
            <a:xfrm flipH="1">
              <a:off x="4647960" y="2209680"/>
              <a:ext cx="1143000" cy="17528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5028840" y="2209680"/>
              <a:ext cx="762120" cy="175284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334120" y="2209680"/>
              <a:ext cx="457200" cy="16765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638680" y="2209680"/>
              <a:ext cx="152640" cy="16765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91320" y="2209680"/>
              <a:ext cx="1066680" cy="91440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6324480" y="3124080"/>
              <a:ext cx="53352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6705360" y="3124080"/>
              <a:ext cx="15228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58000" y="3124080"/>
              <a:ext cx="152280" cy="762120"/>
            </a:xfrm>
            <a:prstGeom prst="line">
              <a:avLst/>
            </a:prstGeom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28960" y="1461960"/>
              <a:ext cx="547920" cy="39888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99"/>
                  </a:solidFill>
                  <a:latin typeface="Times New Roman"/>
                </a:rPr>
                <a:t>HL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80640" y="184320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Jerarquía superior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    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04680" y="3200400"/>
              <a:ext cx="194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Jerarquía inferior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       </a:t>
              </a:r>
              <a:r>
                <a:rPr b="0" lang="en-US" sz="2000" spc="-1" strike="noStrike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46360" y="4419720"/>
              <a:ext cx="2031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S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= 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 - 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 </a:t>
              </a: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+ 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09800" y="3886200"/>
              <a:ext cx="50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336699"/>
                  </a:solidFill>
                  <a:latin typeface="Times New Roman"/>
                </a:rPr>
                <a:t>C</a:t>
              </a:r>
              <a:r>
                <a:rPr b="1" lang="es-ES_tradnl" sz="2000" spc="-1" strike="noStrike" baseline="-25000">
                  <a:solidFill>
                    <a:srgbClr val="336699"/>
                  </a:solidFill>
                  <a:latin typeface="Times New Roman"/>
                </a:rPr>
                <a:t>n</a:t>
              </a:r>
              <a:r>
                <a:rPr b="1" lang="es-ES_tradnl" sz="2000" spc="-1" strike="noStrike" baseline="30000">
                  <a:solidFill>
                    <a:srgbClr val="336699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003440" y="2757600"/>
              <a:ext cx="423000" cy="440640"/>
            </a:xfrm>
            <a:prstGeom prst="rect">
              <a:avLst/>
            </a:prstGeom>
            <a:noFill/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c70c4"/>
                  </a:solidFill>
                  <a:latin typeface="Times New Roman"/>
                </a:rPr>
                <a:t>N</a:t>
              </a:r>
              <a:r>
                <a:rPr b="1" lang="en-US" sz="2000" spc="-1" strike="noStrike" baseline="-25000">
                  <a:solidFill>
                    <a:srgbClr val="3c70c4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3c70c4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432080" y="5729400"/>
            <a:ext cx="77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Las alternativas disponibles se han separado en dos subconjuntos, uno con alternativas correlacionas (o inferior I) y otro de alternativas independientes (o superior S)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79440" y="1995480"/>
            <a:ext cx="725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El modelo se calibra utilizando procedimiento secuencial o con software especializad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Primero se estima un MNL para el nido I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Luego se estima un MNL para el nivel 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En el nivel S se representa el nivel I por una utilidad representativa: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828800" y="4267080"/>
                <a:ext cx="610884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r>
                      <m:t xml:space="preserve">α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7620120" y="3505320"/>
            <a:ext cx="1523880" cy="914400"/>
          </a:xfrm>
          <a:prstGeom prst="wedgeRoundRectCallout">
            <a:avLst>
              <a:gd name="adj1" fmla="val -49893"/>
              <a:gd name="adj2" fmla="val 73611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Atributos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comune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imes New Roman"/>
              </a:rPr>
              <a:t>del nido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15200" y="5715000"/>
            <a:ext cx="1295280" cy="685800"/>
          </a:xfrm>
          <a:prstGeom prst="wedgeRoundRectCallout">
            <a:avLst>
              <a:gd name="adj1" fmla="val -54657"/>
              <a:gd name="adj2" fmla="val -128240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70c4"/>
                </a:solidFill>
                <a:latin typeface="Times New Roman"/>
              </a:rPr>
              <a:t>Vector de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70c4"/>
                </a:solidFill>
                <a:latin typeface="Times New Roman"/>
              </a:rPr>
              <a:t>parámetros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6019920"/>
            <a:ext cx="1219320" cy="457200"/>
          </a:xfrm>
          <a:prstGeom prst="wedgeRoundRectCallout">
            <a:avLst>
              <a:gd name="adj1" fmla="val -3254"/>
              <a:gd name="adj2" fmla="val -161458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EMU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La funciones de utilidad de cada nido son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1143000" y="4343400"/>
                <a:ext cx="6964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143000" y="5257800"/>
                <a:ext cx="75056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EMU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I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1067760" y="373392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ido superior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1676520" y="2895480"/>
                <a:ext cx="700884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067040" y="2286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imes New Roman"/>
              </a:rPr>
              <a:t>Nido Inferior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246400" y="6164280"/>
                <a:ext cx="12222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Probabilidad de elección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446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4d4d4d"/>
                </a:solidFill>
                <a:latin typeface="Arial"/>
              </a:rPr>
              <a:t>V</a:t>
            </a:r>
            <a:r>
              <a:rPr b="1" i="1" lang="es-ES_tradnl" sz="2800" spc="-1" strike="noStrike" baseline="-25000">
                <a:solidFill>
                  <a:srgbClr val="4d4d4d"/>
                </a:solidFill>
                <a:latin typeface="Arial"/>
              </a:rPr>
              <a:t>in </a:t>
            </a:r>
            <a:r>
              <a:rPr b="1" lang="es-ES_tradnl" sz="2800" spc="-1" strike="noStrike">
                <a:solidFill>
                  <a:srgbClr val="4d4d4d"/>
                </a:solidFill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término sistemático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4d4d4d"/>
                </a:solidFill>
                <a:latin typeface="Symbol"/>
                <a:ea typeface="Symbol"/>
              </a:rPr>
              <a:t></a:t>
            </a:r>
            <a:r>
              <a:rPr b="0" i="1" lang="es-ES_tradnl" sz="2800" spc="-1" strike="noStrike" baseline="-25000">
                <a:solidFill>
                  <a:srgbClr val="4d4d4d"/>
                </a:solidFill>
                <a:latin typeface="Arial"/>
              </a:rPr>
              <a:t>in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: término aleatorio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182880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61280" y="1870200"/>
            <a:ext cx="237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Probabilidades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de elección entre </a:t>
            </a:r>
            <a:r>
              <a:rPr b="1" i="1" lang="en-US" sz="2400" spc="-1" strike="noStrike" u="sng">
                <a:solidFill>
                  <a:srgbClr val="3c70c4"/>
                </a:solidFill>
                <a:uFillTx/>
                <a:latin typeface="Times New Roman"/>
              </a:rPr>
              <a:t>dos</a:t>
            </a:r>
            <a:r>
              <a:rPr b="1" lang="en-US" sz="2400" spc="-1" strike="noStrike">
                <a:solidFill>
                  <a:srgbClr val="3c70c4"/>
                </a:solidFill>
                <a:latin typeface="Times New Roman"/>
              </a:rPr>
              <a:t> alternativas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32040" y="3886200"/>
                <a:ext cx="5940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906560" y="5237280"/>
                <a:ext cx="594216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 rot="16200000">
            <a:off x="4952880" y="541008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55040" y="6172200"/>
            <a:ext cx="3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0c4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3200400"/>
            <a:ext cx="2971800" cy="533520"/>
          </a:xfrm>
          <a:prstGeom prst="wedgeRectCallout">
            <a:avLst>
              <a:gd name="adj1" fmla="val -31087"/>
              <a:gd name="adj2" fmla="val 9196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Probabilidad que utilidad de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 1 sea mayor que 2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babilidades de elección de alternativas del nido SUPERIOR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068480" y="2971800"/>
                <a:ext cx="808992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201680" y="4572000"/>
                <a:ext cx="7680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EMU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4" name=""/>
          <p:cNvSpPr/>
          <p:nvPr/>
        </p:nvSpPr>
        <p:spPr>
          <a:xfrm>
            <a:off x="3657600" y="5791320"/>
            <a:ext cx="2590920" cy="761760"/>
          </a:xfrm>
          <a:prstGeom prst="wedgeRectCallout">
            <a:avLst>
              <a:gd name="adj1" fmla="val -121384"/>
              <a:gd name="adj2" fmla="val -106041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Prob. de elegir una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99"/>
                </a:solidFill>
                <a:latin typeface="Times New Roman"/>
              </a:rPr>
              <a:t>alternativa del nido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1041480" y="3352680"/>
                <a:ext cx="7518240" cy="14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i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kj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Probabilidades de elección de alternativas del nido INFERIOR:</a:t>
            </a:r>
            <a:endParaRPr b="0" lang="en-US" sz="3200" spc="-1" strike="noStrike">
              <a:solidFill>
                <a:srgbClr val="3c70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Logit jerárquico   H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219320" y="1828800"/>
                <a:ext cx="34290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1295280" y="3657600"/>
                <a:ext cx="35816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I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5486400" y="1828800"/>
                <a:ext cx="322416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057400" y="5410080"/>
                <a:ext cx="4076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S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∈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  <m:sup>
                                        <m:r>
                                          <m:t xml:space="preserve">I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>
            <a:off x="2362320" y="6172200"/>
            <a:ext cx="1600200" cy="457200"/>
          </a:xfrm>
          <a:prstGeom prst="wedgeRectCallout">
            <a:avLst>
              <a:gd name="adj1" fmla="val 40773"/>
              <a:gd name="adj2" fmla="val -97569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Margina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6172200"/>
            <a:ext cx="1600200" cy="457200"/>
          </a:xfrm>
          <a:prstGeom prst="wedgeRectCallout">
            <a:avLst>
              <a:gd name="adj1" fmla="val -68847"/>
              <a:gd name="adj2" fmla="val -98958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Condicional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2200" y="4191120"/>
            <a:ext cx="1600200" cy="457200"/>
          </a:xfrm>
          <a:prstGeom prst="wedgeRectCallout">
            <a:avLst>
              <a:gd name="adj1" fmla="val -114981"/>
              <a:gd name="adj2" fmla="val -43750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Nido inferior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200400"/>
            <a:ext cx="1752480" cy="457200"/>
          </a:xfrm>
          <a:prstGeom prst="wedgeRectCallout">
            <a:avLst>
              <a:gd name="adj1" fmla="val -76449"/>
              <a:gd name="adj2" fmla="val -105902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Times New Roman"/>
              </a:rPr>
              <a:t>Nido Superior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Probabilidad de elección binomial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297160" y="1676520"/>
                <a:ext cx="47368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ε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90920" y="3124080"/>
                <a:ext cx="4572000" cy="19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ε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ε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specificación utilidad sistemática </a:t>
            </a: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	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V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in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=V(z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in 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, S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 , </a:t>
            </a:r>
            <a:r>
              <a:rPr b="1" i="1" lang="es-ES_tradnl" sz="3600" spc="-1" strike="noStrike">
                <a:solidFill>
                  <a:srgbClr val="4d4d4d"/>
                </a:solidFill>
                <a:latin typeface="Symbol"/>
                <a:ea typeface="Symbol"/>
              </a:rPr>
              <a:t></a:t>
            </a:r>
            <a:r>
              <a:rPr b="1" i="1" lang="es-ES_tradnl" sz="3600" spc="-1" strike="noStrike" baseline="-25000">
                <a:solidFill>
                  <a:srgbClr val="4d4d4d"/>
                </a:solidFill>
                <a:latin typeface="Times New Roman"/>
              </a:rPr>
              <a:t>n</a:t>
            </a:r>
            <a:r>
              <a:rPr b="1" i="1" lang="es-ES_tradnl" sz="3600" spc="-1" strike="noStrike">
                <a:solidFill>
                  <a:srgbClr val="4d4d4d"/>
                </a:solidFill>
                <a:latin typeface="Symbol"/>
                <a:ea typeface="Symbol"/>
              </a:rPr>
              <a:t></a:t>
            </a:r>
            <a:r>
              <a:rPr b="1" i="1" lang="es-ES_tradnl" sz="3600" spc="-1" strike="noStrike">
                <a:solidFill>
                  <a:srgbClr val="4d4d4d"/>
                </a:solidFill>
                <a:latin typeface="Times New Roman"/>
              </a:rPr>
              <a:t>)  </a:t>
            </a:r>
            <a:endParaRPr b="0" lang="en-US" sz="3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22520" y="2050920"/>
            <a:ext cx="6217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Utilidad indirecta condicional 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V(I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P, z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i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S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, </a:t>
            </a:r>
            <a:r>
              <a:rPr b="0" i="1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</a:t>
            </a:r>
            <a:r>
              <a:rPr b="0" i="1" lang="es-ES_tradnl" sz="2400" spc="-1" strike="noStrike" baseline="-25000">
                <a:solidFill>
                  <a:srgbClr val="3c70c4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3c70c4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Utilidad lineal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3048120"/>
                <a:ext cx="6692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b>
                    </m:sSub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1600200" y="3962520"/>
            <a:ext cx="69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 Los términos lineales que no dependen de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elección se cancelan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- Los parámetros </a:t>
            </a:r>
            <a:r>
              <a:rPr b="0" i="1" lang="es-ES_tradnl" sz="2400" spc="-1" strike="noStrike">
                <a:solidFill>
                  <a:srgbClr val="3c70c4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3c70c4"/>
                </a:solidFill>
                <a:latin typeface="Times New Roman"/>
              </a:rPr>
              <a:t>no dependen </a:t>
            </a:r>
            <a:r>
              <a:rPr b="0" lang="es-ES_tradnl" sz="2400" spc="-1" strike="noStrike">
                <a:solidFill>
                  <a:srgbClr val="3c70c4"/>
                </a:solidFill>
                <a:latin typeface="Times New Roman"/>
              </a:rPr>
              <a:t>de elección 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  <a:p>
            <a:pPr>
              <a:buClr>
                <a:srgbClr val="3c70c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br>
              <a:rPr sz="4400"/>
            </a:br>
            <a:r>
              <a:rPr b="0" lang="es-ES_tradnl" sz="3200" spc="-1" strike="noStrike">
                <a:solidFill>
                  <a:srgbClr val="336699"/>
                </a:solidFill>
                <a:latin typeface="Times New Roman"/>
              </a:rPr>
              <a:t>Más de dos alternativas de elección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4114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c70c4"/>
                </a:solidFill>
                <a:latin typeface="Arial"/>
              </a:rPr>
              <a:t>Se requiere calcular la probabilidad conjunta de todos los  eventos simultáneos 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57080" y="2590920"/>
                <a:ext cx="8012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162920" y="1752480"/>
            <a:ext cx="1295280" cy="533520"/>
          </a:xfrm>
          <a:prstGeom prst="wedgeRectCallout">
            <a:avLst>
              <a:gd name="adj1" fmla="val 21569"/>
              <a:gd name="adj2" fmla="val 10654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Vari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952560" y="1523880"/>
                <a:ext cx="788652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;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84480" y="3048120"/>
                <a:ext cx="4775040" cy="19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d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60640" y="5105520"/>
                <a:ext cx="67640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, </m:t>
                        </m:r>
                        <m:sSub>
                          <m:e>
                            <m:r>
                              <m:t xml:space="preserve">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371600" y="2459160"/>
                <a:ext cx="38862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6400800" y="2286000"/>
            <a:ext cx="2514600" cy="990720"/>
          </a:xfrm>
          <a:prstGeom prst="wedgeRoundRectCallout">
            <a:avLst>
              <a:gd name="adj1" fmla="val -89268"/>
              <a:gd name="adj2" fmla="val -1120"/>
              <a:gd name="adj3" fmla="val 1666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70c4"/>
                </a:solidFill>
                <a:latin typeface="Times New Roman"/>
              </a:rPr>
              <a:t>Función de 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70c4"/>
                </a:solidFill>
                <a:latin typeface="Times New Roman"/>
              </a:rPr>
              <a:t>probabilidad conjunta</a:t>
            </a:r>
            <a:endParaRPr b="0" lang="en-US" sz="20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</a:t>
            </a:r>
            <a:r>
              <a:rPr b="1" lang="es-ES_tradnl" sz="4400" spc="-1" strike="noStrike">
                <a:solidFill>
                  <a:srgbClr val="336699"/>
                </a:solidFill>
                <a:latin typeface="Times New Roman"/>
              </a:rPr>
              <a:t>IID</a:t>
            </a: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47600" y="3600360"/>
                <a:ext cx="750600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=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∞</m:t>
                                    </m:r>
                                  </m:sub>
                                  <m:sup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p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r>
                                          <m:t xml:space="preserve">dε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d>
                      </m:e>
                    </m:nary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447920" y="1676520"/>
                <a:ext cx="388620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K</m:t>
                        </m:r>
                      </m:sub>
                      <m:sup/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1353600" y="955800"/>
            <a:ext cx="63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IID: idéntica e independientemente distribuida </a:t>
            </a:r>
            <a:endParaRPr b="0" lang="en-US" sz="24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820800" y="5299200"/>
                <a:ext cx="6896160" cy="13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i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nary>
                    <m:sSub>
                      <m:e>
                        <m:r>
                          <m:t xml:space="preserve">d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6019920" y="1600200"/>
                <a:ext cx="27432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mr>
                          <m:mr>
                            <m:e/>
                            <m:e/>
                            <m:e/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99"/>
                </a:solidFill>
                <a:latin typeface="Times New Roman"/>
              </a:rPr>
              <a:t>Elección multinomial ....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Opción simplificatoria: primero encontrar la alternativa distinta de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3c70c4"/>
                </a:solidFill>
                <a:latin typeface="Arial"/>
              </a:rPr>
              <a:t> de máxima utilidad </a:t>
            </a:r>
            <a:r>
              <a:rPr b="0" i="1" lang="es-ES_tradnl" sz="2800" spc="-1" strike="noStrike">
                <a:solidFill>
                  <a:srgbClr val="3c70c4"/>
                </a:solidFill>
                <a:latin typeface="Arial"/>
              </a:rPr>
              <a:t>V</a:t>
            </a:r>
            <a:r>
              <a:rPr b="0" i="1" lang="es-ES_tradnl" sz="2800" spc="-1" strike="noStrike" baseline="30000">
                <a:solidFill>
                  <a:srgbClr val="3c70c4"/>
                </a:solidFill>
                <a:latin typeface="Arial"/>
              </a:rPr>
              <a:t>*</a:t>
            </a:r>
            <a:r>
              <a:rPr b="0" i="1" lang="es-ES_tradnl" sz="2800" spc="-1" strike="noStrike" baseline="-25000">
                <a:solidFill>
                  <a:srgbClr val="3c70c4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3c70c4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4419720"/>
            <a:ext cx="1295280" cy="533160"/>
          </a:xfrm>
          <a:prstGeom prst="wedgeRectCallout">
            <a:avLst>
              <a:gd name="adj1" fmla="val -80148"/>
              <a:gd name="adj2" fmla="val 63097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c70c4"/>
                </a:solidFill>
                <a:latin typeface="Times New Roman"/>
              </a:rPr>
              <a:t>máxima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066680" y="3352680"/>
                <a:ext cx="75963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ε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170080" y="5105520"/>
                <a:ext cx="57531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i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sub>
                        </m:sSub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/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1676520" y="6248520"/>
            <a:ext cx="2895480" cy="380880"/>
          </a:xfrm>
          <a:prstGeom prst="wedgeRectCallout">
            <a:avLst>
              <a:gd name="adj1" fmla="val -24287"/>
              <a:gd name="adj2" fmla="val -179166"/>
            </a:avLst>
          </a:prstGeom>
          <a:solidFill>
            <a:srgbClr val="e1e1b7"/>
          </a:solidFill>
          <a:ln w="9360">
            <a:solidFill>
              <a:srgbClr val="3c70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c70c4"/>
                </a:solidFill>
                <a:latin typeface="Times New Roman"/>
              </a:rPr>
              <a:t>Se reduce al caso binomial</a:t>
            </a:r>
            <a:endParaRPr b="0" lang="en-US" sz="1800" spc="-1" strike="noStrike">
              <a:solidFill>
                <a:srgbClr val="3c70c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4T14:25:50Z</dcterms:created>
  <dc:creator>Mariela Salazar</dc:creator>
  <dc:description/>
  <dc:language>en-US</dc:language>
  <cp:lastModifiedBy>F M</cp:lastModifiedBy>
  <dcterms:modified xsi:type="dcterms:W3CDTF">2004-05-04T17:58:04Z</dcterms:modified>
  <cp:revision>11</cp:revision>
  <dc:subject/>
  <dc:title>II. UTILIDAD ALEATORIA</dc:title>
</cp:coreProperties>
</file>