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758-E32F-4AC2-BE68-37F4C1892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1A09-8BE5-47AA-9BD2-A120CA0A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A747-FE76-4B53-8520-1BD9DB98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DDF-6A3A-481A-9634-C1476EF6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C28E-6909-4BD5-B2FF-3EB7C637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4599-7D51-4F16-BEF3-A4D07714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613E-445F-403D-BB6C-1DF46A06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4659-569F-43C9-8AE6-F09A6207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0011B-A5A5-45EE-91A8-71796E51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EC8F-6551-426C-A50E-3A4EAC96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5E57-A47C-4CFB-81C2-484F008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65D-48B4-4D49-808B-949AEEE9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FE43-E6A8-4412-A182-14EF006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7969-5A8E-4ECC-BB14-0ADFB2D5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5DC8-9360-4E2E-A5FB-18F5C36A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79A2-02C4-4C7F-A4F6-5A73770D0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9072-2FAE-416E-8974-5B701FC0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0779-EC7E-49D0-A003-ADA1B9F5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D43-AC67-4B0D-8B52-135289ED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439-DE20-445B-B90D-F2D61703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3AF-F3D5-4302-911E-5F789714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B62-D440-4C9D-B4C8-45468340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2999-B2CB-4D9B-A711-7F01442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62E-6271-4712-BB01-ECA169D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9E3D-B009-4CB0-90E2-763DD0177B3A}" type="slidenum">
              <a:rPr b="0" lang="en-US" sz="14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3272-54E1-4371-A17C-64D7ED3E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Unidad 2-3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Century Schoolbook"/>
              </a:rPr>
              <a:t>Distribución de viajes</a:t>
            </a:r>
            <a:endParaRPr b="0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5181480"/>
            <a:ext cx="8153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Distribución de empleo con localización residencial conoci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90a8"/>
                </a:solidFill>
                <a:latin typeface="Times New Roman"/>
              </a:rPr>
              <a:t>Elección de destino propósito compr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origen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2819520" y="2590920"/>
                <a:ext cx="4572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581280" y="3809880"/>
                <a:ext cx="18288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...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518148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90a8"/>
                </a:solidFill>
                <a:latin typeface="Times New Roman"/>
              </a:rPr>
              <a:t>Elección de localización residencial conocida con empleo fij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95280" y="1600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2) Simplemente acotado </a:t>
            </a:r>
            <a:r>
              <a:rPr b="1" lang="en-US" sz="2800" spc="-1" strike="noStrike" u="sng">
                <a:solidFill>
                  <a:srgbClr val="3366cc"/>
                </a:solidFill>
                <a:uFillTx/>
                <a:latin typeface="Times New Roman"/>
              </a:rPr>
              <a:t>destin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779560" y="2590920"/>
                <a:ext cx="4653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529080" y="3824280"/>
                <a:ext cx="19350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Modelos desagregados por cluster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Clusters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n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              </a:t>
            </a:r>
            <a:r>
              <a:rPr b="0" i="1" lang="es-ES_tradnl" sz="2800" spc="-1" strike="noStrike">
                <a:solidFill>
                  <a:srgbClr val="3366cc"/>
                </a:solidFill>
                <a:latin typeface="Times New Roman"/>
              </a:rPr>
              <a:t>k</a:t>
            </a:r>
            <a:r>
              <a:rPr b="0" lang="es-ES_tradnl" sz="2800" spc="-1" strike="noStrike">
                <a:solidFill>
                  <a:srgbClr val="3366cc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Noción de acceso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accesibilidad: </a:t>
            </a:r>
            <a:r>
              <a:rPr b="0" lang="en-US" sz="2800" spc="-1" strike="noStrike">
                <a:solidFill>
                  <a:srgbClr val="3366cc"/>
                </a:solidFill>
                <a:latin typeface="Arial"/>
              </a:rPr>
              <a:t>beneficio de visitar actividad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2133720" y="3581280"/>
                <a:ext cx="51721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133720" y="5867280"/>
                <a:ext cx="5195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cc"/>
                </a:solidFill>
                <a:latin typeface="Times New Roman"/>
              </a:rPr>
              <a:t>atractividad: beneficio de ser visit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5245"/>
              <a:gd name="adj2" fmla="val 15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imes New Roman"/>
              </a:rPr>
              <a:t>ENFOQUE DE ENTROPI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Modelo de interacción espaci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Origen en modelo gravitaciona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arácter </a:t>
            </a:r>
            <a:r>
              <a:rPr b="0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agregad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Busca distribución </a:t>
            </a:r>
            <a:r>
              <a:rPr b="0" i="1" lang="en-US" sz="3200" spc="-1" strike="noStrike" u="sng">
                <a:solidFill>
                  <a:srgbClr val="3366cc"/>
                </a:solidFill>
                <a:uFillTx/>
                <a:latin typeface="Arial"/>
              </a:rPr>
              <a:t>más probable</a:t>
            </a:r>
            <a:r>
              <a:rPr b="0" i="1" lang="en-US" sz="3200" spc="-1" strike="noStrike">
                <a:solidFill>
                  <a:srgbClr val="3366cc"/>
                </a:solidFill>
                <a:latin typeface="Arial"/>
              </a:rPr>
              <a:t> de </a:t>
            </a: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una variable desde un nivel entre opciones de nivel más desagregado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atriz más probable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266688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02280" y="2743200"/>
            <a:ext cx="86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, D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3505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057400" y="3352680"/>
            <a:ext cx="5257800" cy="2210040"/>
            <a:chOff x="2057400" y="3352680"/>
            <a:chExt cx="5257800" cy="2210040"/>
          </a:xfrm>
        </p:grpSpPr>
        <p:sp>
          <p:nvSpPr>
            <p:cNvPr id="136" name=""/>
            <p:cNvSpPr/>
            <p:nvPr/>
          </p:nvSpPr>
          <p:spPr>
            <a:xfrm>
              <a:off x="20574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19520" y="3505320"/>
              <a:ext cx="43434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172200" y="3505320"/>
              <a:ext cx="0" cy="1522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8320" y="3352680"/>
              <a:ext cx="0" cy="1526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57800" y="3657600"/>
              <a:ext cx="1600200" cy="60948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500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38480" y="4876920"/>
              <a:ext cx="1371600" cy="68580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4495680"/>
              <a:ext cx="4572000" cy="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006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5308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43200" y="4495680"/>
              <a:ext cx="0" cy="38124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19920" y="4267080"/>
              <a:ext cx="0" cy="2286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877360" y="3733920"/>
            <a:ext cx="46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r>
              <a:rPr b="1" i="1" lang="es-ES_tradnl" sz="2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4520" y="27432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a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0" y="3733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50292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1676520"/>
            <a:ext cx="1600200" cy="6858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251460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2514600"/>
            <a:ext cx="46483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2362320"/>
            <a:ext cx="0" cy="15228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90920" y="17175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cc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Construcción de micro-estad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1828800"/>
            <a:ext cx="914400" cy="457200"/>
          </a:xfrm>
          <a:prstGeom prst="wedgeRectCallout">
            <a:avLst>
              <a:gd name="adj1" fmla="val -129689"/>
              <a:gd name="adj2" fmla="val 111458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657600"/>
            <a:ext cx="914400" cy="457200"/>
          </a:xfrm>
          <a:prstGeom prst="wedgeRectCallout">
            <a:avLst>
              <a:gd name="adj1" fmla="val 182120"/>
              <a:gd name="adj2" fmla="val 18750"/>
            </a:avLst>
          </a:prstGeom>
          <a:solidFill>
            <a:srgbClr val="99ccff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133720" y="2549520"/>
            <a:ext cx="4583880" cy="3165480"/>
            <a:chOff x="2133720" y="2549520"/>
            <a:chExt cx="4583880" cy="3165480"/>
          </a:xfrm>
        </p:grpSpPr>
        <p:grpSp>
          <p:nvGrpSpPr>
            <p:cNvPr id="162" name=""/>
            <p:cNvGrpSpPr/>
            <p:nvPr/>
          </p:nvGrpSpPr>
          <p:grpSpPr>
            <a:xfrm>
              <a:off x="2133720" y="2590920"/>
              <a:ext cx="4572000" cy="3124080"/>
              <a:chOff x="2133720" y="2590920"/>
              <a:chExt cx="4572000" cy="3124080"/>
            </a:xfrm>
          </p:grpSpPr>
          <mc:AlternateContent>
            <mc:Choice xmlns:a14="http://schemas.microsoft.com/office/drawing/2010/main" Requires="a14">
              <p:sp>
                <p:nvSpPr>
                  <p:cNvPr id="163" name=""/>
                  <p:cNvSpPr txBox="1"/>
                  <p:nvPr/>
                </p:nvSpPr>
                <p:spPr>
                  <a:xfrm>
                    <a:off x="4514760" y="3321000"/>
                    <a:ext cx="112680" cy="21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grpSp>
            <p:nvGrpSpPr>
              <p:cNvPr id="164" name=""/>
              <p:cNvGrpSpPr/>
              <p:nvPr/>
            </p:nvGrpSpPr>
            <p:grpSpPr>
              <a:xfrm>
                <a:off x="3429000" y="2590920"/>
                <a:ext cx="1905120" cy="1143000"/>
                <a:chOff x="3429000" y="2590920"/>
                <a:chExt cx="1905120" cy="11430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429000" y="259092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419720" y="259092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429000" y="320040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33720" y="4572000"/>
                <a:ext cx="1904760" cy="1143000"/>
                <a:chOff x="2133720" y="4572000"/>
                <a:chExt cx="1904760" cy="1143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133720" y="4572000"/>
                  <a:ext cx="190476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312408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33720" y="5181480"/>
                  <a:ext cx="190476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800600" y="4572000"/>
                <a:ext cx="1905120" cy="1143000"/>
                <a:chOff x="4800600" y="4572000"/>
                <a:chExt cx="1905120" cy="11430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800600" y="4572000"/>
                  <a:ext cx="1905120" cy="1143000"/>
                </a:xfrm>
                <a:prstGeom prst="rect">
                  <a:avLst/>
                </a:prstGeom>
                <a:solidFill>
                  <a:srgbClr val="e1e1b7"/>
                </a:solidFill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791320" y="4572000"/>
                  <a:ext cx="0" cy="114300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800600" y="5181480"/>
                  <a:ext cx="1905120" cy="0"/>
                </a:xfrm>
                <a:prstGeom prst="line">
                  <a:avLst/>
                </a:prstGeom>
                <a:ln w="9360">
                  <a:solidFill>
                    <a:srgbClr val="33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3124080" y="4267080"/>
                <a:ext cx="2667240" cy="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12408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1320" y="4267080"/>
                <a:ext cx="0" cy="30492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19720" y="3733920"/>
                <a:ext cx="0" cy="533160"/>
              </a:xfrm>
              <a:prstGeom prst="line">
                <a:avLst/>
              </a:prstGeom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33920" y="3733920"/>
                <a:ext cx="32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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24280" y="3733920"/>
                <a:ext cx="60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66cc"/>
                    </a:solidFill>
                    <a:latin typeface="Symbol"/>
                    <a:ea typeface="Symbol"/>
                  </a:rPr>
                  <a:t></a:t>
                </a:r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2438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3424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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43880" y="518148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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5792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5680" y="254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5680" y="3159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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7080" y="46483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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01120" y="46483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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3444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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5160" y="518148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cc"/>
                  </a:solidFill>
                  <a:latin typeface="Symbol"/>
                  <a:ea typeface="Symbol"/>
                </a:rPr>
                <a:t></a:t>
              </a:r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371600" y="6095880"/>
            <a:ext cx="1676520" cy="457200"/>
          </a:xfrm>
          <a:prstGeom prst="wedgeRectCallout">
            <a:avLst>
              <a:gd name="adj1" fmla="val 39773"/>
              <a:gd name="adj2" fmla="val -116319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1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400800" y="6095880"/>
            <a:ext cx="1676520" cy="457200"/>
          </a:xfrm>
          <a:prstGeom prst="wedgeRectCallout">
            <a:avLst>
              <a:gd name="adj1" fmla="val -60606"/>
              <a:gd name="adj2" fmla="val -11493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imes New Roman"/>
              </a:rPr>
              <a:t>Micro estado 2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66920" y="30132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e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467480" y="4648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c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43560" y="270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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33920" y="2625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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572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6080" y="32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Symbol"/>
                <a:ea typeface="Symbol"/>
              </a:rPr>
              <a:t>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Máxima entropía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Supuestos: micro-estado son 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equiprobabl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áxima entropía = máxima número de micro-estado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Micro-estado: cumple con las restriccion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Calcular número micro-estados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(T</a:t>
            </a:r>
            <a:r>
              <a:rPr b="0" i="1" lang="es-ES_tradnl" sz="3200" spc="-1" strike="noStrike" baseline="-25000">
                <a:solidFill>
                  <a:srgbClr val="3366cc"/>
                </a:solidFill>
                <a:latin typeface="Arial"/>
              </a:rPr>
              <a:t>ij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cc"/>
                </a:solidFill>
                <a:latin typeface="Arial"/>
              </a:rPr>
              <a:t>Identificar máximo </a:t>
            </a:r>
            <a:r>
              <a:rPr b="0" i="1" lang="es-ES_tradnl" sz="3200" spc="-1" strike="noStrike">
                <a:solidFill>
                  <a:srgbClr val="3366cc"/>
                </a:solidFill>
                <a:latin typeface="Arial"/>
              </a:rPr>
              <a:t>W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a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3987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99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otal de viaje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334120" y="2057400"/>
                <a:ext cx="1968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905120" y="2971800"/>
                <a:ext cx="61722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x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4406760" y="3327480"/>
                <a:ext cx="330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124080" y="4495680"/>
                <a:ext cx="28958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495680" y="2286000"/>
            <a:ext cx="53352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10280" y="4495680"/>
            <a:ext cx="1371600" cy="457200"/>
          </a:xfrm>
          <a:prstGeom prst="wedgeRectCallout">
            <a:avLst>
              <a:gd name="adj1" fmla="val -80324"/>
              <a:gd name="adj2" fmla="val 25694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órmula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cc"/>
                </a:solidFill>
                <a:latin typeface="Times New Roman"/>
              </a:rPr>
              <a:t>Cálculo de 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W(T</a:t>
            </a:r>
            <a:r>
              <a:rPr b="0" i="1" lang="es-ES_tradnl" sz="44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0" i="1" lang="es-ES_tradnl" sz="4400" spc="-1" strike="noStrike">
                <a:solidFill>
                  <a:srgbClr val="3366cc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482920" y="1967040"/>
                <a:ext cx="365760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lim>
                    </m:limLow>
                    <m:r>
                      <m:t xml:space="preserve">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T</m:t>
                            </m:r>
                            <m:r>
                              <m:t xml:space="preserve">!</m:t>
                            </m:r>
                          </m:num>
                          <m:den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476360" y="36846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Sujeto 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092400" y="3871800"/>
                <a:ext cx="46008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71800" y="5410080"/>
                <a:ext cx="4557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β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48120" y="4648320"/>
                <a:ext cx="468792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6902280" y="2881440"/>
            <a:ext cx="1752840" cy="761760"/>
          </a:xfrm>
          <a:prstGeom prst="wedgeRectCallout">
            <a:avLst>
              <a:gd name="adj1" fmla="val -25453"/>
              <a:gd name="adj2" fmla="val 92291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Multiplicad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e Lagrang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867280"/>
            <a:ext cx="1752840" cy="762120"/>
          </a:xfrm>
          <a:prstGeom prst="wedgeRectCallout">
            <a:avLst>
              <a:gd name="adj1" fmla="val -71560"/>
              <a:gd name="adj2" fmla="val -117500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cc"/>
                </a:solidFill>
                <a:latin typeface="Times New Roman"/>
              </a:rPr>
              <a:t>Datos: 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O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D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, c</a:t>
            </a:r>
            <a:r>
              <a:rPr b="1" i="1" lang="es-ES_tradnl" sz="1800" spc="-1" strike="noStrike" baseline="-25000">
                <a:solidFill>
                  <a:srgbClr val="3366cc"/>
                </a:solidFill>
                <a:latin typeface="Times New Roman"/>
              </a:rPr>
              <a:t>ij</a:t>
            </a:r>
            <a:r>
              <a:rPr b="1" i="1" lang="es-ES_tradnl" sz="1800" spc="-1" strike="noStrike">
                <a:solidFill>
                  <a:srgbClr val="3366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Solución 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14600" y="1905120"/>
                <a:ext cx="556272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2438280" y="320040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362320" y="4191120"/>
                <a:ext cx="33526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762120" y="5410080"/>
            <a:ext cx="1752480" cy="762120"/>
          </a:xfrm>
          <a:prstGeom prst="wedgeRectCallout">
            <a:avLst>
              <a:gd name="adj1" fmla="val 45106"/>
              <a:gd name="adj2" fmla="val -133125"/>
            </a:avLst>
          </a:prstGeom>
          <a:solidFill>
            <a:srgbClr val="b2b2b2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cc"/>
                </a:solidFill>
                <a:latin typeface="Times New Roman"/>
              </a:rPr>
              <a:t>Tipos de modelos</a:t>
            </a:r>
            <a:endParaRPr b="0" lang="en-US" sz="4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2133720" y="2819520"/>
                <a:ext cx="57150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137160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Times New Roman"/>
              </a:rPr>
              <a:t>1) Doblemente acotad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32880" y="525780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Ejemplos: 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90a8"/>
                </a:solidFill>
                <a:latin typeface="Times New Roman"/>
              </a:rPr>
              <a:t>Distribución de viajes al trabaj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429000" y="39625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4:56:39Z</dcterms:created>
  <dc:creator>Mariela Salazar</dc:creator>
  <dc:description/>
  <dc:language>en-US</dc:language>
  <cp:lastModifiedBy>F M</cp:lastModifiedBy>
  <dcterms:modified xsi:type="dcterms:W3CDTF">2004-03-08T14:49:31Z</dcterms:modified>
  <cp:revision>5</cp:revision>
  <dc:subject/>
  <dc:title>III. ENFOQUE DE ENTROPIA</dc:title>
</cp:coreProperties>
</file>