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EF27-E128-40F9-9FC8-378B6F9C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0D1B-C4F8-49AB-8D88-82AABB1B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E6F4-9C15-437F-86F1-EA320229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4F6-D1DE-40B3-8580-7ECEA3678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8557B-E0D8-4984-A935-3DA47A2D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B0AD-F47D-4DD6-B3F6-8F7F532B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A4CD-ED82-4225-B31A-D097B778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F137-F83E-4F70-A918-BB57330B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3CBAC-4366-4296-A13C-DA186327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9B96-79E5-4898-94F7-D29ED1D5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332E-6203-47EA-9738-5C3A5366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1362-B38F-4431-988D-8A75EE37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8475-6E1D-4349-9EC9-EE02D75F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8917-4275-41BA-858A-DA37429C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4EBF-D492-46D1-8858-B7044D28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11A1-1234-49CB-B050-0B2CCCF0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066B-5F3D-4035-9C85-36533B58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53FF-47EF-4783-9EBD-D40EBE6A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C54-DDB4-44EE-AABA-8CE4BF5E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E4BA-5ED1-40CD-B69E-2043FFBA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B5CE-1B8A-4F45-B2F9-A15A4CD3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7069-32D3-4D23-995D-7C3A1096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5453-43B9-4E60-9CEE-D77047FB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EF0A-6F0F-4288-AA82-AAAAB89E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cc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BE88-4E6E-4E89-8F66-6BFB6C2C8074}" type="slidenum">
              <a:rPr b="0" lang="en-US" sz="14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cc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66cc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71DE-AC09-4C4B-B7F4-4AAE722D9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CI 43A</a:t>
            </a:r>
            <a:br>
              <a:rPr sz="4400"/>
            </a:b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Análisis de Sistemas de Transporte</a:t>
            </a:r>
            <a:br>
              <a:rPr sz="4400"/>
            </a:b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4343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99"/>
                </a:solidFill>
                <a:latin typeface="Century Schoolbook"/>
              </a:rPr>
              <a:t>Unidad 2.1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99"/>
                </a:solidFill>
                <a:latin typeface="Century Schoolbook"/>
              </a:rPr>
              <a:t>Modelamiento del Espacio y el Tiempo </a:t>
            </a:r>
            <a:endParaRPr b="0" lang="en-US" sz="36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El producto de transporte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219320" y="2819520"/>
                <a:ext cx="2584440" cy="22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mr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p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4114800" y="1981080"/>
            <a:ext cx="4707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: tipo de producto carga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 pasajeros por segmento usuari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: propósit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 : period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: zona origen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j: zona destin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: modo de transporte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: ruta (secuencia de arcos)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2819520"/>
            <a:ext cx="0" cy="228600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5105520"/>
            <a:ext cx="25146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95280" y="2819520"/>
            <a:ext cx="2514600" cy="0"/>
          </a:xfrm>
          <a:prstGeom prst="line">
            <a:avLst/>
          </a:prstGeom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imes New Roman"/>
              </a:rPr>
              <a:t>Calibración y uso de modelos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1600200"/>
            <a:ext cx="624816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t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leccion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de actividades y viajes realizadas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r cada segmento (observadas RP o encuestadas SP)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cripción de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lternativas de elec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de oferta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odel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de comportamiento de usuarios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y = f( x , ß )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étod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de calibración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81280" y="48006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0099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imes New Roman"/>
              </a:rPr>
              <a:t>Calibración: </a:t>
            </a:r>
            <a:r>
              <a:rPr b="0" lang="en-US" sz="3600" spc="-1" strike="noStrike">
                <a:solidFill>
                  <a:srgbClr val="006699"/>
                </a:solidFill>
                <a:latin typeface="Times New Roman"/>
              </a:rPr>
              <a:t>ajustar los parámetros del modelo de manera de reproducir los datos - sección cruzada o serie de tiempo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99"/>
                </a:solidFill>
                <a:latin typeface="Arial"/>
              </a:rPr>
              <a:t>Regresión</a:t>
            </a:r>
            <a:r>
              <a:rPr b="0" lang="es-ES_tradnl" sz="2400" spc="-1" strike="noStrike">
                <a:solidFill>
                  <a:srgbClr val="006699"/>
                </a:solidFill>
                <a:latin typeface="Arial"/>
              </a:rPr>
              <a:t>: minimizar error cuadrático entre observación y modelo. 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5943600"/>
                <a:ext cx="3352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β</m:t>
                            </m:r>
                          </m:e>
                        </m:ba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1127160" y="4586400"/>
            <a:ext cx="77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Máxima verosimilitud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: encontrar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ß 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al que el modelo reproduzca la muestra observada con máxima probabilidad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895480" y="3581280"/>
                <a:ext cx="381024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β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6699"/>
                </a:solidFill>
                <a:latin typeface="Times New Roman"/>
              </a:rPr>
              <a:t>Modelamiento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manda en el espacio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mensión espacial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mensión temporal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s y servicios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producto de transporte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oques de modelación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foque de equilibrio estático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foque dinámico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ibración y uso de modelos</a:t>
            </a:r>
            <a:endParaRPr b="0" lang="en-US" sz="32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Demanda en el espacio: dimensión espacia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895480" y="2490840"/>
          <a:ext cx="33530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490840"/>
                    <a:ext cx="33530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676520" y="3449520"/>
          <a:ext cx="6508800" cy="340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449520"/>
                    <a:ext cx="650880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371600" y="128268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pacio discreto,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zonas y centroi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el centroide concentra todo el flujo de transporte desde y hacia una zona 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Zona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uso del suelo homogéneo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entroi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ubicados de manera de reproducir distribución real de la carga sobre la red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Demanda en el espacio: dimensión espacia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895480" y="2490840"/>
          <a:ext cx="33530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490840"/>
                    <a:ext cx="33530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066680" y="12952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anda de transport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ujo 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rga o pasajer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ntre zonas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igen/desti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ara realizar actividades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pósit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 un determinado tiempo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riodo.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895480"/>
            <a:ext cx="7162920" cy="3429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4114800"/>
            <a:ext cx="1143000" cy="990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00800" y="3276720"/>
            <a:ext cx="685800" cy="5331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53080" y="4572000"/>
            <a:ext cx="685800" cy="6094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248520" y="5715000"/>
            <a:ext cx="60948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4876920"/>
            <a:ext cx="76320" cy="759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3505320"/>
            <a:ext cx="75960" cy="75960"/>
          </a:xfrm>
          <a:prstGeom prst="ellipse">
            <a:avLst/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5943600"/>
            <a:ext cx="76320" cy="763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4572000"/>
            <a:ext cx="76320" cy="76320"/>
          </a:xfrm>
          <a:prstGeom prst="ellipse">
            <a:avLst/>
          </a:prstGeom>
          <a:solidFill>
            <a:srgbClr val="3366cc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200400" y="3581280"/>
            <a:ext cx="350532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4572000"/>
            <a:ext cx="3886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4572000"/>
            <a:ext cx="35053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4640" y="4267080"/>
            <a:ext cx="3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453440" y="32194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53080" y="451476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77120" y="558180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895480" y="2490840"/>
          <a:ext cx="33530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490840"/>
                    <a:ext cx="33530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752480" y="3220920"/>
          <a:ext cx="6508800" cy="363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220920"/>
                    <a:ext cx="6508800" cy="36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1295280" y="113040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mulación de circulación 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flujo en centroide - conectores - ruta de arcos - conecto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estin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ector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centroides a nodos de la red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d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esta por nodos y arcos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Demanda en el espacio: dimensión espacial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895480" y="2490840"/>
          <a:ext cx="335304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490840"/>
                    <a:ext cx="335304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1143000" y="1371600"/>
            <a:ext cx="76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ectore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centroides a nodos de la red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d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al (servicios), ferroviaria, aviación, marítima....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esta por nodos y arcos 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rcos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finidos por dos nodos, longitud, capacidad y curva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ujo velocidad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Demanda en el espacio: Redes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4191120"/>
            <a:ext cx="2819520" cy="13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3505320"/>
            <a:ext cx="4419360" cy="304776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5029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905120" y="5181480"/>
            <a:ext cx="1600200" cy="0"/>
          </a:xfrm>
          <a:prstGeom prst="line">
            <a:avLst/>
          </a:prstGeom>
          <a:ln w="572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1280" y="49528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712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2160" y="4419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Arco: (a,b)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4038480"/>
            <a:ext cx="0" cy="205740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6095880"/>
            <a:ext cx="3657600" cy="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52880" y="4038480"/>
            <a:ext cx="2743200" cy="1549440"/>
          </a:xfrm>
          <a:custGeom>
            <a:avLst/>
            <a:gdLst/>
            <a:ahLst/>
            <a:rect l="l" t="t" r="r" b="b"/>
            <a:pathLst>
              <a:path w="1360" h="976">
                <a:moveTo>
                  <a:pt x="0" y="960"/>
                </a:moveTo>
                <a:cubicBezTo>
                  <a:pt x="304" y="968"/>
                  <a:pt x="608" y="976"/>
                  <a:pt x="768" y="960"/>
                </a:cubicBezTo>
                <a:cubicBezTo>
                  <a:pt x="928" y="944"/>
                  <a:pt x="880" y="944"/>
                  <a:pt x="960" y="864"/>
                </a:cubicBezTo>
                <a:cubicBezTo>
                  <a:pt x="1040" y="784"/>
                  <a:pt x="1184" y="600"/>
                  <a:pt x="1248" y="480"/>
                </a:cubicBezTo>
                <a:cubicBezTo>
                  <a:pt x="1312" y="360"/>
                  <a:pt x="1328" y="224"/>
                  <a:pt x="1344" y="144"/>
                </a:cubicBezTo>
                <a:cubicBezTo>
                  <a:pt x="1360" y="64"/>
                  <a:pt x="1344" y="24"/>
                  <a:pt x="13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96080" y="4038480"/>
            <a:ext cx="0" cy="2057400"/>
          </a:xfrm>
          <a:prstGeom prst="line">
            <a:avLst/>
          </a:prstGeom>
          <a:ln w="936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37400" y="3470400"/>
            <a:ext cx="30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Curva flujo velocidad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362320" y="3200400"/>
            <a:ext cx="1440" cy="2571840"/>
          </a:xfrm>
          <a:prstGeom prst="line">
            <a:avLst/>
          </a:prstGeom>
          <a:ln w="381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2590920"/>
            <a:ext cx="7282080" cy="3809880"/>
          </a:xfrm>
          <a:prstGeom prst="rect">
            <a:avLst/>
          </a:prstGeom>
          <a:solidFill>
            <a:srgbClr val="99ccff"/>
          </a:solidFill>
          <a:ln w="93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362320" y="5791320"/>
            <a:ext cx="6026040" cy="288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3429000"/>
            <a:ext cx="4495680" cy="1936800"/>
          </a:xfrm>
          <a:custGeom>
            <a:avLst/>
            <a:gdLst/>
            <a:ahLst/>
            <a:rect l="l" t="t" r="r" b="b"/>
            <a:pathLst>
              <a:path w="1360" h="976">
                <a:moveTo>
                  <a:pt x="0" y="960"/>
                </a:moveTo>
                <a:cubicBezTo>
                  <a:pt x="304" y="968"/>
                  <a:pt x="608" y="976"/>
                  <a:pt x="768" y="960"/>
                </a:cubicBezTo>
                <a:cubicBezTo>
                  <a:pt x="928" y="944"/>
                  <a:pt x="880" y="944"/>
                  <a:pt x="960" y="864"/>
                </a:cubicBezTo>
                <a:cubicBezTo>
                  <a:pt x="1040" y="784"/>
                  <a:pt x="1184" y="600"/>
                  <a:pt x="1248" y="480"/>
                </a:cubicBezTo>
                <a:cubicBezTo>
                  <a:pt x="1312" y="360"/>
                  <a:pt x="1328" y="224"/>
                  <a:pt x="1344" y="144"/>
                </a:cubicBezTo>
                <a:cubicBezTo>
                  <a:pt x="1360" y="64"/>
                  <a:pt x="1344" y="24"/>
                  <a:pt x="1344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53352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Curva flujo velocidad : </a:t>
            </a:r>
            <a:endParaRPr b="0" lang="en-US" sz="32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Times New Roman"/>
              </a:rPr>
              <a:t>costo de transporte en un arco</a:t>
            </a:r>
            <a:endParaRPr b="0" lang="en-US" sz="32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362320" y="3048120"/>
            <a:ext cx="0" cy="2743200"/>
          </a:xfrm>
          <a:prstGeom prst="line">
            <a:avLst/>
          </a:prstGeom>
          <a:ln w="38160">
            <a:solidFill>
              <a:srgbClr val="33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934320" y="3429000"/>
            <a:ext cx="0" cy="2362320"/>
          </a:xfrm>
          <a:prstGeom prst="line">
            <a:avLst/>
          </a:prstGeom>
          <a:ln w="936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81680" y="5867280"/>
            <a:ext cx="1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Century Schoolbook"/>
              </a:rPr>
              <a:t>C</a:t>
            </a:r>
            <a:endParaRPr b="0" lang="en-US" sz="16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51055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99"/>
                </a:solidFill>
                <a:latin typeface="Century Schoolbook"/>
              </a:rPr>
              <a:t>t</a:t>
            </a:r>
            <a:r>
              <a:rPr b="1" lang="es-ES_tradnl" sz="1600" spc="-1" strike="noStrike">
                <a:solidFill>
                  <a:srgbClr val="006699"/>
                </a:solidFill>
                <a:latin typeface="Century Schoolbook"/>
              </a:rPr>
              <a:t>o</a:t>
            </a:r>
            <a:endParaRPr b="0" lang="en-US" sz="16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5334120"/>
            <a:ext cx="0" cy="609480"/>
          </a:xfrm>
          <a:prstGeom prst="line">
            <a:avLst/>
          </a:prstGeom>
          <a:ln w="9360">
            <a:solidFill>
              <a:srgbClr val="33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1160" y="5943600"/>
            <a:ext cx="110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Times New Roman"/>
              </a:rPr>
              <a:t>Congestión</a:t>
            </a:r>
            <a:endParaRPr b="0" lang="en-US" sz="16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47560" y="2819520"/>
            <a:ext cx="10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Cost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985880" y="583236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Flujo</a:t>
            </a:r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73600" y="2768760"/>
            <a:ext cx="2908080" cy="583920"/>
          </a:xfrm>
          <a:custGeom>
            <a:avLst/>
            <a:gdLst/>
            <a:ahLst/>
            <a:rect l="l" t="t" r="r" b="b"/>
            <a:pathLst>
              <a:path w="1832" h="368">
                <a:moveTo>
                  <a:pt x="1832" y="368"/>
                </a:moveTo>
                <a:cubicBezTo>
                  <a:pt x="1820" y="324"/>
                  <a:pt x="1808" y="280"/>
                  <a:pt x="1544" y="224"/>
                </a:cubicBezTo>
                <a:cubicBezTo>
                  <a:pt x="1280" y="168"/>
                  <a:pt x="496" y="64"/>
                  <a:pt x="248" y="32"/>
                </a:cubicBezTo>
                <a:cubicBezTo>
                  <a:pt x="0" y="0"/>
                  <a:pt x="80" y="32"/>
                  <a:pt x="56" y="32"/>
                </a:cubicBezTo>
              </a:path>
            </a:pathLst>
          </a:custGeom>
          <a:noFill/>
          <a:ln w="9360">
            <a:solidFill>
              <a:srgbClr val="3366cc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Demanda en el espacio: dimensión temporal 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ciones de costos de transporte en el tiempo: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mogéneo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empo discreto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o: en un periodo no varían las condiciones de operación del sistema de transporte.   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62320" y="4267080"/>
            <a:ext cx="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299360" y="588168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tiempo</a:t>
            </a:r>
            <a:endParaRPr b="0" lang="en-US" sz="2000" spc="-1" strike="noStrike">
              <a:solidFill>
                <a:srgbClr val="3366cc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447920" y="3581280"/>
            <a:ext cx="6781680" cy="2971800"/>
            <a:chOff x="1447920" y="3581280"/>
            <a:chExt cx="6781680" cy="2971800"/>
          </a:xfrm>
        </p:grpSpPr>
        <p:grpSp>
          <p:nvGrpSpPr>
            <p:cNvPr id="199" name=""/>
            <p:cNvGrpSpPr/>
            <p:nvPr/>
          </p:nvGrpSpPr>
          <p:grpSpPr>
            <a:xfrm>
              <a:off x="1447920" y="3581280"/>
              <a:ext cx="6781680" cy="2971800"/>
              <a:chOff x="1447920" y="3581280"/>
              <a:chExt cx="6781680" cy="2971800"/>
            </a:xfrm>
          </p:grpSpPr>
          <p:sp>
            <p:nvSpPr>
              <p:cNvPr id="200" name=""/>
              <p:cNvSpPr/>
              <p:nvPr/>
            </p:nvSpPr>
            <p:spPr>
              <a:xfrm>
                <a:off x="1447920" y="3581280"/>
                <a:ext cx="6781680" cy="2971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286000" y="3886200"/>
                <a:ext cx="0" cy="1981080"/>
              </a:xfrm>
              <a:prstGeom prst="line">
                <a:avLst/>
              </a:prstGeom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86000" y="5867280"/>
                <a:ext cx="5410080" cy="0"/>
              </a:xfrm>
              <a:prstGeom prst="line">
                <a:avLst/>
              </a:prstGeom>
              <a:ln w="2844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286000" y="4114800"/>
                <a:ext cx="5334120" cy="1308240"/>
              </a:xfrm>
              <a:custGeom>
                <a:avLst/>
                <a:gdLst/>
                <a:ahLst/>
                <a:rect l="l" t="t" r="r" b="b"/>
                <a:pathLst>
                  <a:path w="3360" h="824">
                    <a:moveTo>
                      <a:pt x="0" y="720"/>
                    </a:moveTo>
                    <a:cubicBezTo>
                      <a:pt x="224" y="696"/>
                      <a:pt x="448" y="672"/>
                      <a:pt x="576" y="576"/>
                    </a:cubicBezTo>
                    <a:cubicBezTo>
                      <a:pt x="704" y="480"/>
                      <a:pt x="696" y="224"/>
                      <a:pt x="768" y="144"/>
                    </a:cubicBezTo>
                    <a:cubicBezTo>
                      <a:pt x="840" y="64"/>
                      <a:pt x="920" y="8"/>
                      <a:pt x="1008" y="96"/>
                    </a:cubicBezTo>
                    <a:cubicBezTo>
                      <a:pt x="1096" y="184"/>
                      <a:pt x="1184" y="552"/>
                      <a:pt x="1296" y="672"/>
                    </a:cubicBezTo>
                    <a:cubicBezTo>
                      <a:pt x="1408" y="792"/>
                      <a:pt x="1568" y="808"/>
                      <a:pt x="1680" y="816"/>
                    </a:cubicBezTo>
                    <a:cubicBezTo>
                      <a:pt x="1792" y="824"/>
                      <a:pt x="1888" y="800"/>
                      <a:pt x="1968" y="720"/>
                    </a:cubicBezTo>
                    <a:cubicBezTo>
                      <a:pt x="2048" y="640"/>
                      <a:pt x="2072" y="448"/>
                      <a:pt x="2160" y="336"/>
                    </a:cubicBezTo>
                    <a:cubicBezTo>
                      <a:pt x="2248" y="224"/>
                      <a:pt x="2320" y="0"/>
                      <a:pt x="2496" y="48"/>
                    </a:cubicBezTo>
                    <a:cubicBezTo>
                      <a:pt x="2672" y="96"/>
                      <a:pt x="3072" y="512"/>
                      <a:pt x="3216" y="624"/>
                    </a:cubicBezTo>
                    <a:cubicBezTo>
                      <a:pt x="3360" y="736"/>
                      <a:pt x="3360" y="728"/>
                      <a:pt x="3360" y="720"/>
                    </a:cubicBez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352680" y="4800600"/>
                <a:ext cx="0" cy="1066680"/>
              </a:xfrm>
              <a:prstGeom prst="line">
                <a:avLst/>
              </a:prstGeom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114800" y="4724280"/>
                <a:ext cx="0" cy="1143000"/>
              </a:xfrm>
              <a:prstGeom prst="line">
                <a:avLst/>
              </a:prstGeom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38680" y="4800600"/>
                <a:ext cx="0" cy="1066680"/>
              </a:xfrm>
              <a:prstGeom prst="line">
                <a:avLst/>
              </a:prstGeom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10280" y="4800600"/>
                <a:ext cx="0" cy="1066680"/>
              </a:xfrm>
              <a:prstGeom prst="line">
                <a:avLst/>
              </a:prstGeom>
              <a:ln w="9360">
                <a:solidFill>
                  <a:srgbClr val="33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525680" y="3809880"/>
                <a:ext cx="63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3366cc"/>
                    </a:solidFill>
                    <a:latin typeface="Times New Roman"/>
                  </a:rPr>
                  <a:t>flujo</a:t>
                </a:r>
                <a:endParaRPr b="0" lang="en-US" sz="1800" spc="-1" strike="noStrike">
                  <a:solidFill>
                    <a:srgbClr val="3366cc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7223040" y="58816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66cc"/>
                  </a:solidFill>
                  <a:latin typeface="Times New Roman"/>
                </a:rPr>
                <a:t>tiempo</a:t>
              </a:r>
              <a:endParaRPr b="0" lang="en-US" sz="2000" spc="-1" strike="noStrike">
                <a:solidFill>
                  <a:srgbClr val="3366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160" y="12193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suari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on aquellos que toman las decisiones: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é actividad realizar, dónde, cuándo y cómo viajar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mportamiento raciona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áximo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eneficio - cost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eneficio: elegir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ctividad, frecuencia y destino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generalizado: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iempo de viaje + costo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egir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do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de transporte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 y ruta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gmentación mercad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Usuarios+Oferta homogénea 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s: según diferencias de gustos 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tegoría socioeconómica, raza, género,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po de hogar, etc.</a:t>
            </a:r>
            <a:endParaRPr b="0" lang="en-US" sz="2000" spc="-1" strike="noStrike">
              <a:solidFill>
                <a:srgbClr val="3366cc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ferta: según periodo y tipo de producto (cargas o pax)</a:t>
            </a: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Times New Roman"/>
              </a:rPr>
              <a:t>Demanda en el espacio: Usuarios y servicios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13:49:20Z</dcterms:created>
  <dc:creator>Mariela Salazar</dc:creator>
  <dc:description/>
  <dc:language>en-US</dc:language>
  <cp:lastModifiedBy>F M</cp:lastModifiedBy>
  <dcterms:modified xsi:type="dcterms:W3CDTF">2004-03-08T14:48:28Z</dcterms:modified>
  <cp:revision>7</cp:revision>
  <dc:subject/>
  <dc:title>CI 43A Análisis de Sistemas de Transporte </dc:title>
</cp:coreProperties>
</file>