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85D0-91B7-4D83-871E-DA4D26C4C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E431-F555-462B-880E-7A214A46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BE1-D739-475A-8A50-2B714C15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699C-B46D-4F1A-BCA2-B4214A875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54C7-65EF-4E0D-A138-2854989D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536AC-5336-4F99-BFCD-9B60E75C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5CFD-FAEA-41B4-8493-B44A588C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10DB-4D11-4749-9E8D-86840E03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9F87-4ECE-45DD-9138-2E8484D2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9651-A27B-424F-967B-CD596524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1BA8-7406-4155-8027-00D81A13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F00-1A72-4CF1-A403-A7A09B9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53BE-7F24-4160-A51B-7CF955BC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9FBD-F8A1-43AB-A32E-C6003E1F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33CF-3C6C-42A8-A5BF-F16D5F12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2967-FE03-4CF0-84E6-CD4A5DA6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EF30-6831-4E73-A94E-7FDA614C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DAC-8A0E-4A6B-992F-6B655F72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6441-0A2F-44C9-91A1-508B2C2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03A-3C5C-4DF1-B68A-82CFBCE3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F948-9B04-4491-88AF-A76B1717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493-08E8-4383-9763-E151CD21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1FB6-3F6B-4F17-8C67-B57581E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140-1A9C-40EF-84F8-FD26BB3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0DD-AC79-46E1-B796-3EFE207C0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5DDD-B41D-4A53-A8B0-662C061A3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Documents and Settings\Francisco Mart&#237;nez\Mis documentos\D I T\LABTUS\MUSSA\Lanzamiento MUSSA\Mussa 1-1 Sistema Urbano.exe" TargetMode="External"/><Relationship Id="rId2" Type="http://schemas.openxmlformats.org/officeDocument/2006/relationships/hyperlink" Target="C:\Documents and Settings\Francisco Mart&#237;nez\Mis documentos\D I T\LABTUS\MUSSA\Lanzamiento MUSSA\Mussa 1.2 Estructura.exe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Unidad 2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Century Schoolbook"/>
              </a:rPr>
              <a:t>Uso del suelo y generación de viaj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Equilibrio del hogar </a:t>
            </a:r>
            <a:r>
              <a:rPr b="0" lang="es-ES_tradnl" sz="2000" spc="-1" strike="noStrike">
                <a:solidFill>
                  <a:srgbClr val="003366"/>
                </a:solidFill>
                <a:latin typeface="Times New Roman"/>
              </a:rPr>
              <a:t>(precios exógenos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30280" y="2673360"/>
            <a:ext cx="0" cy="32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36760" y="5954760"/>
            <a:ext cx="582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879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60000">
            <a:off x="16588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8920" y="5252760"/>
            <a:ext cx="93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t; 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725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838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18115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5447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337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83440" y="494784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t;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31160" y="5587560"/>
            <a:ext cx="90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t;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981080" y="4133880"/>
                <a:ext cx="54262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rgmáx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104840" y="1827720"/>
            <a:ext cx="64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mate al mejor postor en cada bien inmuebl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(q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jemplo: utilidad lineal.... el rema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855800" y="5505480"/>
                <a:ext cx="5205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áx</m:t>
                        </m:r>
                      </m:e>
                      <m:sub>
                        <m:r>
                          <m:t xml:space="preserve">g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d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1145880" y="3447000"/>
            <a:ext cx="396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jor postor: quien se locali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18240" y="489492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recio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295280" y="2286000"/>
                <a:ext cx="6721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3366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j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delo dinámic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676520" y="914400"/>
          <a:ext cx="6602400" cy="4948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914400"/>
                    <a:ext cx="6602400" cy="494820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758960" y="6323040"/>
          <a:ext cx="5610240" cy="436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8960" y="6323040"/>
                    <a:ext cx="5610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733760" y="5987880"/>
            <a:ext cx="70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duración proceso frente ante cambio de inputs años (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) o meses (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demora en interacción entre proc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172880" y="1981080"/>
            <a:ext cx="75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iman la frecuencia de los via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mentació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luster de hogar o fi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ropó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peri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zona orig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Times New Roman"/>
              </a:rPr>
              <a:t>Modelos de generación/atracció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137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705720" y="4572000"/>
                <a:ext cx="121896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h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173240" y="1980720"/>
            <a:ext cx="76658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BH)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origen o desti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sados en el hogar (NB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56560" y="3672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403848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98400" y="41292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Ho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78160" y="539604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240" y="548640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02440" y="4100400"/>
            <a:ext cx="1371600" cy="6098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38520" y="419112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62920" y="5334120"/>
            <a:ext cx="1371600" cy="609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99000" y="542448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d4d4d"/>
                </a:solidFill>
                <a:latin typeface="Times New Roman"/>
              </a:rPr>
              <a:t>Comp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419112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4572000"/>
            <a:ext cx="3352680" cy="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49760" y="5548320"/>
            <a:ext cx="3413160" cy="14400"/>
          </a:xfrm>
          <a:prstGeom prst="line">
            <a:avLst/>
          </a:prstGeom>
          <a:ln w="3816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5867280"/>
            <a:ext cx="3489120" cy="14400"/>
          </a:xfrm>
          <a:prstGeom prst="line">
            <a:avLst/>
          </a:prstGeom>
          <a:ln w="3816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927760" y="557676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91320" y="38862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426708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25780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1920" y="5610240"/>
            <a:ext cx="11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3366"/>
                </a:solidFill>
                <a:latin typeface="Times New Roman"/>
              </a:rPr>
              <a:t>At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62120" y="420516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61760" y="55008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NH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90360" y="914040"/>
            <a:ext cx="78483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personas dependen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por hogar: Ingreso,Tasa Motorización, Tamaño del ho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udios zonales: Valor del suelo, Densidad residencial, Accesi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tra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l suelo (m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, número de empleos y accesi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ajes de cosas - producción y atracción-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 emple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construida o total de la f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3366"/>
                </a:solidFill>
                <a:latin typeface="Times New Roman"/>
              </a:rPr>
              <a:t>Generación y Atracció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étodos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de crecimient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s-ES_tradnl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gresión lineal múlti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z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ada en hog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Arial"/>
              </a:rPr>
              <a:t>Concordanci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3124080" y="2971800"/>
                <a:ext cx="25146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d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4510080" y="4267080"/>
                <a:ext cx="431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4495680" y="5943600"/>
                <a:ext cx="213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4386240" y="4767120"/>
                <a:ext cx="45338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h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nálisis de clasificación cruz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sas de generación estables por catego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941480" y="1752480"/>
                <a:ext cx="4118040" cy="114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03480" y="3048120"/>
            <a:ext cx="7788240" cy="23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n : </a:t>
            </a:r>
            <a:r>
              <a:rPr b="1" i="1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tipo de motorización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CL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º hogares tip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en zona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CL" sz="20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(h)=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º promedio de viajes por propósit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ara hogar tipo </a:t>
            </a: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arte del método es la definición de categorías, la dificultad es el cálculo de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a,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método propuest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3505320" y="4724280"/>
                <a:ext cx="236196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279440" y="5521320"/>
            <a:ext cx="73310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total de hogares en la zona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i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prob. conjunta de pertenecer a una categoría, basada en las prob. condicionales de poseer auto, estructura del hogar e ingre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71800" y="3962520"/>
                <a:ext cx="28954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p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blema de localización de los agentes (hogares y firmas); la interdependencia en la elec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">
            <a:hlinkClick r:id="rId1"/>
          </p:cNvPr>
          <p:cNvSpPr/>
          <p:nvPr/>
        </p:nvSpPr>
        <p:spPr>
          <a:xfrm>
            <a:off x="3276720" y="2971800"/>
            <a:ext cx="2057400" cy="990720"/>
          </a:xfrm>
          <a:custGeom>
            <a:avLst/>
            <a:gdLst>
              <a:gd name="textAreaLeft" fmla="*/ 64080 w 2057400"/>
              <a:gd name="textAreaRight" fmla="*/ 1993320 w 20574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4848" h="21600">
                <a:moveTo>
                  <a:pt x="0" y="0"/>
                </a:moveTo>
                <a:lnTo>
                  <a:pt x="44848" y="0"/>
                </a:lnTo>
                <a:lnTo>
                  <a:pt x="44848" y="21600"/>
                </a:lnTo>
                <a:lnTo>
                  <a:pt x="0" y="21600"/>
                </a:lnTo>
                <a:close/>
              </a:path>
              <a:path fill="lightenLess" w="44848" h="21600">
                <a:moveTo>
                  <a:pt x="0" y="0"/>
                </a:moveTo>
                <a:lnTo>
                  <a:pt x="44848" y="0"/>
                </a:lnTo>
                <a:lnTo>
                  <a:pt x="43448" y="1400"/>
                </a:lnTo>
                <a:lnTo>
                  <a:pt x="1400" y="1400"/>
                </a:lnTo>
                <a:close/>
              </a:path>
              <a:path fill="darken" w="44848" h="21600">
                <a:moveTo>
                  <a:pt x="44848" y="0"/>
                </a:moveTo>
                <a:lnTo>
                  <a:pt x="44848" y="21600"/>
                </a:lnTo>
                <a:lnTo>
                  <a:pt x="43448" y="20200"/>
                </a:lnTo>
                <a:lnTo>
                  <a:pt x="43448" y="1400"/>
                </a:lnTo>
                <a:close/>
              </a:path>
              <a:path fill="darkenLess" w="44848" h="21600">
                <a:moveTo>
                  <a:pt x="44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448" y="20200"/>
                </a:lnTo>
                <a:close/>
              </a:path>
              <a:path fill="lighten" w="44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848" h="21600">
                <a:moveTo>
                  <a:pt x="15417" y="3794"/>
                </a:moveTo>
                <a:lnTo>
                  <a:pt x="29430" y="10800"/>
                </a:lnTo>
                <a:lnTo>
                  <a:pt x="15417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2"/>
          </p:cNvPr>
          <p:cNvSpPr/>
          <p:nvPr/>
        </p:nvSpPr>
        <p:spPr>
          <a:xfrm>
            <a:off x="3276720" y="4495680"/>
            <a:ext cx="2133360" cy="990720"/>
          </a:xfrm>
          <a:custGeom>
            <a:avLst/>
            <a:gdLst>
              <a:gd name="textAreaLeft" fmla="*/ 64080 w 2133360"/>
              <a:gd name="textAreaRight" fmla="*/ 2069280 w 213336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46503" h="21600">
                <a:moveTo>
                  <a:pt x="0" y="0"/>
                </a:moveTo>
                <a:lnTo>
                  <a:pt x="46503" y="0"/>
                </a:lnTo>
                <a:lnTo>
                  <a:pt x="46503" y="21600"/>
                </a:lnTo>
                <a:lnTo>
                  <a:pt x="0" y="21600"/>
                </a:lnTo>
                <a:close/>
              </a:path>
              <a:path fill="lightenLess" w="46503" h="21600">
                <a:moveTo>
                  <a:pt x="0" y="0"/>
                </a:moveTo>
                <a:lnTo>
                  <a:pt x="46503" y="0"/>
                </a:lnTo>
                <a:lnTo>
                  <a:pt x="45103" y="1400"/>
                </a:lnTo>
                <a:lnTo>
                  <a:pt x="1400" y="1400"/>
                </a:lnTo>
                <a:close/>
              </a:path>
              <a:path fill="darken" w="46503" h="21600">
                <a:moveTo>
                  <a:pt x="46503" y="0"/>
                </a:moveTo>
                <a:lnTo>
                  <a:pt x="46503" y="21600"/>
                </a:lnTo>
                <a:lnTo>
                  <a:pt x="45103" y="20200"/>
                </a:lnTo>
                <a:lnTo>
                  <a:pt x="45103" y="1400"/>
                </a:lnTo>
                <a:close/>
              </a:path>
              <a:path fill="darkenLess" w="46503" h="21600">
                <a:moveTo>
                  <a:pt x="465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103" y="20200"/>
                </a:lnTo>
                <a:close/>
              </a:path>
              <a:path fill="lighten" w="465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503" h="21600">
                <a:moveTo>
                  <a:pt x="16245" y="3794"/>
                </a:moveTo>
                <a:lnTo>
                  <a:pt x="30258" y="10800"/>
                </a:lnTo>
                <a:lnTo>
                  <a:pt x="16245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93840" y="593424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Modelamiento de localización en el corto plaz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ock de viviendas dado, cort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tock cumple planos reguladores y capacidad de sue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dependencia - externa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Times New Roman"/>
              </a:rPr>
              <a:t>Elección óptima entre precio y distanci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142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5120" y="5988240"/>
            <a:ext cx="847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 mayor distancia aumenta costo transporte pero decrece el prec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¿donde localizar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66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514600" y="1143000"/>
                <a:ext cx="3970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990720" y="3386160"/>
                <a:ext cx="6172200" cy="25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;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1027080" y="6094800"/>
            <a:ext cx="74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unción de disposicón a pagar: inversa de V en precio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46080" y="342792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03600" y="464724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condicional e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6200" y="1066680"/>
            <a:ext cx="495288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74640" y="3662280"/>
                <a:ext cx="691704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00120" y="5011560"/>
                <a:ext cx="672156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;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1123920" y="3204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4477320"/>
            <a:ext cx="8001000" cy="459720"/>
          </a:xfrm>
          <a:prstGeom prst="rect">
            <a:avLst/>
          </a:prstGeom>
          <a:solidFill>
            <a:srgbClr val="e1e1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isposición a pagar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ualquier (q,t) condicional en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: invirtiendo en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p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37040" y="1066680"/>
                <a:ext cx="45910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66680" y="1090800"/>
            <a:ext cx="4057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006800" y="1623960"/>
                <a:ext cx="3079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632480" y="2538360"/>
                <a:ext cx="36734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f>
                      <m:fPr>
                        <m:type m:val="lin"/>
                      </m:fPr>
                      <m:num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145520" y="251352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3360" y="-15264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Características de las curvas DP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3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tiene valor único condicional en (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t, q, y, 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, 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vas de nivel inferior representan MAYOR satisfa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un mismo individuo NO se intersec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ecto del mayor ingreso disponible por terreno más barato compensa costo tpte para mantener nivel ut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265040" y="-1460520"/>
            <a:ext cx="11454120" cy="6261120"/>
            <a:chOff x="1265040" y="-1460520"/>
            <a:chExt cx="11454120" cy="6261120"/>
          </a:xfrm>
        </p:grpSpPr>
        <p:sp>
          <p:nvSpPr>
            <p:cNvPr id="175" name=""/>
            <p:cNvSpPr/>
            <p:nvPr/>
          </p:nvSpPr>
          <p:spPr>
            <a:xfrm>
              <a:off x="1265040" y="68580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628640" y="-1460520"/>
              <a:ext cx="11090520" cy="6261120"/>
              <a:chOff x="1628640" y="-1460520"/>
              <a:chExt cx="11090520" cy="6261120"/>
            </a:xfrm>
          </p:grpSpPr>
          <p:sp>
            <p:nvSpPr>
              <p:cNvPr id="177" name=""/>
              <p:cNvSpPr/>
              <p:nvPr/>
            </p:nvSpPr>
            <p:spPr>
              <a:xfrm>
                <a:off x="1628640" y="995760"/>
                <a:ext cx="0" cy="327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34040" y="4277520"/>
                <a:ext cx="5823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18524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60000">
                <a:off x="174276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4764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4764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5988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60000">
                <a:off x="1857240" y="-1025640"/>
                <a:ext cx="1065708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60000">
                <a:off x="202068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3716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40736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7684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7194240" y="264708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5490a8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5490a8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5490a8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5490a8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5490a8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5490a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34040" y="1539000"/>
            <a:ext cx="151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imes New Roman"/>
              </a:rPr>
              <a:t>p( t ; u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F M</cp:lastModifiedBy>
  <dcterms:modified xsi:type="dcterms:W3CDTF">2004-04-05T19:16:41Z</dcterms:modified>
  <cp:revision>26</cp:revision>
  <dc:subject/>
  <dc:title>CI 43A Análisis de Sistemas de Transporte </dc:title>
</cp:coreProperties>
</file>