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311-986C-4B48-B70C-434B8BA0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3D4-5214-4633-8CB8-25F82E51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DDF-FF30-4653-A652-4019AC55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AF9-7609-4735-AE55-C8D7760B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EDA-3A81-4650-BEC6-AFEDD66D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B31-B9CD-46C1-8219-9C2D78FF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334-09F4-4F69-A407-CC5368F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A74-8A99-4F06-80CD-7D6A7E2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009-856F-4205-A13B-8CA0B8C2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71F-0116-4A05-B53B-6F6C4FE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873-16E5-4D56-A23D-43A3A713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59E-2E09-4786-ABDC-16E00A9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415-A754-4EAC-A18E-3971E3C98F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4-25T15:51:25Z</dcterms:modified>
  <cp:revision>26</cp:revision>
  <dc:subject/>
  <dc:title>Presentación de PowerPoint</dc:title>
</cp:coreProperties>
</file>