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0D0-E409-4E75-8C0D-F44C1953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70188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3F1-E244-4BDF-B900-8A18F76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A17-B945-4427-BC76-9C513633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DA9-D2D7-46E8-971C-DC9BCF85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FA3A-1785-4018-A398-76733B13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BF08-7164-44F5-B725-F605E48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B141-AA51-4A99-98F2-60DAC84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456-E3EF-41FB-BF5A-E2579687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1681-6CCF-4ADD-8824-9E40BABF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40760"/>
            <a:ext cx="779292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23AC-A8FA-4D61-91E3-1A2E9FE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1428-9256-46FA-8383-9E43103A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55A-A294-44DB-B871-3AEE56F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80D-AD7A-4AAD-BB42-1BF5761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06E-4C2E-43E4-A335-683D555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70188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CA8D-0013-4AA3-B9E3-CE9D533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BD11-8B5B-41EF-AF0F-B5418EB9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04436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701880"/>
            <a:ext cx="250236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3B9-EACB-459E-AD7A-E3EC176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74E-CA32-43A9-9BFD-4D146CB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104-CFD0-489F-9A15-1E7209A2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CEC-611F-4A57-8C5C-019246F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40760"/>
            <a:ext cx="779292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E09-F67E-41BD-9743-68A75B3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E53-B633-4E5F-92C5-3E9A3922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70188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00C-C3A2-4FC4-ABD0-DB3B5E0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044360"/>
            <a:ext cx="37926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701880"/>
            <a:ext cx="77724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FA2-F02A-4DC0-98C4-09B6405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3976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3976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6204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620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588960"/>
            <a:ext cx="560160" cy="422280"/>
          </a:xfrm>
          <a:prstGeom prst="rect">
            <a:avLst/>
          </a:prstGeom>
          <a:gradFill rotWithShape="0">
            <a:gsLst>
              <a:gs pos="0">
                <a:srgbClr val="5a839a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3176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223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384-3F24-45BD-9C00-58D258B52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5a839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575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EC15-ACC7-4762-9E2D-2DB8C1AA632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240" y="3514680"/>
            <a:ext cx="519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dad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90720" y="1828440"/>
            <a:ext cx="647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Construcción de Aplicaciones Empresariales con el Lenguaje de Programación Java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ces Locales y Remota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044720"/>
            <a:ext cx="777240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interfaces locales usan semántica normal Java para el paso de parámetros y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alquier tipo de datos puede ser utilizado como parámetro o reto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bjetos se manejan a través de referencias (semántica Jav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interfaces remotas usan semántica RMI para el paso de parámetros y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arámetros y retornos pueden s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ipos primi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bjetos serializables (implementan </a:t>
            </a:r>
            <a:r>
              <a:rPr b="0" lang="es-ES" sz="1800" spc="-1" strike="noStrike">
                <a:solidFill>
                  <a:srgbClr val="5a839a"/>
                </a:solidFill>
                <a:latin typeface="Tahoma"/>
              </a:rPr>
              <a:t>java.io.Serializabl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bjetos remotos (implementan </a:t>
            </a:r>
            <a:r>
              <a:rPr b="0" lang="es-ES" sz="1800" spc="-1" strike="noStrike">
                <a:solidFill>
                  <a:srgbClr val="5a839a"/>
                </a:solidFill>
                <a:latin typeface="Tahoma"/>
              </a:rPr>
              <a:t>java.rmi.Remot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tipos primitivos y los objetos serializables se transfieren “por valo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bjetos remotos se transfieren “por referenci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36B-F6D9-4C83-983B-1127790DD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Vista del Cliente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 obtener una referencia a un session bean, el cliente debe primero obtener una referencia al “objeto home”, usando JND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 home =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jndiContext.lookup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"java:comp/env/ejb/factura"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“objeto home” provee un método 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create()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 que permite obtener una referencia al “objeto EJB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=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home.create(hoy, factura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stateless session beans, </a:t>
            </a:r>
            <a:r>
              <a:rPr b="0" lang="es-ES" sz="2000" spc="-1" strike="noStrike">
                <a:solidFill>
                  <a:srgbClr val="5a839a"/>
                </a:solidFill>
                <a:latin typeface="Tahoma"/>
              </a:rPr>
              <a:t>create(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no tiene parámet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stateful session beans, </a:t>
            </a:r>
            <a:r>
              <a:rPr b="0" lang="es-ES" sz="2000" spc="-1" strike="noStrike">
                <a:solidFill>
                  <a:srgbClr val="5a839a"/>
                </a:solidFill>
                <a:latin typeface="Tahoma"/>
              </a:rPr>
              <a:t>create(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tiene parámetros de inici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“objeto EJB” provee los métodos de nego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.enviaSII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“objeto EJB” provee un método 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remove()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 que permite al cliente cerrar la “conexión” con un stateful session b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factura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A29-D223-48AC-BA1D-5BB83B8E9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886040" y="1677960"/>
          <a:ext cx="696276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677960"/>
                    <a:ext cx="69627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Accediendo a un EJB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044720"/>
            <a:ext cx="777240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MiEjb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 home =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MiEjb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ntext.lookup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"nombreJNDI"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MiEjb ejb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=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home.creat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77920" y="4734000"/>
            <a:ext cx="41716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dor prov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ase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faces home y compo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enedor EJB prov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ases que implementa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ED6-DC65-40DF-8776-4C1EC4B9B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Invocando un Método de Negocio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retorno = ejb.metodo(parametro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16120" y="1501920"/>
          <a:ext cx="617868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501920"/>
                    <a:ext cx="617868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23720" y="5345280"/>
            <a:ext cx="79012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invoca el método sobre el objeto EJB, el cual delega el requerimiento en la instancia del bean (clase de implemen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el bean es stateless, el servidor escoge del pool una instancia del bean para ejecutar el requer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1BD-8028-4E23-A293-D7258DE950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Eliminando un EJB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ejb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23720" y="5345280"/>
            <a:ext cx="79012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 stateful bean, el cliente invoca el método remove() del objeto EJB, con lo que el bean es eli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11440" y="1512720"/>
          <a:ext cx="618012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1512720"/>
                    <a:ext cx="618012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52E-FD60-4D79-969D-2A4E9DCFC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06600" y="1844640"/>
          <a:ext cx="671364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1844640"/>
                    <a:ext cx="671364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Ciclo de Vida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diagrama muestra el ciclo de vida de un session bean desde el punto de vista d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7CE-84E3-49E5-BC31-FE95B5AFAC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Vista Interna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 session b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ancias de un stateless session bean son creadas al iniciarse el servidor, y mantenidas en un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ndo el cliente invoca un método de negocio, el servidor escoge una instancia del pool, invoca (delega) el método, y al terminar devuelve la instancia al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ful session b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instancia de un stateful session bean es creada cuando el cliente invoca a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home.creat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 permanece asociada al cliente hasta que éste dé por terminada la sesión, invocando a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ejb.remov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2E0-49B9-4B1D-BD28-E002CB56C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Métodos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7000" y="1190520"/>
            <a:ext cx="86580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reación y eli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957320"/>
          <a:ext cx="8541000" cy="4444920"/>
        </p:xfrm>
        <a:graphic>
          <a:graphicData uri="http://schemas.openxmlformats.org/drawingml/2006/table">
            <a:tbl>
              <a:tblPr/>
              <a:tblGrid>
                <a:gridCol w="2233800"/>
                <a:gridCol w="630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ét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setSessionCon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ocado al instanciarse un bean, recibe como parámetro un objeto </a:t>
                      </a:r>
                      <a:r>
                        <a:rPr b="0" lang="en-U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SessionCon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Cre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ocado al instanciarse un bean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ontinuación de la llamada a </a:t>
                      </a: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setSessionCont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stateless session bean es instanciado y almacenado en el pool, al iniciarse el serv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stateful session bean es instanciado cuando el cliente invoca a </a:t>
                      </a: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creat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ocado al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iminar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bea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cuando el cliente invoca a </a:t>
                      </a: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remove()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bre un stateful bean, o cuando el servidor determina que debe eliminarse un stateless b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275-C230-4EBB-8DD2-5F8FF02D07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Métodos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7000" y="1190520"/>
            <a:ext cx="86580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ivación y Activación (stateful bea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9960" y="1957320"/>
          <a:ext cx="8541000" cy="4354560"/>
        </p:xfrm>
        <a:graphic>
          <a:graphicData uri="http://schemas.openxmlformats.org/drawingml/2006/table">
            <a:tbl>
              <a:tblPr/>
              <a:tblGrid>
                <a:gridCol w="1631880"/>
                <a:gridCol w="6909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ét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Passiv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ocasiones el servidor determina que debe llevar a memoria secundaria la información de estado de un stateful bean que el cliente no ha ocupado últimam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s de llevar al bean a memoria secundaria, el servidor invoca a </a:t>
                      </a: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Passivate(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ara permitir, por ejemplo, que el bean cierre una conexión a algún 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Activ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ando el cliente invoca un método de negocio sobre un bean que ha sido “pasivado”, el servidor debe reponer el bean para responder al requer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ceaa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ego de reponer el bean en memoria, el servidor invoca a </a:t>
                      </a:r>
                      <a:r>
                        <a:rPr b="0" lang="es-ES" sz="2000" spc="-1" strike="noStrike">
                          <a:solidFill>
                            <a:srgbClr val="5a839a"/>
                          </a:solidFill>
                          <a:latin typeface="Tahoma"/>
                        </a:rPr>
                        <a:t>ejbActivate(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ara permitir, por ejemplo, que el bean reponga una conexión a algún 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180-EF16-43D6-8C7B-10AEF314D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9520" y="2695680"/>
            <a:ext cx="4240080" cy="3090600"/>
          </a:xfrm>
          <a:prstGeom prst="rect">
            <a:avLst/>
          </a:prstGeom>
          <a:solidFill>
            <a:srgbClr val="ece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tateless Session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6480" y="2685960"/>
            <a:ext cx="4240080" cy="3090960"/>
          </a:xfrm>
          <a:prstGeom prst="rect">
            <a:avLst/>
          </a:prstGeom>
          <a:solidFill>
            <a:srgbClr val="ece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tateful Session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Ciclo de Vida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siguientes diagramas muestran el ciclo de vida de session beans desde el punto de vista inte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ejbcon-statelessSessionBeanLifeCycle" descr="Life Cycle of a Stateless Session Bean"/>
          <p:cNvPicPr/>
          <p:nvPr/>
        </p:nvPicPr>
        <p:blipFill>
          <a:blip r:embed="rId1"/>
          <a:stretch/>
        </p:blipFill>
        <p:spPr>
          <a:xfrm>
            <a:off x="588960" y="3154320"/>
            <a:ext cx="3097080" cy="2536920"/>
          </a:xfrm>
          <a:prstGeom prst="rect">
            <a:avLst/>
          </a:prstGeom>
          <a:ln w="0">
            <a:noFill/>
          </a:ln>
        </p:spPr>
      </p:pic>
      <p:pic>
        <p:nvPicPr>
          <p:cNvPr id="155" name="ejbcon-statefulSessionBeanLifeCycle" descr="Life Cycle of a Stateful Session Bean"/>
          <p:cNvPicPr/>
          <p:nvPr/>
        </p:nvPicPr>
        <p:blipFill>
          <a:blip r:embed="rId2"/>
          <a:stretch/>
        </p:blipFill>
        <p:spPr>
          <a:xfrm>
            <a:off x="4365720" y="3314880"/>
            <a:ext cx="465120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BBC-C186-41B5-964E-11D26DD7FF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Temario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8. Session B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Qué es un Session B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tatless v/s state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terfaces locales y rem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clase de imple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deployment descrip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ejemplo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ejemplo remo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545-9F9F-4C9B-800C-03C690F9E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ases e Interface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87520" y="1359000"/>
          <a:ext cx="816444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359000"/>
                    <a:ext cx="8164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D5B-E6C2-47B9-8FCB-EF3250DC91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Interfaces Locale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terfaces locale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quier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 los clientes se encuentren en la misma JVM que el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J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s decir, en la misma instancia del servidor de aplicacio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s locales pueden ser un componente Web, o bien otro EJ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z home derivada de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javax.ejb.EJBLocal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z EJB derivada de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javax.ejb.EJBLocal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alquier tipo de datos puede ser utilizado como parámetro o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objetos se manejan a través de referencias (semántica J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CB1-4BFE-48A9-A0C9-F16B93EF1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z LocalHome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ackage cursoj2ee.ejb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Crea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EJB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interface 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 extends EJB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create() throws Crea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B5C-C226-4D4A-8E82-E6360D79D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z LocalObjec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ackage cursoj2ee.ejb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EJB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bjec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interface 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extends EJB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String getSaludo(String nomb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CF5-3EE5-415E-BF0A-D866BEFFD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a Clase de Implementació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lase de implementación debe implementar la interfaz </a:t>
            </a:r>
            <a:r>
              <a:rPr b="0" lang="en-US" sz="2800" spc="-1" strike="noStrike">
                <a:solidFill>
                  <a:srgbClr val="5a839a"/>
                </a:solidFill>
                <a:latin typeface="Tahoma"/>
              </a:rPr>
              <a:t>javax.ejb.SessionB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proveer los métodos de negocio, e implementar los métodos correspondientes a eventos de ciclo de vida (callback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setSession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ejbCre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ejb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ejbPassivate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invocado sólo en stateful be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ejbActivat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invocado sólo en stateful be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36B-44AD-490A-B5D1-EBF76D46E8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La Clase de Implementació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ackage cursoj2ee.ejb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SessionBea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SessionCont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class HolaMundoBean implements SessionB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ejbCreate(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ejbRemove(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ejbActivate()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ejbPassivate(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setSessionContext(SessionContext context)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String getSaludo(String nombre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return "Hola, " + nombre + "!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88E-16AB-43B3-9030-F192045CC9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993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El Deployment Descriptor (ejb-jar.xml)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440" y="1201320"/>
            <a:ext cx="82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jar xmlns="http://java.sun.com/xml/ns/j2ee" version="2.1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xmlns:xsi="http://www.w3.org/2001/XMLSchema-instance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xsi:schemaLocation="http://java.sun.com/xml/ns/j2ee http://java.sun.com/xml/ns/j2ee/ejb-jar_2_1.xsd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display-name&gt;HolaMundoJAR&lt;/display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nterprise-bean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s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name&gt;HolaMundo&lt;/ejb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-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&gt;cursoj2ee.ejbs.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&lt;/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-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gt;cursoj2ee.ejbs.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local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class&gt;cursoj2ee.ejbs.HolaMundoBean&lt;/ejb-cla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ssion-type&gt;Stateless&lt;/session-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transaction-type&gt;Container&lt;/transaction-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ses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enterprise-bean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ejb-ja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DD7-E8EA-479E-9453-2D6F7053C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Un Cliente Local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3560" y="1261800"/>
            <a:ext cx="8731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class ServletClienteEJB extends HttpServlet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void doGet(HttpServletRequest req, HttpServletResponse r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throws ServletException, 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try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Obtenemos el contexto ini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nitialContext jndiContext = new InitialCont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Obtenemos un EJB Home mediante su nombre JN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bject ref = jndiContext.lookup("java:comp/env/ejb/hol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LocalHome home = (HolaMundoLocalHome)ref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Creamos un objeto a partir del Home y lo us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Local ejb = home.creat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String saludo =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ejb.getSaludo(req.getParameter("nombre")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DFC-5F0C-44C6-9FE5-8A57E14AC0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El Archivo web.xml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2680" y="1146240"/>
            <a:ext cx="85262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web-app 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rvlet-name&gt;clienteejb&lt;/servlet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rvlet-class&gt;webtutorial.ServletClienteEJB&lt;/servlet-cla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rvlet-mappin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rvlet-name&gt;clienteejb&lt;/servlet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url-pattern&gt;/clienteejb&lt;/url-patter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servlet-mappin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local-re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ref-name&gt;ejb/hola&lt;/ejb-ref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ref-type&gt;Session&lt;/ejb-ref-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local-home&gt;cursoj2ee.ejbs.HolaMundoLocalHome&lt;/local-ho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local&gt;cursoj2ee.ejbs.HolaMundoLocal&lt;/loca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link&gt;HolaMundo&lt;/ejb-link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ejb-local-re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BE7-1679-4CFF-A281-55D37C7BD1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La Aplicación J2EE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J2EE permite crear aplicaciones J2EE, que se empaquetan en archivos .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aplicación J2EE contiene módulos EJB (archivos .jar), aplicaciones Web (archivos .war) y un archivo de configuración </a:t>
            </a:r>
            <a:r>
              <a:rPr b="0" lang="es-ES" sz="2000" spc="-1" strike="noStrike">
                <a:solidFill>
                  <a:srgbClr val="5a839a"/>
                </a:solidFill>
                <a:latin typeface="Tahoma"/>
              </a:rPr>
              <a:t>META-INF/application.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figura muestra una aplicación J2EE descomprimida en JB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0520" y="3219480"/>
          <a:ext cx="537192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219480"/>
                    <a:ext cx="5371920" cy="266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3187800" y="3714840"/>
            <a:ext cx="5541840" cy="2800440"/>
            <a:chOff x="3187800" y="3714840"/>
            <a:chExt cx="5541840" cy="2800440"/>
          </a:xfrm>
        </p:grpSpPr>
        <p:graphicFrame>
          <p:nvGraphicFramePr>
            <p:cNvPr id="180" name=""/>
            <p:cNvGraphicFramePr/>
            <p:nvPr/>
          </p:nvGraphicFramePr>
          <p:xfrm>
            <a:off x="3824280" y="3714840"/>
            <a:ext cx="4905360" cy="280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24280" y="3714840"/>
                      <a:ext cx="4905360" cy="28004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 flipV="1">
              <a:off x="3187800" y="3760200"/>
              <a:ext cx="434880" cy="5382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-360 h 538200"/>
                <a:gd name="textAreaBottom" fmla="*/ 53820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A09-E99F-4BBB-B4B0-5C6934E8EE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Session Bean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5a839a"/>
                </a:solidFill>
                <a:latin typeface="Arial"/>
                <a:ea typeface="Arial"/>
              </a:rPr>
              <a:t>session b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resenta un cliente al interior del servidor de aplicaci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(su nombre indica que representa una sesión con un clien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 cliente invoca los métodos del bean, que se ejecutan en el servi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ando el cliente termina, el session bean deja de estar asociado a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 varios clientes ejecutan simultáneamente un mismo session bean, cada uno de ellos opera con una instancia diferente del bean (los session beans no soportan concurrencia: son thread-saf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y dos tipos de session bea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39a"/>
                </a:solidFill>
                <a:latin typeface="Tahoma"/>
              </a:rPr>
              <a:t>statel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o contienen estado convers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39a"/>
                </a:solidFill>
                <a:latin typeface="Tahoma"/>
              </a:rPr>
              <a:t>statefu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ontienen estado convers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BBF-D27B-4EDF-8F49-37D9FAC80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Objetos Remoto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1080" y="1177560"/>
            <a:ext cx="877392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B utiliza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R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Remote Method Invocation) para la invocación de objetos rem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liente invoca un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stu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xy del objeto remoto, en el clien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stub invoca al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skele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avés de la red (proxy de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o remoto, en el servid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skeleton invoca al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objeto</a:t>
            </a:r>
            <a:br>
              <a:rPr sz="2400"/>
            </a:b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remo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stub y el objeto remo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n la mism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z, por lo que el clien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 como si interactuar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amente con el objeto remo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792680" y="2692440"/>
          <a:ext cx="414648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2680" y="2692440"/>
                    <a:ext cx="41464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514-0FC3-4030-A720-2C7F2E322B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Interfaces Remota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terfaces remotas permiten que los clientes del bean se encuentren en un JVM diferente al del bean, posiblemente en un computador remo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s remotos pueden ser un componente Web, otro EJB, o una aplicación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z home derivada de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javax.ejb.EJB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z EJB derivada de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javax.ejb.EJB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interfaces 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EJBHome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" sz="2400" spc="-1" strike="noStrike">
                <a:solidFill>
                  <a:srgbClr val="5a839a"/>
                </a:solidFill>
                <a:latin typeface="Tahoma"/>
              </a:rPr>
              <a:t>EJBObjec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son implementadas por objetos rem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aso de parámetros y retorno entre un cliente remoto y el servidor tiene la siguiente semánt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objetos remotos se manejan a través de referencias (permaneciendo los objetos de implementación siempre en el servid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objetos no remotos deben ser serializables, y se pasan “por valo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26B-6681-4FFA-B8BB-E3EDDE6104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z RemoteHome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ackage cursoj2ee.ejb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.rmi.Remo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Crea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EJBHo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interface HolaMundoRemoteHome extends EJB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Remote create() </a:t>
            </a:r>
            <a:br>
              <a:rPr sz="2000"/>
            </a:b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                  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throws CreateException, Remo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CBA-1D2E-4FF8-98A3-5612EA41EA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z RemoteObjec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ackage cursoj2ee.ejb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.rmi.Remo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mport javax.ejb.EJBObjec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ublic interface HolaMundoRemote extends EJB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String getSaludo(String nombre) throws RemoteExcep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96D-363C-4A2A-A9C5-103D17A8EC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993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El Deployment Descriptor (ejb-jar.xml)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6440" y="1201320"/>
            <a:ext cx="82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jar xmlns="http://java.sun.com/xml/ns/j2ee" version="2.1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xmlns:xsi="http://www.w3.org/2001/XMLSchema-instance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xsi:schemaLocation="http://java.sun.com/xml/ns/j2ee http://java.sun.com/xml/ns/j2ee/ejb-jar_2_1.xsd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display-name&gt;HolaMundoJAR&lt;/display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nterprise-bean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s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name&gt;HolaMundo&lt;/ejb-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home&gt;cursoj2ee.ejbs.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Remote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me&lt;/ho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remote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gt;cursoj2ee.ejbs.HolaMundo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Remote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remote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ejb-class&gt;cursoj2ee.ejbs.HolaMundoBean&lt;/ejb-cla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session-type&gt;Stateless&lt;/session-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transaction-type&gt;Container&lt;/transaction-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ses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enterprise-bean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&lt;/ejb-ja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E76-199D-46EF-8AC2-0115495152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Un Cliente Remoto (JBoss)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1520" y="1201680"/>
            <a:ext cx="817848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Propiedades para construir un objeto Initial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roperties properties = new Propertie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roperties.put(Context.INITIAL_CONTEXT_FACTORY, "org.jnp.interfaces.NamingContextFacto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roperties.put(Context.PROVIDER_URL, "localhost:1099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Obtenemos el contexto ini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InitialContext jndiContext = new InitialContext(properti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Obtenemos una referencia a un EJB H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bject ref  = jndiContext.lookup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"HolaMundo"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RemoteHome home =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(HolaMundoRemoteHome)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PortableRemoteObject.narrow(r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ef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, HolaMundoRemoteHome.clas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// Creamos un objeto a partir del Home y lo us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HolaMundoRemote ejb = home.creat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System.out.println(ejb.getSaludo(</a:t>
            </a:r>
            <a:r>
              <a:rPr b="0" lang="es-ES" sz="2000" spc="-1" strike="noStrike">
                <a:solidFill>
                  <a:srgbClr val="515f7b"/>
                </a:solidFill>
                <a:latin typeface="Tahoma"/>
              </a:rPr>
              <a:t>"Alejandr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</a:rPr>
              <a:t>o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56B-51F2-4BE9-93A6-471CD37FD3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Resume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session bean representa un cliente al interior de un servidor de aplic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elementos de un session bean 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 interfaz “home” (contiene métodos de ciclo de vid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 interfaz “componente” (contiene métodos de negoc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lase de imple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ontenedor de EJB genera las clases que implementan las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beans de una aplicación se configuran en el archivo ejb-jar.xml (deployment descrip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ientes locales (componentes Web, otros EJB) hacen uso de las interfaces loc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ientes remotos (cualquier aplicación Java) hacen uso de las interfaces remotas, que operan sobre 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F34-371A-408D-9F4E-33608D56A8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Stateless Session Bean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stateless session b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antiene estado conversacional para 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ndo un cliente invoca un método de un stateless session bean, éste puede almacenar información en sus variables de instancia, pero sólo por la duración del mét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asociación entre el cliente y el stateless session bean se produce en la invo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desconexión entre el cliente y el servidor es automática al finalizar la ejecuc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ón del mét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vo durante la ejecución de un método, todas las instancias de un session bean son equivalentes, lo que permite al EJB Container asignar cualquier instancia a cualquier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instancia de un stateless session bean puede atender múltiples clientes (no concurrentemen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960-2CB8-4B4E-9A94-D25C20F16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Stateful Session Bean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un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stateful session b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s variables de instancia representan el estado de la sesión del cliente con el b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estado es retenido hasta que el cliente da por terminada su sesión con el bean, lo que ocurre cuando el cliente invoca al método 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ambién es posible configurar un timeout para el be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el servidor necesita memoria, puede escoger un stateful session bean y llevarlo a memoria secundaria (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pasivació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 posteriormente lo llevará a memoria principal (</a:t>
            </a:r>
            <a:r>
              <a:rPr b="0" lang="en-US" sz="2400" spc="-1" strike="noStrike">
                <a:solidFill>
                  <a:srgbClr val="5a839a"/>
                </a:solidFill>
                <a:latin typeface="Tahoma"/>
              </a:rPr>
              <a:t>activació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uando el cliente realice alguna tarea con é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2D8-547C-4847-BA40-DF51C4CB2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Stateless v/s Stateful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o los stateless session bean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eden atender 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últiples client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sucesivament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recen mayor escalabilidad para aplicaciones que tienen un número alto de cl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ípicamente, una aplicación requiere menos stateless session beans que stateful session beans para soportar el mismo número de cl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ocasiones, el servidor de aplicaciones graba información de stateful session beans a disco (lo que no ocurre con stateless session beans), lo que puede incidir en un menor r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stateless session bean puede implementar un Web Service, un stateful session bean 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822-DCE1-4082-A46E-EEEE76EE6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Cliente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clientes ven a un session bean a través de sus interfaces “home” y “component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clientes de un session bean pueden ser locales o rem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stateless session bean puede tener además un cliente Web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3763800"/>
          <a:ext cx="848844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763800"/>
                    <a:ext cx="84884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BD-EADE-41F6-B810-2129F237F0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Elementos de un Session Bean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session bean tiene 3 componentes principa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, que el programador (Bean Provider) debe prove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interfaz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on métodos correspondientes a eventos de ciclo de vida (create, remove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interfaz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“componente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on métod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5a839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lase de implementación, con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mplementación de lo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étod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ontenedor de EJB’s gener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clas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 implementan las interface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objetos de las clases generadas se llaman “objeto home” y “objeto EJB”, respectiv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C0B-1626-4011-B5AE-6E5F6E73E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407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15f7b"/>
                </a:solidFill>
                <a:latin typeface="Tahoma"/>
              </a:rPr>
              <a:t>Interfaces Locales y Remota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04436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iginalmente, la especificación de EJB’s sólo contempló el uso de interfaces remotas, accesibles vía 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versión 2.0 de la especificación agregó el manejo de interfaces locales, con el objetivo de mejorar el desempeño y la potencialidad de la plata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EJB puede definir interfaces locales y/o remo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clientes locales de un EJB deben residir en la misma JVM (componentes Web, otros EJB), y acceden al EJB a través de interfaces loc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clientes remotos pueden incluir aplicaciones o componentes Java ejecutándose en otras JVM, y acceden al EJB a través de las interfaces remotas, usando 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25D-2F8B-432F-A050-859FA5888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2:02:55Z</dcterms:created>
  <dc:creator>Juan Claudio Navarro</dc:creator>
  <dc:description/>
  <dc:language>en-US</dc:language>
  <cp:lastModifiedBy>Juan Claudio Navarro</cp:lastModifiedBy>
  <cp:lastPrinted>1997-12-25T22:18:08Z</cp:lastPrinted>
  <dcterms:modified xsi:type="dcterms:W3CDTF">2005-05-04T05:02:41Z</dcterms:modified>
  <cp:revision>314</cp:revision>
  <dc:subject/>
  <dc:title>Unidad 2: Servlets</dc:title>
</cp:coreProperties>
</file>