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6E89-C2CF-494D-B487-E292274B4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AF35-2893-483A-948C-9FE88AD0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7624-FA03-4BAE-880B-D6A4DBC30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DD00-3C0B-4096-8AD0-9F186B96E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0E7D-3367-4AA3-969F-F791D256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0684-6B3D-4374-9046-D50CF060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EEC2-1F02-4865-B55F-63523C47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CF05-8583-432F-9C07-CE8CD914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4AEA-F887-49BA-A462-457DDA13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3C23-FF72-4A55-A892-D567B46B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E95A-80FB-49FA-9737-00B6EF2D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F80A-B932-4BE5-BFBD-2D87880A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0D1B-2E09-496E-A089-F54BA1467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762120"/>
            <a:ext cx="845820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 se tiene un microorganismo que sigue una cinética del tipo Monod, con los siguientes paráme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 0,7 hr 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K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 5 g/l    Y 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x/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 0,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flujo de alimentación es de 500 l/hr con 85 g/l de sustrato, la concentración de sustrato y biomasa a la salida debe ser de 5 g/l y 52 g/l respectiva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 se utilizan 2 fermentadores continuos perfectamente agitados en serie,¿Qué tamaño debe tener cada uno de los fermentadores, si se utiliza la configuración óptima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276720" y="4394160"/>
            <a:ext cx="5211360" cy="2463840"/>
            <a:chOff x="3276720" y="4394160"/>
            <a:chExt cx="5211360" cy="2463840"/>
          </a:xfrm>
        </p:grpSpPr>
        <p:sp>
          <p:nvSpPr>
            <p:cNvPr id="44" name=""/>
            <p:cNvSpPr/>
            <p:nvPr/>
          </p:nvSpPr>
          <p:spPr>
            <a:xfrm>
              <a:off x="4465080" y="4846320"/>
              <a:ext cx="191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933960" y="6400800"/>
              <a:ext cx="10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116840" y="6583680"/>
              <a:ext cx="137124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X2 = 52 g/l, s2=5 g/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459240" y="5212080"/>
              <a:ext cx="1188360" cy="100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3276720" y="4394160"/>
              <a:ext cx="1828440" cy="1640880"/>
              <a:chOff x="3276720" y="4394160"/>
              <a:chExt cx="1828440" cy="1640880"/>
            </a:xfrm>
          </p:grpSpPr>
          <p:sp>
            <p:nvSpPr>
              <p:cNvPr id="49" name=""/>
              <p:cNvSpPr/>
              <p:nvPr/>
            </p:nvSpPr>
            <p:spPr>
              <a:xfrm flipV="1">
                <a:off x="4465080" y="4846320"/>
                <a:ext cx="0" cy="36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276720" y="4485600"/>
                <a:ext cx="1828440" cy="27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F = 500l/h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s-E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= 85 g/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4099320" y="4394160"/>
                <a:ext cx="0" cy="82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642120" y="5486400"/>
                <a:ext cx="914040" cy="54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= ?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5745240" y="5664240"/>
              <a:ext cx="1188360" cy="100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385320" y="4846320"/>
              <a:ext cx="0" cy="82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928120" y="5852160"/>
              <a:ext cx="914040" cy="54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= ?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745240" y="4480560"/>
              <a:ext cx="137124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, x1, s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066680" y="5181480"/>
                <a:ext cx="221004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óptim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Ks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Ks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" y="5335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n reactores Continuo Perfectamente Agi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0666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alance para un producto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676520" y="1523880"/>
                <a:ext cx="34336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609480" y="25909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209680"/>
            <a:ext cx="8153280" cy="15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Supuest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o hay acumulación, estado estacionario, Concentración Constante, 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= f 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Fe = 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nto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33520" y="3809880"/>
                <a:ext cx="29718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6" name=""/>
          <p:cNvGrpSpPr/>
          <p:nvPr/>
        </p:nvGrpSpPr>
        <p:grpSpPr>
          <a:xfrm>
            <a:off x="533520" y="4495680"/>
            <a:ext cx="2549520" cy="1616040"/>
            <a:chOff x="533520" y="4495680"/>
            <a:chExt cx="2549520" cy="1616040"/>
          </a:xfrm>
        </p:grpSpPr>
        <p:sp>
          <p:nvSpPr>
            <p:cNvPr id="137" name=""/>
            <p:cNvSpPr/>
            <p:nvPr/>
          </p:nvSpPr>
          <p:spPr>
            <a:xfrm>
              <a:off x="533520" y="449568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Despejan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8" name=""/>
                <p:cNvSpPr txBox="1"/>
                <p:nvPr/>
              </p:nvSpPr>
              <p:spPr>
                <a:xfrm>
                  <a:off x="609480" y="5257800"/>
                  <a:ext cx="2473560" cy="85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τ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F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9" name=""/>
          <p:cNvGrpSpPr/>
          <p:nvPr/>
        </p:nvGrpSpPr>
        <p:grpSpPr>
          <a:xfrm>
            <a:off x="6095880" y="380880"/>
            <a:ext cx="3048120" cy="2158920"/>
            <a:chOff x="6095880" y="380880"/>
            <a:chExt cx="3048120" cy="2158920"/>
          </a:xfrm>
        </p:grpSpPr>
        <p:grpSp>
          <p:nvGrpSpPr>
            <p:cNvPr id="140" name=""/>
            <p:cNvGrpSpPr/>
            <p:nvPr/>
          </p:nvGrpSpPr>
          <p:grpSpPr>
            <a:xfrm>
              <a:off x="6477120" y="914400"/>
              <a:ext cx="2209680" cy="1447920"/>
              <a:chOff x="6477120" y="914400"/>
              <a:chExt cx="2209680" cy="1447920"/>
            </a:xfrm>
          </p:grpSpPr>
          <p:sp>
            <p:nvSpPr>
              <p:cNvPr id="141" name=""/>
              <p:cNvSpPr/>
              <p:nvPr/>
            </p:nvSpPr>
            <p:spPr>
              <a:xfrm>
                <a:off x="7005600" y="1316160"/>
                <a:ext cx="1133640" cy="1046160"/>
              </a:xfrm>
              <a:prstGeom prst="can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572240" y="914400"/>
                <a:ext cx="0" cy="1206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288200" y="2039760"/>
                <a:ext cx="28404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572240" y="2039760"/>
                <a:ext cx="28260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477120" y="1600200"/>
                <a:ext cx="6858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01000" y="2057400"/>
                <a:ext cx="6858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6095880" y="1066680"/>
              <a:ext cx="8384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305920" y="1523880"/>
              <a:ext cx="8380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F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C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48720" y="380880"/>
              <a:ext cx="8380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C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0" name=""/>
          <p:cNvGraphicFramePr/>
          <p:nvPr/>
        </p:nvGraphicFramePr>
        <p:xfrm>
          <a:off x="6324480" y="3967200"/>
          <a:ext cx="2590920" cy="24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3967200"/>
                    <a:ext cx="2590920" cy="24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3811680" y="3962520"/>
          <a:ext cx="2498760" cy="251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11680" y="3962520"/>
                    <a:ext cx="249876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838080" y="30492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Compar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09480" y="838080"/>
            <a:ext cx="7578720" cy="1150920"/>
            <a:chOff x="609480" y="838080"/>
            <a:chExt cx="7578720" cy="1150920"/>
          </a:xfrm>
        </p:grpSpPr>
        <p:sp>
          <p:nvSpPr>
            <p:cNvPr id="156" name=""/>
            <p:cNvSpPr/>
            <p:nvPr/>
          </p:nvSpPr>
          <p:spPr>
            <a:xfrm>
              <a:off x="609480" y="83808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Bat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" name=""/>
                <p:cNvSpPr txBox="1"/>
                <p:nvPr/>
              </p:nvSpPr>
              <p:spPr>
                <a:xfrm>
                  <a:off x="1600200" y="1066680"/>
                  <a:ext cx="1350720" cy="92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sub>
                        <m:sup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p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num>
                            <m:den>
                              <m:r>
                                <m:t xml:space="preserve">f</m:t>
                              </m:r>
                              <m:r>
                                <m:t xml:space="preserve">(</m:t>
                              </m:r>
                              <m:r>
                                <m:t xml:space="preserve">C</m:t>
                              </m:r>
                              <m:r>
                                <m:t xml:space="preserve">)</m:t>
                              </m:r>
                            </m:den>
                          </m:f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58" name=""/>
            <p:cNvSpPr/>
            <p:nvPr/>
          </p:nvSpPr>
          <p:spPr>
            <a:xfrm>
              <a:off x="3733560" y="8380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Continu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5715000" y="990360"/>
                  <a:ext cx="2473200" cy="85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τ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F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0" name=""/>
          <p:cNvSpPr/>
          <p:nvPr/>
        </p:nvSpPr>
        <p:spPr>
          <a:xfrm>
            <a:off x="2362320" y="22860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eacción Quí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685800" y="2743200"/>
          <a:ext cx="2590920" cy="253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43200"/>
                    <a:ext cx="2590920" cy="25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5638680" y="2743200"/>
          <a:ext cx="2498760" cy="251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2743200"/>
                    <a:ext cx="249876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5" name=""/>
          <p:cNvGrpSpPr/>
          <p:nvPr/>
        </p:nvGrpSpPr>
        <p:grpSpPr>
          <a:xfrm>
            <a:off x="1600200" y="4500720"/>
            <a:ext cx="6553080" cy="1978920"/>
            <a:chOff x="1600200" y="4500720"/>
            <a:chExt cx="6553080" cy="1978920"/>
          </a:xfrm>
        </p:grpSpPr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3809880" y="4500720"/>
                  <a:ext cx="1584360" cy="89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&lt;</m:t>
                      </m:r>
                      <m:sSub>
                        <m:e>
                          <m:r>
                            <m:t xml:space="preserve">τ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67" name=""/>
            <p:cNvSpPr/>
            <p:nvPr/>
          </p:nvSpPr>
          <p:spPr>
            <a:xfrm>
              <a:off x="1600200" y="6019920"/>
              <a:ext cx="65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Se recomienda una operación </a:t>
              </a:r>
              <a:r>
                <a:rPr b="1" lang="es-ES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Bat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838080" y="30492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Compar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09480" y="838080"/>
            <a:ext cx="7578720" cy="1150920"/>
            <a:chOff x="609480" y="838080"/>
            <a:chExt cx="7578720" cy="1150920"/>
          </a:xfrm>
        </p:grpSpPr>
        <p:sp>
          <p:nvSpPr>
            <p:cNvPr id="170" name=""/>
            <p:cNvSpPr/>
            <p:nvPr/>
          </p:nvSpPr>
          <p:spPr>
            <a:xfrm>
              <a:off x="609480" y="83808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Bat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1600200" y="1066680"/>
                  <a:ext cx="1350720" cy="92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sub>
                        <m:sup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p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num>
                            <m:den>
                              <m:r>
                                <m:t xml:space="preserve">f</m:t>
                              </m:r>
                              <m:r>
                                <m:t xml:space="preserve">(</m:t>
                              </m:r>
                              <m:r>
                                <m:t xml:space="preserve">C</m:t>
                              </m:r>
                              <m:r>
                                <m:t xml:space="preserve">)</m:t>
                              </m:r>
                            </m:den>
                          </m:f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72" name=""/>
            <p:cNvSpPr/>
            <p:nvPr/>
          </p:nvSpPr>
          <p:spPr>
            <a:xfrm>
              <a:off x="3733560" y="8380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Continu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3" name=""/>
                <p:cNvSpPr txBox="1"/>
                <p:nvPr/>
              </p:nvSpPr>
              <p:spPr>
                <a:xfrm>
                  <a:off x="5715000" y="990360"/>
                  <a:ext cx="2473200" cy="85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τ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F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4" name=""/>
          <p:cNvSpPr/>
          <p:nvPr/>
        </p:nvSpPr>
        <p:spPr>
          <a:xfrm>
            <a:off x="2362320" y="22860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Reacción Autocatal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80880" y="4500720"/>
            <a:ext cx="8229600" cy="1978920"/>
            <a:chOff x="380880" y="4500720"/>
            <a:chExt cx="8229600" cy="1978920"/>
          </a:xfrm>
        </p:grpSpPr>
        <mc:AlternateContent>
          <mc:Choice xmlns:a14="http://schemas.microsoft.com/office/drawing/2010/main" Requires="a14">
            <p:sp>
              <p:nvSpPr>
                <p:cNvPr id="176" name=""/>
                <p:cNvSpPr txBox="1"/>
                <p:nvPr/>
              </p:nvSpPr>
              <p:spPr>
                <a:xfrm>
                  <a:off x="3786120" y="4500720"/>
                  <a:ext cx="1633680" cy="89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&gt;</m:t>
                      </m:r>
                      <m:sSub>
                        <m:e>
                          <m:r>
                            <m:t xml:space="preserve">τ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77" name=""/>
            <p:cNvSpPr/>
            <p:nvPr/>
          </p:nvSpPr>
          <p:spPr>
            <a:xfrm>
              <a:off x="380880" y="601992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Se recomienda una operación </a:t>
              </a:r>
              <a:r>
                <a:rPr b="1" lang="es-ES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Continua Perfectamente Agita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8" name=""/>
          <p:cNvGraphicFramePr/>
          <p:nvPr/>
        </p:nvGraphicFramePr>
        <p:xfrm>
          <a:off x="5791320" y="2895480"/>
          <a:ext cx="2590560" cy="24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2895480"/>
                    <a:ext cx="2590560" cy="24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762120" y="2971800"/>
          <a:ext cx="2390760" cy="234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971800"/>
                    <a:ext cx="239076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71600" y="3049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Crecimiento de microorganis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990720"/>
            <a:ext cx="4267080" cy="21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n el caso de crecimiento de microorganismos hay una mezcla de los dos mecanism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Autocatalítico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n la etapa de crecimiento expon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Químic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 Fase de desaceleración, estacionaria y mue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5029200" y="914400"/>
          <a:ext cx="365760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914400"/>
                    <a:ext cx="36576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6" name=""/>
          <p:cNvGrpSpPr/>
          <p:nvPr/>
        </p:nvGrpSpPr>
        <p:grpSpPr>
          <a:xfrm>
            <a:off x="609480" y="3276720"/>
            <a:ext cx="5181840" cy="3581280"/>
            <a:chOff x="609480" y="3276720"/>
            <a:chExt cx="5181840" cy="3581280"/>
          </a:xfrm>
        </p:grpSpPr>
        <p:sp>
          <p:nvSpPr>
            <p:cNvPr id="187" name=""/>
            <p:cNvSpPr/>
            <p:nvPr/>
          </p:nvSpPr>
          <p:spPr>
            <a:xfrm>
              <a:off x="3048120" y="327672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Diseño Optim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8" name=""/>
            <p:cNvGraphicFramePr/>
            <p:nvPr/>
          </p:nvGraphicFramePr>
          <p:xfrm>
            <a:off x="609480" y="3932280"/>
            <a:ext cx="4572000" cy="2925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9480" y="3932280"/>
                      <a:ext cx="4572000" cy="292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0" name=""/>
          <p:cNvSpPr/>
          <p:nvPr/>
        </p:nvSpPr>
        <p:spPr>
          <a:xfrm>
            <a:off x="5410080" y="3962520"/>
            <a:ext cx="3429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Continuo perfectamente agitado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guido de una 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Bat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Pero hay un problema práctico ¿ Cuá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838080"/>
            <a:ext cx="8382240" cy="32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bl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ado que el 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Fermentador Continuo Perfectamente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Agitado opera en forma continua, se hace poco factible hacerlo operar seguido por un </a:t>
            </a:r>
            <a:r>
              <a:rPr b="1" lang="es-ES" sz="2000" spc="-1" strike="noStrike" u="sng">
                <a:solidFill>
                  <a:srgbClr val="ff0000"/>
                </a:solidFill>
                <a:uFillTx/>
                <a:latin typeface="Times New Roman"/>
              </a:rPr>
              <a:t>BATCH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, pero las ecuaciones del BATCH pueden ser válidas para un </a:t>
            </a:r>
            <a:r>
              <a:rPr b="1" lang="es-ES" sz="2000" spc="-1" strike="noStrike" u="sng">
                <a:solidFill>
                  <a:srgbClr val="ff0000"/>
                </a:solidFill>
                <a:uFillTx/>
                <a:latin typeface="Times New Roman"/>
              </a:rPr>
              <a:t>Fermentador Continuo Flujo Pist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si se considera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 = z/t  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t = z/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u: velocidad lin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z: posición en el fermen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219320" y="4572000"/>
            <a:ext cx="4114800" cy="1374120"/>
            <a:chOff x="1219320" y="4572000"/>
            <a:chExt cx="4114800" cy="1374120"/>
          </a:xfrm>
        </p:grpSpPr>
        <p:sp>
          <p:nvSpPr>
            <p:cNvPr id="193" name=""/>
            <p:cNvSpPr/>
            <p:nvPr/>
          </p:nvSpPr>
          <p:spPr>
            <a:xfrm rot="16200000">
              <a:off x="3085920" y="3543480"/>
              <a:ext cx="609840" cy="2666880"/>
            </a:xfrm>
            <a:prstGeom prst="can">
              <a:avLst>
                <a:gd name="adj" fmla="val 25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23880" y="4876920"/>
              <a:ext cx="914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724280" y="4800600"/>
              <a:ext cx="6098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19320" y="47246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743200" y="54864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62320" y="548640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5867280" y="4267080"/>
            <a:ext cx="2819520" cy="1557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das ecuaciones planteadas para el 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Batch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on aplicables al 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flujo pist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Diseño óptimo para el crecimiento de microorganis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066680" y="685800"/>
            <a:ext cx="7162920" cy="2413800"/>
            <a:chOff x="1066680" y="685800"/>
            <a:chExt cx="7162920" cy="2413800"/>
          </a:xfrm>
        </p:grpSpPr>
        <p:grpSp>
          <p:nvGrpSpPr>
            <p:cNvPr id="202" name=""/>
            <p:cNvGrpSpPr/>
            <p:nvPr/>
          </p:nvGrpSpPr>
          <p:grpSpPr>
            <a:xfrm>
              <a:off x="1066680" y="685800"/>
              <a:ext cx="3048120" cy="2226960"/>
              <a:chOff x="1066680" y="685800"/>
              <a:chExt cx="3048120" cy="2226960"/>
            </a:xfrm>
          </p:grpSpPr>
          <p:grpSp>
            <p:nvGrpSpPr>
              <p:cNvPr id="203" name=""/>
              <p:cNvGrpSpPr/>
              <p:nvPr/>
            </p:nvGrpSpPr>
            <p:grpSpPr>
              <a:xfrm>
                <a:off x="1447920" y="1106640"/>
                <a:ext cx="2209680" cy="1142280"/>
                <a:chOff x="1447920" y="1106640"/>
                <a:chExt cx="2209680" cy="114228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1976400" y="1423440"/>
                  <a:ext cx="1133640" cy="825480"/>
                </a:xfrm>
                <a:prstGeom prst="can">
                  <a:avLst>
                    <a:gd name="adj" fmla="val 25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2543040" y="1106640"/>
                  <a:ext cx="0" cy="9518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2259000" y="1994760"/>
                  <a:ext cx="284040" cy="63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543040" y="1994760"/>
                  <a:ext cx="282600" cy="63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447920" y="1647720"/>
                  <a:ext cx="68580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971800" y="2008440"/>
                  <a:ext cx="68580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" name=""/>
              <p:cNvSpPr/>
              <p:nvPr/>
            </p:nvSpPr>
            <p:spPr>
              <a:xfrm>
                <a:off x="1066680" y="1226880"/>
                <a:ext cx="838440" cy="15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6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</a:rPr>
                  <a:t>S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</a:rPr>
                  <a:t>p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</a:rPr>
                  <a:t>x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276720" y="1589400"/>
                <a:ext cx="838080" cy="132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45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5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</a:rPr>
                  <a:t>S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5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</a:rPr>
                  <a:t>x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5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</a:rPr>
                  <a:t>p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819520" y="685800"/>
                <a:ext cx="838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 rot="16200000">
              <a:off x="5360040" y="735480"/>
              <a:ext cx="480960" cy="2667240"/>
            </a:xfrm>
            <a:prstGeom prst="can">
              <a:avLst>
                <a:gd name="adj" fmla="val 25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29000" y="2009160"/>
              <a:ext cx="1295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34320" y="206928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467480" y="1708200"/>
              <a:ext cx="762120" cy="13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4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609480" y="3048120"/>
            <a:ext cx="731520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tinuo Perfectamente Agitado  + Continuo Flujo Pistón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cc"/>
                </a:solidFill>
                <a:latin typeface="Times New Roman"/>
              </a:rPr>
              <a:t>Cultivo Continuo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3333cc"/>
                </a:solidFill>
                <a:latin typeface="Times New Roman"/>
              </a:rPr>
              <a:t>Flujo Pistón</a:t>
            </a:r>
            <a:br>
              <a:rPr sz="4400"/>
            </a:br>
            <a:r>
              <a:rPr b="0" lang="es-ES" sz="4400" spc="-1" strike="noStrike">
                <a:solidFill>
                  <a:srgbClr val="3333cc"/>
                </a:solidFill>
                <a:latin typeface="Times New Roman"/>
              </a:rPr>
              <a:t>(PFTR)</a:t>
            </a: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914400" y="32004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800280" y="228600"/>
            <a:ext cx="7543800" cy="48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squema de un fermentador PF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ste tipo de fermentadores hay un frente en el cual avanza la rea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umple que en cada punto del fermentador (z) hay diferente concentración de cada componente, pero no hay variación en el tiempo, ento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 x(z),  x(0)= 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x(L)= 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00000"/>
                </a:solidFill>
                <a:latin typeface="Symbol"/>
                <a:ea typeface="Symbol"/>
              </a:rPr>
              <a:t>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219320" y="4495680"/>
            <a:ext cx="7467120" cy="2057040"/>
            <a:chOff x="1219320" y="4495680"/>
            <a:chExt cx="7467120" cy="2057040"/>
          </a:xfrm>
        </p:grpSpPr>
        <p:sp>
          <p:nvSpPr>
            <p:cNvPr id="222" name=""/>
            <p:cNvSpPr/>
            <p:nvPr/>
          </p:nvSpPr>
          <p:spPr>
            <a:xfrm>
              <a:off x="1219320" y="4495680"/>
              <a:ext cx="66348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F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x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p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193520" y="4495680"/>
              <a:ext cx="663480" cy="14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Times New Roman"/>
                </a:rPr>
                <a:t>F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s-ES" sz="1600" spc="-1" strike="noStrike" baseline="-25000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s-ES" sz="1600" spc="-1" strike="noStrike" baseline="-25000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lang="es-ES" sz="1600" spc="-1" strike="noStrike" baseline="-25000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42400" y="4928040"/>
              <a:ext cx="4975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82800" y="5072400"/>
              <a:ext cx="829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857000" y="5072400"/>
              <a:ext cx="829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2600" y="4783680"/>
              <a:ext cx="3982680" cy="57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538160" y="4495680"/>
              <a:ext cx="0" cy="129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870080" y="4495680"/>
              <a:ext cx="0" cy="129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12600" y="5783760"/>
              <a:ext cx="182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422520" y="5783760"/>
              <a:ext cx="663480" cy="2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202000" y="5783760"/>
              <a:ext cx="663480" cy="2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036040" y="4918320"/>
              <a:ext cx="4975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712600" y="6264720"/>
              <a:ext cx="398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206240" y="6264720"/>
              <a:ext cx="663480" cy="2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882800" y="5254920"/>
              <a:ext cx="663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419040" y="3467160"/>
            <a:ext cx="8305920" cy="35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 y Fs: Flujos Volumétricos de entrada y sa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x</a:t>
            </a:r>
            <a:r>
              <a:rPr b="0" lang="es-E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p</a:t>
            </a:r>
            <a:r>
              <a:rPr b="0" lang="es-E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ncentración de sustrato, biomasa y producto a la entr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x</a:t>
            </a:r>
            <a:r>
              <a:rPr b="0" lang="es-E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p</a:t>
            </a:r>
            <a:r>
              <a:rPr b="0" lang="es-E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ncentración de sustrato, biomasa y producto a la salida del bioreac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 Área transversal del ferment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= A* L: Volumen del fermentador =&gt;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= A*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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= V/A, largo del ferment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= F/A, Velocidad lineal dl fluido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143000" y="533520"/>
            <a:ext cx="7543440" cy="2895480"/>
            <a:chOff x="1143000" y="533520"/>
            <a:chExt cx="7543440" cy="2895480"/>
          </a:xfrm>
        </p:grpSpPr>
        <p:sp>
          <p:nvSpPr>
            <p:cNvPr id="239" name=""/>
            <p:cNvSpPr/>
            <p:nvPr/>
          </p:nvSpPr>
          <p:spPr>
            <a:xfrm>
              <a:off x="1143000" y="533520"/>
              <a:ext cx="670320" cy="182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F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x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3333cc"/>
                  </a:solidFill>
                  <a:latin typeface="Times New Roman"/>
                </a:rPr>
                <a:t>p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178040" y="533520"/>
              <a:ext cx="670320" cy="20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Times New Roman"/>
                </a:rPr>
                <a:t>F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s-ES" sz="1600" spc="-1" strike="noStrike" baseline="-25000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s-ES" sz="1600" spc="-1" strike="noStrike" baseline="-25000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lang="es-ES" sz="1600" spc="-1" strike="noStrike" baseline="-25000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489840" y="1142280"/>
              <a:ext cx="502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813320" y="1345320"/>
              <a:ext cx="837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848720" y="1345320"/>
              <a:ext cx="837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651400" y="939240"/>
              <a:ext cx="4023360" cy="811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495680" y="533520"/>
              <a:ext cx="0" cy="182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830840" y="533520"/>
              <a:ext cx="0" cy="182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651400" y="2346480"/>
              <a:ext cx="184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68880" y="2346480"/>
              <a:ext cx="670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66360" y="2346480"/>
              <a:ext cx="670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998600" y="1128600"/>
              <a:ext cx="502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51400" y="3023280"/>
              <a:ext cx="402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60520" y="3023280"/>
              <a:ext cx="670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813320" y="1602000"/>
              <a:ext cx="670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80880" y="0"/>
            <a:ext cx="8077320" cy="72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alance de masa 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a de Entrada – Masa de Salida = Acumulación de M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densidades se mantienen aproximadamente constan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l sistema opera en estado estacionario, ento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acumulación.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e = Fs = F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167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3962520" y="4648320"/>
                <a:ext cx="121896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dρ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mparación en Fermentador Batch y Continu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4038480"/>
            <a:ext cx="731520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pueden comparar respecto a la producción 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iom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ducción d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28600" y="228600"/>
            <a:ext cx="86104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alance de Biom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élulas que entran – Células que salen + Crecimiento celular – Muerte celular  = Acumulación Cel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n una sección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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3814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633680" y="2336760"/>
                <a:ext cx="587520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Δz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Δz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Δz</m:t>
                    </m:r>
                    <m:sSub>
                      <m:e>
                        <m:r>
                          <m:t xml:space="preserve">⋅</m:t>
                        </m:r>
                      </m:e>
                      <m:sub/>
                    </m:sSub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60" name=""/>
          <p:cNvGrpSpPr/>
          <p:nvPr/>
        </p:nvGrpSpPr>
        <p:grpSpPr>
          <a:xfrm>
            <a:off x="4038480" y="3124080"/>
            <a:ext cx="4267080" cy="2285640"/>
            <a:chOff x="4038480" y="3124080"/>
            <a:chExt cx="4267080" cy="2285640"/>
          </a:xfrm>
        </p:grpSpPr>
        <p:sp>
          <p:nvSpPr>
            <p:cNvPr id="261" name=""/>
            <p:cNvSpPr/>
            <p:nvPr/>
          </p:nvSpPr>
          <p:spPr>
            <a:xfrm>
              <a:off x="4038480" y="3124080"/>
              <a:ext cx="379080" cy="144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3333cc"/>
                  </a:solidFill>
                  <a:latin typeface="Times New Roman"/>
                </a:rPr>
                <a:t>F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3333cc"/>
                  </a:solidFill>
                  <a:latin typeface="Times New Roman"/>
                </a:rPr>
                <a:t>s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3333cc"/>
                  </a:solidFill>
                  <a:latin typeface="Times New Roman"/>
                </a:rPr>
                <a:t>x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3333cc"/>
                  </a:solidFill>
                  <a:latin typeface="Times New Roman"/>
                </a:rPr>
                <a:t>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452360" y="3124080"/>
              <a:ext cx="379080" cy="16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0000"/>
                  </a:solidFill>
                  <a:latin typeface="Times New Roman"/>
                </a:rPr>
                <a:t>F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es-ES" sz="1400" spc="-1" strike="noStrike" baseline="-25000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s-ES" sz="1400" spc="-1" strike="noStrike" baseline="-25000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r>
                <a:rPr b="1" lang="es-ES" sz="1400" spc="-1" strike="noStrike" baseline="-25000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366160" y="3604680"/>
              <a:ext cx="28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7560" y="3764880"/>
              <a:ext cx="473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831800" y="3764880"/>
              <a:ext cx="473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91680" y="3444120"/>
              <a:ext cx="2275920" cy="64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934960" y="3124080"/>
              <a:ext cx="0" cy="144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124680" y="3124080"/>
              <a:ext cx="0" cy="144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891680" y="4555440"/>
              <a:ext cx="104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297400" y="4555440"/>
              <a:ext cx="37908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314400" y="4555440"/>
              <a:ext cx="37908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219720" y="3593880"/>
              <a:ext cx="284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891680" y="5089680"/>
              <a:ext cx="227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45240" y="5089680"/>
              <a:ext cx="37908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17560" y="3967920"/>
              <a:ext cx="379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28600" y="4572000"/>
            <a:ext cx="43434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ue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locidad de muerte desprec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do estacionario, no hay acumulación.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57200" y="533520"/>
            <a:ext cx="81532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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endo la velocidad lineal del flujo,u, 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= F/A: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0984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2519280" y="1038240"/>
                <a:ext cx="357048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r>
                              <m:t xml:space="preserve">Δz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Δz</m:t>
                        </m:r>
                      </m:den>
                    </m:f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373860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2590920" y="2666880"/>
                <a:ext cx="365760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"/>
          <p:cNvSpPr/>
          <p:nvPr/>
        </p:nvSpPr>
        <p:spPr>
          <a:xfrm>
            <a:off x="402444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3276720" y="5257800"/>
                <a:ext cx="207144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μ</m:t>
                            </m:r>
                            <m:r>
                              <m:t xml:space="preserve">⋅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z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28600" y="457200"/>
            <a:ext cx="8610480" cy="55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las condiciones de bor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= 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(0)= 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Z = 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(L)= 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iempo de residencia, Inverso a la tasa de Di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71484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041640" y="1941480"/>
                <a:ext cx="29066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xo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xf</m:t>
                        </m:r>
                      </m:sup>
                      <m:e/>
                    </m:nary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μ</m:t>
                            </m:r>
                            <m:r>
                              <m:t xml:space="preserve">⋅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L</m:t>
                        </m:r>
                      </m:sup>
                      <m:e/>
                    </m:nary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=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384336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3048120" y="3429000"/>
                <a:ext cx="225252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04920" y="380880"/>
            <a:ext cx="8839080" cy="62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 ecuación será integrable dependiend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velocidad de crecimiento de la biomasa, hay dos cas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e supone que: S &gt;&gt; Ks enton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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onsta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as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e supone que la velocidad de crecimiento tiene una cinética tipo Mon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07664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3467160" y="533520"/>
                <a:ext cx="220968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xo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xf</m:t>
                        </m:r>
                      </m:sup>
                      <m:e/>
                    </m:nary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μ</m:t>
                            </m:r>
                            <m:r>
                              <m:t xml:space="preserve">⋅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412920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200400" y="5715000"/>
                <a:ext cx="137160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s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04920" y="457200"/>
            <a:ext cx="8686800" cy="50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aso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e supone que: S &gt;&gt; Ks entonces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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onst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ecuación (7) queda de la fo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54816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1143000" y="3581280"/>
                <a:ext cx="6324480" cy="16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xo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xf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</m:den>
                        </m:f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6629400" y="914400"/>
                <a:ext cx="137160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s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43080" y="228600"/>
            <a:ext cx="8458200" cy="53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aso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e supone que la velocidad de crecimiento tiene una cinética tipo Mon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ecuación (7) queda de la for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ando que el yield (rendimiento) se puede expresar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0060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3048120" y="2209680"/>
                <a:ext cx="23335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xo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xf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s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36385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2438280" y="4267080"/>
                <a:ext cx="4648320" cy="13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rPr>
                        <m:lit/>
                        <m:nor/>
                      </m:rPr>
                      <m:t xml:space="preserve">t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343080" y="228600"/>
            <a:ext cx="84582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emplazando e Integrando la ecuación (9) queda de la forma (PROBARLO, Ejercicio Opcion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90060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44332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533520" y="2135160"/>
                <a:ext cx="830556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Ks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x</m:t>
                                        </m:r>
                                      </m:num>
                                      <m:den>
                                        <m:r>
                                          <m:t xml:space="preserve">s</m:t>
                                        </m:r>
                                      </m:den>
                                    </m:f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x</m:t>
                                        </m:r>
                                      </m:num>
                                      <m:den>
                                        <m:r>
                                          <m:t xml:space="preserve">s</m:t>
                                        </m:r>
                                      </m:den>
                                    </m:f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Ks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x</m:t>
                                        </m:r>
                                      </m:num>
                                      <m:den>
                                        <m:r>
                                          <m:t xml:space="preserve">s</m:t>
                                        </m:r>
                                      </m:den>
                                    </m:f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x</m:t>
                                        </m:r>
                                      </m:num>
                                      <m:den>
                                        <m:r>
                                          <m:t xml:space="preserve">s</m:t>
                                        </m:r>
                                      </m:den>
                                    </m:f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80880" y="1066680"/>
            <a:ext cx="838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os </a:t>
            </a:r>
            <a:r>
              <a:rPr b="1" lang="es-ES" sz="2000" spc="-1" strike="noStrike" u="sng">
                <a:solidFill>
                  <a:srgbClr val="ff0000"/>
                </a:solidFill>
                <a:uFillTx/>
                <a:latin typeface="Times New Roman"/>
              </a:rPr>
              <a:t>fermentadores flujo pist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pueden ser aproximados por una cascada de </a:t>
            </a:r>
            <a:r>
              <a:rPr b="1" lang="es-ES" sz="2000" spc="-1" strike="noStrike" u="sng">
                <a:solidFill>
                  <a:srgbClr val="ff0000"/>
                </a:solidFill>
                <a:uFillTx/>
                <a:latin typeface="Times New Roman"/>
              </a:rPr>
              <a:t>fermentadores continuos perfectamente agitado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 Que son más fáciles de oper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371600" y="2057400"/>
          <a:ext cx="6324480" cy="32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057400"/>
                    <a:ext cx="6324480" cy="32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04920" y="838080"/>
            <a:ext cx="845820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 se tiene un microorganismo que sigue una cinética del tipo Monod, con los siguientes paráme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 0,7 hr 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K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 5 g/l    Y 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x/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 0,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flujo de alimentación es de 500 l/hr con 85 g/l de sustrato, la concentración de sustrato y biomasa a la salida debe ser de 5 g/l y 52 g/l respectiva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) Si se utiliza un fermentador perfectamente agitado (Utilice la configuración óptima), seguido de un flujo pistón ¿Qué tamaño debe tener cada uno de los fermentador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762120" y="4038480"/>
            <a:ext cx="7162200" cy="2649600"/>
            <a:chOff x="762120" y="4038480"/>
            <a:chExt cx="7162200" cy="2649600"/>
          </a:xfrm>
        </p:grpSpPr>
        <p:grpSp>
          <p:nvGrpSpPr>
            <p:cNvPr id="313" name=""/>
            <p:cNvGrpSpPr/>
            <p:nvPr/>
          </p:nvGrpSpPr>
          <p:grpSpPr>
            <a:xfrm>
              <a:off x="762120" y="4038480"/>
              <a:ext cx="3047400" cy="2649600"/>
              <a:chOff x="762120" y="4038480"/>
              <a:chExt cx="3047400" cy="2649600"/>
            </a:xfrm>
          </p:grpSpPr>
          <p:grpSp>
            <p:nvGrpSpPr>
              <p:cNvPr id="314" name=""/>
              <p:cNvGrpSpPr/>
              <p:nvPr/>
            </p:nvGrpSpPr>
            <p:grpSpPr>
              <a:xfrm>
                <a:off x="1143000" y="4459320"/>
                <a:ext cx="2208960" cy="1142280"/>
                <a:chOff x="1143000" y="4459320"/>
                <a:chExt cx="2208960" cy="114228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1671120" y="4776120"/>
                  <a:ext cx="1133280" cy="825480"/>
                </a:xfrm>
                <a:prstGeom prst="can">
                  <a:avLst>
                    <a:gd name="adj" fmla="val 25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2237760" y="4459320"/>
                  <a:ext cx="0" cy="9518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1953720" y="5347440"/>
                  <a:ext cx="283680" cy="63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2237760" y="5347440"/>
                  <a:ext cx="282240" cy="63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1143000" y="5000400"/>
                  <a:ext cx="68544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2666520" y="5361120"/>
                  <a:ext cx="68544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1" name=""/>
              <p:cNvSpPr/>
              <p:nvPr/>
            </p:nvSpPr>
            <p:spPr>
              <a:xfrm>
                <a:off x="762120" y="4579560"/>
                <a:ext cx="838080" cy="91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6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Times New Roman"/>
                  </a:rPr>
                  <a:t>F=500l/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s-E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r>
                  <a:rPr b="0" lang="es-ES" sz="1000" spc="-1" strike="noStrike">
                    <a:solidFill>
                      <a:srgbClr val="000000"/>
                    </a:solidFill>
                    <a:latin typeface="Times New Roman"/>
                  </a:rPr>
                  <a:t>=85 g/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971800" y="4941720"/>
                <a:ext cx="837720" cy="174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45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5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5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s-E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5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s-E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5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lang="es-E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514600" y="4038480"/>
                <a:ext cx="8377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 rot="16200000">
              <a:off x="5055120" y="4088160"/>
              <a:ext cx="480960" cy="2666880"/>
            </a:xfrm>
            <a:prstGeom prst="can">
              <a:avLst>
                <a:gd name="adj" fmla="val 25000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24080" y="5361480"/>
              <a:ext cx="1294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629400" y="5421240"/>
              <a:ext cx="609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162560" y="5060520"/>
              <a:ext cx="761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4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F=500l/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=5g/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=52g/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228600" y="5867280"/>
                <a:ext cx="220968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óptim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Ks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Ks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228600" y="533520"/>
            <a:ext cx="8153280" cy="7146000"/>
            <a:chOff x="228600" y="533520"/>
            <a:chExt cx="8153280" cy="7146000"/>
          </a:xfrm>
        </p:grpSpPr>
        <p:grpSp>
          <p:nvGrpSpPr>
            <p:cNvPr id="61" name=""/>
            <p:cNvGrpSpPr/>
            <p:nvPr/>
          </p:nvGrpSpPr>
          <p:grpSpPr>
            <a:xfrm>
              <a:off x="228600" y="533520"/>
              <a:ext cx="6705360" cy="7146000"/>
              <a:chOff x="228600" y="533520"/>
              <a:chExt cx="6705360" cy="7146000"/>
            </a:xfrm>
          </p:grpSpPr>
          <p:sp>
            <p:nvSpPr>
              <p:cNvPr id="62" name=""/>
              <p:cNvSpPr/>
              <p:nvPr/>
            </p:nvSpPr>
            <p:spPr>
              <a:xfrm>
                <a:off x="2361960" y="533520"/>
                <a:ext cx="4572000" cy="15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 u="sng">
                    <a:solidFill>
                      <a:srgbClr val="ff0000"/>
                    </a:solidFill>
                    <a:uFillTx/>
                    <a:latin typeface="Times New Roman"/>
                  </a:rPr>
                  <a:t>Producción de Biomas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600" y="990360"/>
                <a:ext cx="4647960" cy="668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 u="sng">
                    <a:solidFill>
                      <a:srgbClr val="ff0000"/>
                    </a:solidFill>
                    <a:uFillTx/>
                    <a:latin typeface="Times New Roman"/>
                  </a:rPr>
                  <a:t>Tiempo de un Fermentador Batc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s-ES" sz="1800" spc="-1" strike="noStrike" baseline="-25000">
                    <a:solidFill>
                      <a:srgbClr val="3333cc"/>
                    </a:solidFill>
                    <a:latin typeface="Times New Roman"/>
                  </a:rPr>
                  <a:t>o</a:t>
                </a:r>
                <a:r>
                  <a:rPr b="0" lang="es-ES" sz="1800" spc="-1" strike="noStrike">
                    <a:solidFill>
                      <a:srgbClr val="3333cc"/>
                    </a:solidFill>
                    <a:latin typeface="Times New Roman"/>
                  </a:rPr>
                  <a:t>: Tiempo de Cosech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s-ES" sz="1800" spc="-1" strike="noStrike" baseline="-25000">
                    <a:solidFill>
                      <a:srgbClr val="3333cc"/>
                    </a:solidFill>
                    <a:latin typeface="Times New Roman"/>
                  </a:rPr>
                  <a:t>1</a:t>
                </a:r>
                <a:r>
                  <a:rPr b="0" lang="es-ES" sz="1800" spc="-1" strike="noStrike">
                    <a:solidFill>
                      <a:srgbClr val="3333cc"/>
                    </a:solidFill>
                    <a:latin typeface="Times New Roman"/>
                  </a:rPr>
                  <a:t>: Tiempo en el cual se debe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3333cc"/>
                    </a:solidFill>
                    <a:latin typeface="Times New Roman"/>
                  </a:rPr>
                  <a:t>        </a:t>
                </a:r>
                <a:r>
                  <a:rPr b="0" lang="es-ES" sz="1800" spc="-1" strike="noStrike">
                    <a:solidFill>
                      <a:srgbClr val="3333cc"/>
                    </a:solidFill>
                    <a:latin typeface="Times New Roman"/>
                  </a:rPr>
                  <a:t>preparar el batc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s-ES" sz="1800" spc="-1" strike="noStrike" baseline="-25000">
                    <a:solidFill>
                      <a:srgbClr val="3333cc"/>
                    </a:solidFill>
                    <a:latin typeface="Times New Roman"/>
                  </a:rPr>
                  <a:t>2</a:t>
                </a:r>
                <a:r>
                  <a:rPr b="0" lang="es-ES" sz="1800" spc="-1" strike="noStrike">
                    <a:solidFill>
                      <a:srgbClr val="3333cc"/>
                    </a:solidFill>
                    <a:latin typeface="Times New Roman"/>
                  </a:rPr>
                  <a:t>: Etapa de latenci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s-ES" sz="1800" spc="-1" strike="noStrike" baseline="-25000">
                    <a:solidFill>
                      <a:srgbClr val="3333cc"/>
                    </a:solidFill>
                    <a:latin typeface="Times New Roman"/>
                  </a:rPr>
                  <a:t>g</a:t>
                </a:r>
                <a:r>
                  <a:rPr b="0" lang="es-ES" sz="1800" spc="-1" strike="noStrike">
                    <a:solidFill>
                      <a:srgbClr val="3333cc"/>
                    </a:solidFill>
                    <a:latin typeface="Times New Roman"/>
                  </a:rPr>
                  <a:t>: Tiempo de crecimient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s-ES" sz="1800" spc="-1" strike="noStrike" baseline="-25000">
                    <a:solidFill>
                      <a:srgbClr val="3333cc"/>
                    </a:solidFill>
                    <a:latin typeface="Times New Roman"/>
                  </a:rPr>
                  <a:t>b: </a:t>
                </a:r>
                <a:r>
                  <a:rPr b="0" lang="es-ES" sz="1800" spc="-1" strike="noStrike">
                    <a:solidFill>
                      <a:srgbClr val="3333cc"/>
                    </a:solidFill>
                    <a:latin typeface="Times New Roman"/>
                  </a:rPr>
                  <a:t>Tiempo total del batc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s-ES" sz="2400" spc="-1" strike="noStrike" baseline="-25000">
                    <a:solidFill>
                      <a:srgbClr val="3333cc"/>
                    </a:solidFill>
                    <a:latin typeface="Times New Roman"/>
                  </a:rPr>
                  <a:t>b</a:t>
                </a:r>
                <a:r>
                  <a:rPr b="0" lang="es-ES" sz="2400" spc="-1" strike="noStrike">
                    <a:solidFill>
                      <a:srgbClr val="3333cc"/>
                    </a:solidFill>
                    <a:latin typeface="Times New Roman"/>
                  </a:rPr>
                  <a:t> = T</a:t>
                </a:r>
                <a:r>
                  <a:rPr b="0" lang="es-ES" sz="2400" spc="-1" strike="noStrike" baseline="-25000">
                    <a:solidFill>
                      <a:srgbClr val="3333cc"/>
                    </a:solidFill>
                    <a:latin typeface="Times New Roman"/>
                  </a:rPr>
                  <a:t>g</a:t>
                </a:r>
                <a:r>
                  <a:rPr b="0" lang="es-ES" sz="2400" spc="-1" strike="noStrike">
                    <a:solidFill>
                      <a:srgbClr val="3333cc"/>
                    </a:solidFill>
                    <a:latin typeface="Times New Roman"/>
                  </a:rPr>
                  <a:t> + T</a:t>
                </a:r>
                <a:r>
                  <a:rPr b="0" lang="es-ES" sz="2400" spc="-1" strike="noStrike" baseline="-25000">
                    <a:solidFill>
                      <a:srgbClr val="3333cc"/>
                    </a:solidFill>
                    <a:latin typeface="Times New Roman"/>
                  </a:rPr>
                  <a:t>o</a:t>
                </a:r>
                <a:r>
                  <a:rPr b="0" lang="es-ES" sz="2400" spc="-1" strike="noStrike">
                    <a:solidFill>
                      <a:srgbClr val="3333cc"/>
                    </a:solidFill>
                    <a:latin typeface="Times New Roman"/>
                  </a:rPr>
                  <a:t>+T</a:t>
                </a:r>
                <a:r>
                  <a:rPr b="0" lang="es-ES" sz="2400" spc="-1" strike="noStrike" baseline="-25000">
                    <a:solidFill>
                      <a:srgbClr val="3333cc"/>
                    </a:solidFill>
                    <a:latin typeface="Times New Roman"/>
                  </a:rPr>
                  <a:t>1</a:t>
                </a:r>
                <a:r>
                  <a:rPr b="0" lang="es-ES" sz="2400" spc="-1" strike="noStrike">
                    <a:solidFill>
                      <a:srgbClr val="3333cc"/>
                    </a:solidFill>
                    <a:latin typeface="Times New Roman"/>
                  </a:rPr>
                  <a:t>+T</a:t>
                </a:r>
                <a:r>
                  <a:rPr b="0" lang="es-ES" sz="2400" spc="-1" strike="noStrike" baseline="-25000">
                    <a:solidFill>
                      <a:srgbClr val="3333cc"/>
                    </a:solidFill>
                    <a:latin typeface="Times New Roman"/>
                  </a:rPr>
                  <a:t>2 </a:t>
                </a:r>
                <a:r>
                  <a:rPr b="0" lang="es-ES" sz="2400" spc="-1" strike="noStrike">
                    <a:solidFill>
                      <a:srgbClr val="3333cc"/>
                    </a:solidFill>
                    <a:latin typeface="Times New Roman"/>
                  </a:rPr>
                  <a:t>= T</a:t>
                </a:r>
                <a:r>
                  <a:rPr b="0" lang="es-ES" sz="2400" spc="-1" strike="noStrike" baseline="-25000">
                    <a:solidFill>
                      <a:srgbClr val="3333cc"/>
                    </a:solidFill>
                    <a:latin typeface="Times New Roman"/>
                  </a:rPr>
                  <a:t>g</a:t>
                </a:r>
                <a:r>
                  <a:rPr b="0" lang="es-ES" sz="2400" spc="-1" strike="noStrike">
                    <a:solidFill>
                      <a:srgbClr val="3333cc"/>
                    </a:solidFill>
                    <a:latin typeface="Times New Roman"/>
                  </a:rPr>
                  <a:t> + T</a:t>
                </a:r>
                <a:r>
                  <a:rPr b="0" lang="es-ES" sz="2400" spc="-1" strike="noStrike" baseline="-25000">
                    <a:solidFill>
                      <a:srgbClr val="3333cc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r>
                  <a:rPr b="0" lang="es-ES" sz="2400" spc="-1" strike="noStrike" baseline="-25000">
                    <a:solidFill>
                      <a:srgbClr val="3333cc"/>
                    </a:solidFill>
                    <a:latin typeface="Times New Roman"/>
                  </a:rPr>
                  <a:t>d</a:t>
                </a:r>
                <a:r>
                  <a:rPr b="0" lang="es-ES" sz="2400" spc="-1" strike="noStrike">
                    <a:solidFill>
                      <a:srgbClr val="3333cc"/>
                    </a:solidFill>
                    <a:latin typeface="Times New Roman"/>
                  </a:rPr>
                  <a:t> = T</a:t>
                </a:r>
                <a:r>
                  <a:rPr b="0" lang="es-ES" sz="2400" spc="-1" strike="noStrike" baseline="-25000">
                    <a:solidFill>
                      <a:srgbClr val="3333cc"/>
                    </a:solidFill>
                    <a:latin typeface="Times New Roman"/>
                  </a:rPr>
                  <a:t>o</a:t>
                </a:r>
                <a:r>
                  <a:rPr b="0" lang="es-ES" sz="2400" spc="-1" strike="noStrike">
                    <a:solidFill>
                      <a:srgbClr val="3333cc"/>
                    </a:solidFill>
                    <a:latin typeface="Times New Roman"/>
                  </a:rPr>
                  <a:t>+T</a:t>
                </a:r>
                <a:r>
                  <a:rPr b="0" lang="es-ES" sz="2400" spc="-1" strike="noStrike" baseline="-25000">
                    <a:solidFill>
                      <a:srgbClr val="3333cc"/>
                    </a:solidFill>
                    <a:latin typeface="Times New Roman"/>
                  </a:rPr>
                  <a:t>1</a:t>
                </a:r>
                <a:r>
                  <a:rPr b="0" lang="es-ES" sz="2400" spc="-1" strike="noStrike">
                    <a:solidFill>
                      <a:srgbClr val="3333cc"/>
                    </a:solidFill>
                    <a:latin typeface="Times New Roman"/>
                  </a:rPr>
                  <a:t>+T</a:t>
                </a:r>
                <a:r>
                  <a:rPr b="0" lang="es-ES" sz="2400" spc="-1" strike="noStrike" baseline="-25000">
                    <a:solidFill>
                      <a:srgbClr val="3333cc"/>
                    </a:solidFill>
                    <a:latin typeface="Times New Roman"/>
                  </a:rPr>
                  <a:t>2 </a:t>
                </a:r>
                <a:r>
                  <a:rPr b="0" lang="es-ES" sz="2400" spc="-1" strike="noStrike">
                    <a:solidFill>
                      <a:srgbClr val="3333cc"/>
                    </a:solidFill>
                    <a:latin typeface="Times New Roman"/>
                  </a:rPr>
                  <a:t>: Downtim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64" name=""/>
            <p:cNvGraphicFramePr/>
            <p:nvPr/>
          </p:nvGraphicFramePr>
          <p:xfrm>
            <a:off x="3809880" y="1523880"/>
            <a:ext cx="4572000" cy="3250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9880" y="1523880"/>
                      <a:ext cx="4572000" cy="325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981080" y="1523880"/>
                <a:ext cx="598644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533520" y="53352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Balance de Biomasa en un fermentador B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3048120"/>
            <a:ext cx="7086600" cy="15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Supuest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o hay flujos de entrada ni salida, Fe = Fs = 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olumen Cons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Velocidad de muerte despreciable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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3520" y="53352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Balance de Biomasa en un fermentador B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427560" y="1905120"/>
                <a:ext cx="114444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1" name=""/>
          <p:cNvGrpSpPr/>
          <p:nvPr/>
        </p:nvGrpSpPr>
        <p:grpSpPr>
          <a:xfrm>
            <a:off x="762120" y="3017880"/>
            <a:ext cx="4343400" cy="825480"/>
            <a:chOff x="762120" y="3017880"/>
            <a:chExt cx="4343400" cy="825480"/>
          </a:xfrm>
        </p:grpSpPr>
        <p:sp>
          <p:nvSpPr>
            <p:cNvPr id="72" name=""/>
            <p:cNvSpPr/>
            <p:nvPr/>
          </p:nvSpPr>
          <p:spPr>
            <a:xfrm>
              <a:off x="762120" y="3017880"/>
              <a:ext cx="251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Suponiendo que   </a:t>
              </a:r>
              <a:r>
                <a:rPr b="0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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es consta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" name=""/>
                <p:cNvSpPr txBox="1"/>
                <p:nvPr/>
              </p:nvSpPr>
              <p:spPr>
                <a:xfrm>
                  <a:off x="3353040" y="3093840"/>
                  <a:ext cx="1752480" cy="56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⋅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(</m:t>
                          </m:r>
                          <m:r>
                            <m:t xml:space="preserve">μ</m:t>
                          </m:r>
                          <m:r>
                            <m:t xml:space="preserve">⋅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4" name=""/>
          <p:cNvGrpSpPr/>
          <p:nvPr/>
        </p:nvGrpSpPr>
        <p:grpSpPr>
          <a:xfrm>
            <a:off x="838080" y="4191120"/>
            <a:ext cx="4330800" cy="1058760"/>
            <a:chOff x="838080" y="4191120"/>
            <a:chExt cx="4330800" cy="1058760"/>
          </a:xfrm>
        </p:grpSpPr>
        <mc:AlternateContent>
          <mc:Choice xmlns:a14="http://schemas.microsoft.com/office/drawing/2010/main" Requires="a14">
            <p:sp>
              <p:nvSpPr>
                <p:cNvPr id="75" name=""/>
                <p:cNvSpPr txBox="1"/>
                <p:nvPr/>
              </p:nvSpPr>
              <p:spPr>
                <a:xfrm>
                  <a:off x="3657600" y="4419720"/>
                  <a:ext cx="1511280" cy="83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μ</m:t>
                          </m:r>
                        </m:den>
                      </m:f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ln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6" name=""/>
            <p:cNvSpPr/>
            <p:nvPr/>
          </p:nvSpPr>
          <p:spPr>
            <a:xfrm>
              <a:off x="838080" y="4191120"/>
              <a:ext cx="2590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Evaluando en t = t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09480" y="5181480"/>
            <a:ext cx="5181840" cy="1258920"/>
            <a:chOff x="609480" y="5181480"/>
            <a:chExt cx="5181840" cy="1258920"/>
          </a:xfrm>
        </p:grpSpPr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3581280" y="5486400"/>
                  <a:ext cx="2210040" cy="95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μ</m:t>
                          </m:r>
                        </m:den>
                      </m:f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ln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r>
                        <m:t xml:space="preserve">+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9" name=""/>
            <p:cNvSpPr/>
            <p:nvPr/>
          </p:nvSpPr>
          <p:spPr>
            <a:xfrm>
              <a:off x="609480" y="518148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Tiempo total del bat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4572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Tiempo de un fermentador contin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685800" y="1066680"/>
            <a:ext cx="6933960" cy="1346040"/>
            <a:chOff x="685800" y="1066680"/>
            <a:chExt cx="6933960" cy="1346040"/>
          </a:xfrm>
        </p:grpSpPr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2133360" y="1652400"/>
                  <a:ext cx="503712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μ</m:t>
                      </m:r>
                      <m:r>
                        <m:t xml:space="preserve">⋅</m:t>
                      </m:r>
                      <m:r>
                        <m:t xml:space="preserve">x</m:t>
                      </m:r>
                      <m:r>
                        <m:t xml:space="preserve">⋅</m:t>
                      </m:r>
                      <m:r>
                        <m:t xml:space="preserve">V</m:t>
                      </m:r>
                      <m:r>
                        <m:t xml:space="preserve">−</m:t>
                      </m:r>
                      <m:r>
                        <m:t xml:space="preserve">α</m:t>
                      </m:r>
                      <m:r>
                        <m:t xml:space="preserve">⋅</m:t>
                      </m:r>
                      <m:r>
                        <m:t xml:space="preserve">x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/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d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⋅</m:t>
                          </m:r>
                          <m:r>
                            <m:t xml:space="preserve">V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3" name=""/>
            <p:cNvSpPr/>
            <p:nvPr/>
          </p:nvSpPr>
          <p:spPr>
            <a:xfrm>
              <a:off x="685800" y="1066680"/>
              <a:ext cx="6933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0000"/>
                  </a:solidFill>
                  <a:latin typeface="Times New Roman"/>
                </a:rPr>
                <a:t>Balance de Biomasa en un fermentador Continuo perfectamente agita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57200" y="2286000"/>
            <a:ext cx="8001000" cy="2103480"/>
            <a:chOff x="457200" y="2286000"/>
            <a:chExt cx="8001000" cy="2103480"/>
          </a:xfrm>
        </p:grpSpPr>
        <p:sp>
          <p:nvSpPr>
            <p:cNvPr id="85" name=""/>
            <p:cNvSpPr/>
            <p:nvPr/>
          </p:nvSpPr>
          <p:spPr>
            <a:xfrm>
              <a:off x="457200" y="2286000"/>
              <a:ext cx="8001000" cy="162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Supuesto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60000"/>
                </a:lnSpc>
                <a:spcBef>
                  <a:spcPts val="1125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La alimentación y la salida tiene una concentración 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Times New Roman"/>
                </a:rPr>
                <a:t>o 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y x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60000"/>
                </a:lnSpc>
                <a:spcBef>
                  <a:spcPts val="1125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Velocidad de muerte despreciable </a:t>
              </a:r>
              <a:r>
                <a:rPr b="0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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60000"/>
                </a:lnSpc>
                <a:spcBef>
                  <a:spcPts val="1125"/>
                </a:spcBef>
                <a:buClr>
                  <a:srgbClr val="000000"/>
                </a:buClr>
                <a:buFont typeface="Symbol" charset="2"/>
                <a:buChar char="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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stado estacionar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2286000" y="3886200"/>
                  <a:ext cx="360036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F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μ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V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662200" y="4648320"/>
                <a:ext cx="31510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803760" y="5433840"/>
                <a:ext cx="264960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=</m:t>
                    </m:r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304920" y="5410080"/>
            <a:ext cx="2895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Tiempo de residencia, </a:t>
            </a:r>
            <a:r>
              <a:rPr b="1" lang="es-ES" sz="2400" spc="-1" strike="noStrike">
                <a:solidFill>
                  <a:srgbClr val="ff0000"/>
                </a:solidFill>
                <a:latin typeface="Symbol"/>
                <a:ea typeface="Symbol"/>
              </a:rPr>
              <a:t>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90720" y="5335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mparando los tiem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752480" y="1295280"/>
                <a:ext cx="2340000" cy="16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μ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2" name=""/>
          <p:cNvGrpSpPr/>
          <p:nvPr/>
        </p:nvGrpSpPr>
        <p:grpSpPr>
          <a:xfrm>
            <a:off x="1371600" y="1600200"/>
            <a:ext cx="6248520" cy="3022560"/>
            <a:chOff x="1371600" y="1600200"/>
            <a:chExt cx="6248520" cy="3022560"/>
          </a:xfrm>
        </p:grpSpPr>
        <p:sp>
          <p:nvSpPr>
            <p:cNvPr id="93" name=""/>
            <p:cNvSpPr/>
            <p:nvPr/>
          </p:nvSpPr>
          <p:spPr>
            <a:xfrm>
              <a:off x="5105520" y="1600200"/>
              <a:ext cx="251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Si se desprecia t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1371600" y="3048120"/>
                  <a:ext cx="1411200" cy="15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r>
                            <m:t xml:space="preserve">(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5" name=""/>
          <p:cNvGrpSpPr/>
          <p:nvPr/>
        </p:nvGrpSpPr>
        <p:grpSpPr>
          <a:xfrm>
            <a:off x="4267080" y="3733920"/>
            <a:ext cx="3751560" cy="1114200"/>
            <a:chOff x="4267080" y="3733920"/>
            <a:chExt cx="3751560" cy="1114200"/>
          </a:xfrm>
        </p:grpSpPr>
        <p:sp>
          <p:nvSpPr>
            <p:cNvPr id="96" name=""/>
            <p:cNvSpPr/>
            <p:nvPr/>
          </p:nvSpPr>
          <p:spPr>
            <a:xfrm>
              <a:off x="4267080" y="373392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Recordando que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6954840" y="3736800"/>
                  <a:ext cx="1063800" cy="111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r>
                            <m:t xml:space="preserve">(</m:t>
                          </m:r>
                          <m:r>
                            <m:t xml:space="preserve">y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y</m:t>
                              </m:r>
                            </m:den>
                          </m:f>
                        </m:den>
                      </m:f>
                      <m:r>
                        <m:t xml:space="preserve">&g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762120" y="5041800"/>
                <a:ext cx="235908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r>
                      <m:t xml:space="preserve">1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3657600" y="480060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cultivo batch toma más tiempo, se recomienda para el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ultivo de biomas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CULTIVOS CONTINUOS PERFECTAMENTE AGIT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90720" y="3049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n base a la producción d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990720"/>
            <a:ext cx="784836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n términos generales la velocidad de formación de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 puede expresar como:     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 = f 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114800" y="2286000"/>
            <a:ext cx="5257800" cy="4351320"/>
            <a:chOff x="4114800" y="2286000"/>
            <a:chExt cx="5257800" cy="4351320"/>
          </a:xfrm>
        </p:grpSpPr>
        <p:sp>
          <p:nvSpPr>
            <p:cNvPr id="103" name=""/>
            <p:cNvSpPr/>
            <p:nvPr/>
          </p:nvSpPr>
          <p:spPr>
            <a:xfrm>
              <a:off x="4114800" y="2286000"/>
              <a:ext cx="5257800" cy="17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b) </a:t>
              </a:r>
              <a:r>
                <a:rPr b="1" lang="es-ES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Reacción autocatalít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La </a:t>
              </a:r>
              <a:r>
                <a:rPr b="1" lang="es-E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velocidad crece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a medida que </a:t>
              </a:r>
              <a:r>
                <a:rPr b="1" lang="es-E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umenta la presencia de C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, la reacción se hace más rápida y es típica del </a:t>
              </a:r>
              <a:r>
                <a:rPr b="1" lang="es-E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recimiento celular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o </a:t>
              </a:r>
              <a:r>
                <a:rPr b="1" lang="es-E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roductos relacionados con el crecimi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4" name=""/>
            <p:cNvGraphicFramePr/>
            <p:nvPr/>
          </p:nvGraphicFramePr>
          <p:xfrm>
            <a:off x="5181480" y="4191120"/>
            <a:ext cx="2819520" cy="2446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81480" y="4191120"/>
                      <a:ext cx="2819520" cy="244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6" name=""/>
          <p:cNvGrpSpPr/>
          <p:nvPr/>
        </p:nvGrpSpPr>
        <p:grpSpPr>
          <a:xfrm>
            <a:off x="304920" y="2362320"/>
            <a:ext cx="4267080" cy="4289400"/>
            <a:chOff x="304920" y="2362320"/>
            <a:chExt cx="4267080" cy="4289400"/>
          </a:xfrm>
        </p:grpSpPr>
        <p:sp>
          <p:nvSpPr>
            <p:cNvPr id="107" name=""/>
            <p:cNvSpPr/>
            <p:nvPr/>
          </p:nvSpPr>
          <p:spPr>
            <a:xfrm>
              <a:off x="304920" y="2362320"/>
              <a:ext cx="4267080" cy="12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500"/>
                </a:spcBef>
                <a:buClr>
                  <a:srgbClr val="ff0000"/>
                </a:buClr>
                <a:buFont typeface="Times New Roman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Típica reacción quím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La </a:t>
              </a:r>
              <a:r>
                <a:rPr b="1" lang="es-E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velocidad decrece</a:t>
              </a: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 a medida que </a:t>
              </a:r>
              <a:r>
                <a:rPr b="0" lang="es-E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umenta la presencia de 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8" name=""/>
            <p:cNvGraphicFramePr/>
            <p:nvPr/>
          </p:nvGraphicFramePr>
          <p:xfrm>
            <a:off x="533520" y="4038480"/>
            <a:ext cx="3047760" cy="2613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520" y="4038480"/>
                      <a:ext cx="3047760" cy="261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362320" y="533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n reactores B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12952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alance para un producto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478240" y="1774800"/>
                <a:ext cx="34336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609480" y="259092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2362320"/>
            <a:ext cx="7086600" cy="20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Supuest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o hay flujos de entrada ni salida, Fe = Fs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Volumen cons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= f 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to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295280" y="4267080"/>
                <a:ext cx="146556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6" name=""/>
          <p:cNvGrpSpPr/>
          <p:nvPr/>
        </p:nvGrpSpPr>
        <p:grpSpPr>
          <a:xfrm>
            <a:off x="380880" y="5105520"/>
            <a:ext cx="2189160" cy="1455480"/>
            <a:chOff x="380880" y="5105520"/>
            <a:chExt cx="2189160" cy="1455480"/>
          </a:xfrm>
        </p:grpSpPr>
        <p:sp>
          <p:nvSpPr>
            <p:cNvPr id="117" name=""/>
            <p:cNvSpPr/>
            <p:nvPr/>
          </p:nvSpPr>
          <p:spPr>
            <a:xfrm>
              <a:off x="380880" y="51055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Integran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1219320" y="5638680"/>
                  <a:ext cx="1350720" cy="92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sub>
                        <m:sup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p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num>
                            <m:den>
                              <m:r>
                                <m:t xml:space="preserve">f</m:t>
                              </m:r>
                              <m:r>
                                <m:t xml:space="preserve">(</m:t>
                              </m:r>
                              <m:r>
                                <m:t xml:space="preserve">C</m:t>
                              </m:r>
                              <m:r>
                                <m:t xml:space="preserve">)</m:t>
                              </m:r>
                            </m:den>
                          </m:f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9" name=""/>
          <p:cNvGrpSpPr/>
          <p:nvPr/>
        </p:nvGrpSpPr>
        <p:grpSpPr>
          <a:xfrm>
            <a:off x="7005600" y="380880"/>
            <a:ext cx="1681200" cy="1981440"/>
            <a:chOff x="7005600" y="380880"/>
            <a:chExt cx="1681200" cy="1981440"/>
          </a:xfrm>
        </p:grpSpPr>
        <p:grpSp>
          <p:nvGrpSpPr>
            <p:cNvPr id="120" name=""/>
            <p:cNvGrpSpPr/>
            <p:nvPr/>
          </p:nvGrpSpPr>
          <p:grpSpPr>
            <a:xfrm>
              <a:off x="7005600" y="914400"/>
              <a:ext cx="1133640" cy="1447920"/>
              <a:chOff x="7005600" y="914400"/>
              <a:chExt cx="1133640" cy="1447920"/>
            </a:xfrm>
          </p:grpSpPr>
          <p:sp>
            <p:nvSpPr>
              <p:cNvPr id="121" name=""/>
              <p:cNvSpPr/>
              <p:nvPr/>
            </p:nvSpPr>
            <p:spPr>
              <a:xfrm>
                <a:off x="7005600" y="1316160"/>
                <a:ext cx="1133640" cy="1046160"/>
              </a:xfrm>
              <a:prstGeom prst="can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572240" y="914400"/>
                <a:ext cx="0" cy="1206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288200" y="2039760"/>
                <a:ext cx="28404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572240" y="2039760"/>
                <a:ext cx="282600" cy="81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7848720" y="380880"/>
              <a:ext cx="8380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C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6" name=""/>
          <p:cNvGraphicFramePr/>
          <p:nvPr/>
        </p:nvGraphicFramePr>
        <p:xfrm>
          <a:off x="6324480" y="3581280"/>
          <a:ext cx="2390760" cy="234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3581280"/>
                    <a:ext cx="239076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3733920" y="3581280"/>
          <a:ext cx="2361960" cy="230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3581280"/>
                    <a:ext cx="2361960" cy="23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8T09:44:33Z</dcterms:created>
  <dc:creator>Maria Elena Lienqueo C.</dc:creator>
  <dc:description/>
  <dc:language>en-US</dc:language>
  <cp:lastModifiedBy>Maria Elena Lienqueo C.</cp:lastModifiedBy>
  <dcterms:modified xsi:type="dcterms:W3CDTF">2005-05-17T16:23:54Z</dcterms:modified>
  <cp:revision>58</cp:revision>
  <dc:subject/>
  <dc:title>Cultivo Continuo</dc:title>
</cp:coreProperties>
</file>