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8763-9093-488F-82DF-1A558B627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5107-F49A-4CCF-8E18-E0A4838D6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FECE-8438-4874-B6B0-E26E60934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5721-8C16-4E13-915A-1A52F52B6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D13B-E403-43B8-8978-1F8ADE41B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7759-20D0-4D49-AA21-5A1A0C665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D5FE-779F-4422-9FE9-012CA00E4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B645-C40B-4B35-BCF3-96FFB05A1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DDBF-7E2B-4224-B7E1-84BDA73DE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E886-0F06-45CA-B326-1254A42D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42EA-E9C9-4B4E-9E14-0AC556AF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BDC5-E9AB-425A-86AF-0054EE50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FEF67-977E-473C-9904-09529B6175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42960" y="519120"/>
          <a:ext cx="8263080" cy="582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519120"/>
                    <a:ext cx="8263080" cy="58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880920" y="838080"/>
          <a:ext cx="7620120" cy="567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0920" y="838080"/>
                    <a:ext cx="7620120" cy="567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54200" y="655560"/>
          <a:ext cx="8264520" cy="575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55560"/>
                    <a:ext cx="8264520" cy="575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68160" y="890640"/>
          <a:ext cx="8114040" cy="513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890640"/>
                    <a:ext cx="811404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977760" y="668160"/>
          <a:ext cx="7569360" cy="586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7760" y="668160"/>
                    <a:ext cx="7569360" cy="586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125360" y="890640"/>
          <a:ext cx="7669440" cy="529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5360" y="890640"/>
                    <a:ext cx="7669440" cy="52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923760" y="739800"/>
          <a:ext cx="7777440" cy="570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3760" y="739800"/>
                    <a:ext cx="7777440" cy="57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039680" y="668160"/>
          <a:ext cx="773136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668160"/>
                    <a:ext cx="773136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939960" y="717480"/>
          <a:ext cx="7632720" cy="575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717480"/>
                    <a:ext cx="7632720" cy="575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150920" y="1039680"/>
          <a:ext cx="7261200" cy="517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1039680"/>
                    <a:ext cx="7261200" cy="517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915840" y="681120"/>
          <a:ext cx="7953480" cy="572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681120"/>
                    <a:ext cx="7953480" cy="57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915840" y="655560"/>
          <a:ext cx="7458120" cy="637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655560"/>
                    <a:ext cx="7458120" cy="63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4:59:48Z</dcterms:created>
  <dc:creator>jalvarez</dc:creator>
  <dc:description/>
  <dc:language>en-US</dc:language>
  <cp:lastModifiedBy>ahevia</cp:lastModifiedBy>
  <cp:lastPrinted>2005-01-19T15:11:59Z</cp:lastPrinted>
  <dcterms:modified xsi:type="dcterms:W3CDTF">2005-04-08T23:46:52Z</dcterms:modified>
  <cp:revision>11</cp:revision>
  <dc:subject/>
  <dc:title>Sin título de diapositiva</dc:title>
</cp:coreProperties>
</file>