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961-029F-47A5-8D75-E9661B22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FB9-1928-47E8-A18E-D3546F4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285-0265-4F8F-9003-7C331796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D15-0F4D-4198-8998-8405C851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753-1317-480B-9D58-8F7D53CF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8F6-BCF0-4108-9881-96DA71E0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C82-E2FE-4941-B7DE-928533EC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6AA-BD63-4A23-8C86-0EE92831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9E5-810C-4900-92C5-7244C00C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5C7-04A5-4019-BC50-72C6C775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ECC-8386-4B84-B969-EBA9D18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B97-824D-4974-8B49-A18EBD5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D9A6-5ED6-4728-8440-ECBE83D4D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80920" y="838080"/>
          <a:ext cx="7620120" cy="56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838080"/>
                    <a:ext cx="7620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11404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1140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3760" y="739800"/>
          <a:ext cx="777744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739800"/>
                    <a:ext cx="777744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668160"/>
          <a:ext cx="77313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68160"/>
                    <a:ext cx="77313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ahevia</cp:lastModifiedBy>
  <cp:lastPrinted>2005-01-19T15:11:59Z</cp:lastPrinted>
  <dcterms:modified xsi:type="dcterms:W3CDTF">2005-04-08T23:46:52Z</dcterms:modified>
  <cp:revision>11</cp:revision>
  <dc:subject/>
  <dc:title>Sin título de diapositiva</dc:title>
</cp:coreProperties>
</file>