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BC1-BA93-439B-AE4D-22E2FEA9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247-3BCF-4F7E-9491-88656606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6F6-24EF-4A26-9DB3-9BD815DD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C15-A6A2-483E-8BA1-016C7E46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D43-84F6-4E8C-AA6B-C807A386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3A3-535E-407D-8A15-98F75B47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3FC-221A-49D9-A1CC-DECB1AC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658-CDC6-4DD4-894B-3601F822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945-1412-40B8-A9F0-EFFFE834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DE1-2F89-474A-A113-DC68EAC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9C8-BC22-4B79-A831-75AEB007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0B9-BB33-41AF-B967-F5499E94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A142-3A92-4D04-9AF8-057F46AD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80920" y="838080"/>
          <a:ext cx="7620120" cy="567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838080"/>
                    <a:ext cx="7620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11404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1140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3760" y="739800"/>
          <a:ext cx="7777440" cy="57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739800"/>
                    <a:ext cx="7777440" cy="57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668160"/>
          <a:ext cx="77313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68160"/>
                    <a:ext cx="77313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ahevia</cp:lastModifiedBy>
  <cp:lastPrinted>2005-01-19T15:11:59Z</cp:lastPrinted>
  <dcterms:modified xsi:type="dcterms:W3CDTF">2005-04-08T23:46:52Z</dcterms:modified>
  <cp:revision>11</cp:revision>
  <dc:subject/>
  <dc:title>Sin título de diapositiva</dc:title>
</cp:coreProperties>
</file>