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30B1-A1A8-42D4-9A79-9C5276BD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5CE5-6173-40E0-9272-3AF69559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837-B377-4702-8964-5D32E46A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3C26-81DB-4812-B065-600E1F15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F406-8829-41B5-8080-245F4B3F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EBF-A645-4EAD-9FDA-D55F792F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ECA-E05A-4641-B5A4-FE682D37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5DE-9593-49F5-9D36-29AE5007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ECE1-5C6A-4AB2-9E3E-6F3B32C5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316-C918-4D90-B05A-508CEDE2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06D-BDBD-4687-8CE9-47D8849A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FA5-3501-460B-8E3C-636F45E5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08A1-38FE-4238-A55B-CBEF29231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49200" y="965160"/>
          <a:ext cx="72360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965160"/>
                    <a:ext cx="72360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17480" y="841320"/>
          <a:ext cx="81518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841320"/>
                    <a:ext cx="81518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65080" y="692280"/>
          <a:ext cx="758376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92280"/>
                    <a:ext cx="758376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39960" y="717480"/>
          <a:ext cx="741024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4102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076400" y="816120"/>
          <a:ext cx="7372440" cy="52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16120"/>
                    <a:ext cx="737244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41320" y="803160"/>
          <a:ext cx="8028000" cy="572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803160"/>
                    <a:ext cx="8028000" cy="572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92000" y="581040"/>
          <a:ext cx="779328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81040"/>
                    <a:ext cx="779328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5840" y="593640"/>
          <a:ext cx="764388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93640"/>
                    <a:ext cx="764388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27080" y="890640"/>
          <a:ext cx="766908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890640"/>
                    <a:ext cx="76690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uble toDoubl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double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 toInt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toString(i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palindrome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orme(“rada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numerico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numerico(“123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reemplazar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4200" y="681120"/>
          <a:ext cx="804060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804060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2080" y="841320"/>
          <a:ext cx="725004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841320"/>
                    <a:ext cx="725004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1600" y="803160"/>
          <a:ext cx="76564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803160"/>
                    <a:ext cx="76564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878040"/>
          <a:ext cx="74962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78040"/>
                    <a:ext cx="74962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06600" y="692280"/>
          <a:ext cx="82008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008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79400" y="841320"/>
          <a:ext cx="810252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841320"/>
                    <a:ext cx="81025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5-04-01T16:17:47Z</cp:lastPrinted>
  <dcterms:modified xsi:type="dcterms:W3CDTF">2005-04-04T15:22:01Z</dcterms:modified>
  <cp:revision>13</cp:revision>
  <dc:subject/>
  <dc:title>Sin título de diapositiva</dc:title>
</cp:coreProperties>
</file>