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C3A-BA45-41E4-A4A2-F3E92A2E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720-C5B4-41D4-882E-EE1E8297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7FF-4D82-4594-BA89-D608A569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6D9-148E-4C94-9BD8-F44ECEF6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926-12A1-4056-AFAA-63F23B1D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F90-5275-4028-ADD8-80438E6C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DA6-B3FB-4455-8BB2-52D4A773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BF2-A059-454E-80FE-4AAC16FA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722-A54C-4224-BE26-8E44604E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8F47-E9BF-4F56-A666-08883955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2122-CEF5-4359-95B3-1ED52EB8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28D-4DCB-4455-AB9D-0BC1C51A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181C-19CB-4DBC-B437-140C59483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841320"/>
          <a:ext cx="81518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841320"/>
                    <a:ext cx="81518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65080" y="692280"/>
          <a:ext cx="75837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5837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39960" y="717480"/>
          <a:ext cx="741024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4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76400" y="816120"/>
          <a:ext cx="7372440" cy="52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16120"/>
                    <a:ext cx="737244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41320" y="803160"/>
          <a:ext cx="802800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803160"/>
                    <a:ext cx="802800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581040"/>
          <a:ext cx="779328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81040"/>
                    <a:ext cx="779328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593640"/>
          <a:ext cx="764388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93640"/>
                    <a:ext cx="764388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27080" y="890640"/>
          <a:ext cx="76690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90640"/>
                    <a:ext cx="766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uble toDoubl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doubl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toInt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palindrom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orme(“rada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numerico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numerico(“123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reemplazar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4200" y="681120"/>
          <a:ext cx="804060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04060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2080" y="841320"/>
          <a:ext cx="725004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841320"/>
                    <a:ext cx="725004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1600" y="803160"/>
          <a:ext cx="76564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803160"/>
                    <a:ext cx="76564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878040"/>
          <a:ext cx="74962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78040"/>
                    <a:ext cx="74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6600" y="692280"/>
          <a:ext cx="82008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008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79400" y="841320"/>
          <a:ext cx="8102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841320"/>
                    <a:ext cx="8102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5-04-01T16:17:47Z</cp:lastPrinted>
  <dcterms:modified xsi:type="dcterms:W3CDTF">2005-04-04T15:22:01Z</dcterms:modified>
  <cp:revision>13</cp:revision>
  <dc:subject/>
  <dc:title>Sin título de diapositiva</dc:title>
</cp:coreProperties>
</file>