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27C-557E-4996-99A6-DC2E8CFD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6FA-17C0-419A-A4EC-E80ABF20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539-4C7F-41A0-8AD1-93BBE4B5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C9C-818C-4720-BEE4-39878AED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5A4-658E-4576-AC72-B9002CF5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FC0-AD8A-427E-BC65-9DFFECF0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0F6-2367-41D3-A615-C8B2CD9E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2E6-DAD3-44BD-A1F1-4ABDDE31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28F-5584-40AC-91EC-84A0ACE0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0DB-151D-4E6C-8272-EDA7A64F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7A5-D527-4DFC-92C6-9708A75A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F2C-BA77-43AF-8E84-B5A7710D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557B-279E-4E7E-A374-75DF8E9D9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57280" y="506520"/>
          <a:ext cx="8286840" cy="63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06520"/>
                    <a:ext cx="8286840" cy="63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95360"/>
          <a:ext cx="81140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81140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7480" y="407880"/>
          <a:ext cx="81025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407880"/>
                    <a:ext cx="81025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506520"/>
          <a:ext cx="791676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06520"/>
                    <a:ext cx="791676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581280" y="1981080"/>
            <a:ext cx="11430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5909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33526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30360" y="593640"/>
          <a:ext cx="810252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1025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79400" y="531720"/>
          <a:ext cx="804060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31720"/>
                    <a:ext cx="804060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5760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16002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523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560" y="152388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809880" y="16002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30360" y="593640"/>
          <a:ext cx="805320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532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30360" y="593640"/>
          <a:ext cx="78310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78310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730080" y="557280"/>
          <a:ext cx="786780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57280"/>
                    <a:ext cx="786780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93640" y="619200"/>
          <a:ext cx="804060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19200"/>
                    <a:ext cx="804060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531720"/>
          <a:ext cx="849960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31720"/>
                    <a:ext cx="849960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6520" y="519120"/>
          <a:ext cx="84740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740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593640"/>
          <a:ext cx="80038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038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33440"/>
          <a:ext cx="851076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33440"/>
                    <a:ext cx="851076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433440"/>
          <a:ext cx="849960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33440"/>
                    <a:ext cx="849960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7280" y="519120"/>
          <a:ext cx="81388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19120"/>
                    <a:ext cx="81388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2760" y="433440"/>
          <a:ext cx="8399160" cy="72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399160" cy="72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68440" y="506520"/>
          <a:ext cx="83628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3628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3:29:15Z</dcterms:created>
  <dc:creator>jalvarez</dc:creator>
  <dc:description/>
  <dc:language>en-US</dc:language>
  <cp:lastModifiedBy>jalvarez</cp:lastModifiedBy>
  <cp:lastPrinted>2005-10-25T21:27:16Z</cp:lastPrinted>
  <dcterms:modified xsi:type="dcterms:W3CDTF">2005-10-26T12:36:10Z</dcterms:modified>
  <cp:revision>14</cp:revision>
  <dc:subject/>
  <dc:title>Sin título de diapositiva</dc:title>
</cp:coreProperties>
</file>