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D3FE-3C95-4780-AF38-55150DA8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305-789F-4BE7-8D71-6E9F8035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525-AFB6-460F-86DE-62261454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6444-0941-4297-BD94-A6B2F7A7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FC44-3DFD-4EB4-A567-03B8869F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BF0-C562-4F62-9978-F4F85D89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3F78-9D9A-4529-8480-844E244B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7CA-0AFD-444A-B981-172022C6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0B9-11A7-455C-8670-7B15978E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838-578D-4E41-B436-BF7FD099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B8D-1B28-4830-97A4-08CBA584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5E92-359D-43C1-9013-17084630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DF24-E353-4AA6-8CC7-DCC9163D4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57280" y="506520"/>
          <a:ext cx="8286840" cy="63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06520"/>
                    <a:ext cx="8286840" cy="63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68160" y="495360"/>
          <a:ext cx="811404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95360"/>
                    <a:ext cx="811404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7480" y="407880"/>
          <a:ext cx="810252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407880"/>
                    <a:ext cx="81025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54200" y="506520"/>
          <a:ext cx="791676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06520"/>
                    <a:ext cx="791676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581280" y="1981080"/>
            <a:ext cx="11430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25909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33526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30360" y="593640"/>
          <a:ext cx="810252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10252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79400" y="531720"/>
          <a:ext cx="804060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31720"/>
                    <a:ext cx="804060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65760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160020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5238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33560" y="1523880"/>
            <a:ext cx="2057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809880" y="160020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30360" y="593640"/>
          <a:ext cx="805320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05320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30360" y="593640"/>
          <a:ext cx="78310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78310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730080" y="557280"/>
          <a:ext cx="786780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57280"/>
                    <a:ext cx="786780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93640" y="619200"/>
          <a:ext cx="804060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619200"/>
                    <a:ext cx="804060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531720"/>
          <a:ext cx="8499600" cy="58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31720"/>
                    <a:ext cx="849960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6520" y="519120"/>
          <a:ext cx="84740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19120"/>
                    <a:ext cx="84740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30360" y="593640"/>
          <a:ext cx="80038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0038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9800" y="433440"/>
          <a:ext cx="851076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33440"/>
                    <a:ext cx="851076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9120" y="433440"/>
          <a:ext cx="849960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33440"/>
                    <a:ext cx="849960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57280" y="519120"/>
          <a:ext cx="81388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19120"/>
                    <a:ext cx="81388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2760" y="433440"/>
          <a:ext cx="8399160" cy="72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399160" cy="72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68440" y="506520"/>
          <a:ext cx="836280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06520"/>
                    <a:ext cx="836280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3:29:15Z</dcterms:created>
  <dc:creator>jalvarez</dc:creator>
  <dc:description/>
  <dc:language>en-US</dc:language>
  <cp:lastModifiedBy>jalvarez</cp:lastModifiedBy>
  <cp:lastPrinted>2005-10-25T21:27:16Z</cp:lastPrinted>
  <dcterms:modified xsi:type="dcterms:W3CDTF">2005-10-26T12:36:10Z</dcterms:modified>
  <cp:revision>14</cp:revision>
  <dc:subject/>
  <dc:title>Sin título de diapositiva</dc:title>
</cp:coreProperties>
</file>