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41B-2822-466D-AD5F-99FAFEAA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DBB-A059-411F-A0B7-0D8D07E0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CF3-981C-43CA-88DB-01813607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9B6-8F44-4653-8A3B-CF8691D6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D54-5E9A-4E5D-8411-CC30B944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F72-6B7C-46EF-9329-CC838ECE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36B-B55D-4091-B607-3DFC2AC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15F-E6E1-4A79-AB9B-A7495EDC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389-009F-4116-982E-AFB63973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6AF-9F77-42E3-BB77-5BC48B89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2B9-13B8-4480-81FA-BD875432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9C2-B5D1-463D-85FF-334168DB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042D-C16A-4FDB-A80E-E22E96B4C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57280" y="506520"/>
          <a:ext cx="828684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06520"/>
                    <a:ext cx="828684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95360"/>
          <a:ext cx="81140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1140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407880"/>
          <a:ext cx="81025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07880"/>
                    <a:ext cx="81025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506520"/>
          <a:ext cx="791676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06520"/>
                    <a:ext cx="791676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581280" y="19810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909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352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30360" y="593640"/>
          <a:ext cx="81025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1025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531720"/>
          <a:ext cx="804060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31720"/>
                    <a:ext cx="804060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76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523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9880" y="16002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30360" y="593640"/>
          <a:ext cx="80532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532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30360" y="593640"/>
          <a:ext cx="7831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7831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30080" y="557280"/>
          <a:ext cx="78678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57280"/>
                    <a:ext cx="78678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93640" y="619200"/>
          <a:ext cx="804060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0406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531720"/>
          <a:ext cx="84996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996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19120"/>
          <a:ext cx="84740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740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593640"/>
          <a:ext cx="8003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03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33440"/>
          <a:ext cx="851076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33440"/>
                    <a:ext cx="851076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433440"/>
          <a:ext cx="84996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33440"/>
                    <a:ext cx="84996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519120"/>
          <a:ext cx="81388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19120"/>
                    <a:ext cx="81388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33440"/>
          <a:ext cx="8399160" cy="72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399160" cy="72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68440" y="506520"/>
          <a:ext cx="83628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3628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9:15Z</dcterms:created>
  <dc:creator>jalvarez</dc:creator>
  <dc:description/>
  <dc:language>en-US</dc:language>
  <cp:lastModifiedBy>jalvarez</cp:lastModifiedBy>
  <cp:lastPrinted>2005-10-25T21:27:16Z</cp:lastPrinted>
  <dcterms:modified xsi:type="dcterms:W3CDTF">2005-10-26T12:36:10Z</dcterms:modified>
  <cp:revision>14</cp:revision>
  <dc:subject/>
  <dc:title>Sin título de diapositiva</dc:title>
</cp:coreProperties>
</file>