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AB8-A80D-411D-AF0B-7F10184B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A18-6AB5-4D68-8E17-1007295D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E78-0962-489C-BE38-E58C34CE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42C-D7B5-49B0-8E53-D1141B37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0AC-F7D0-4426-9EBF-71EA1291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C32-ADFD-4852-85C9-D3FD6211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4AE-40A7-4F9C-80CA-5296B0B7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681-F9EC-4E6B-9AF5-083DD967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414F-9F08-4499-A917-B9AB5835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3DE-9783-4A79-9FB8-66039B75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86A-D1F6-4B76-8CD4-7C0B07D5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25F-0551-4FE2-9739-334E400F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6CF6-4993-4230-AD4E-6F1FF354D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4880" y="568440"/>
          <a:ext cx="80773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68440"/>
                    <a:ext cx="80773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6600" y="531720"/>
          <a:ext cx="79912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79912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606600"/>
          <a:ext cx="813888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06600"/>
                    <a:ext cx="81388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495360"/>
          <a:ext cx="82630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82630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30360" y="433440"/>
          <a:ext cx="83376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33440"/>
                    <a:ext cx="83376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4880" y="557280"/>
          <a:ext cx="81392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57280"/>
                    <a:ext cx="81392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54200" y="581040"/>
          <a:ext cx="79167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81040"/>
                    <a:ext cx="79167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92280" y="544680"/>
          <a:ext cx="8275680" cy="597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8275680" cy="59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42960" y="692280"/>
          <a:ext cx="8251920" cy="57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251920" cy="57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9200" y="482760"/>
          <a:ext cx="8386560" cy="62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82760"/>
                    <a:ext cx="8386560" cy="62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92000" y="630360"/>
          <a:ext cx="80409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30360"/>
                    <a:ext cx="80409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482760"/>
          <a:ext cx="831204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82760"/>
                    <a:ext cx="83120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54200" y="557280"/>
          <a:ext cx="814068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57280"/>
                    <a:ext cx="814068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865080" y="681120"/>
          <a:ext cx="7794720" cy="56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81120"/>
                    <a:ext cx="779472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730080" y="606600"/>
          <a:ext cx="8052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06600"/>
                    <a:ext cx="8052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593640"/>
          <a:ext cx="815184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15184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7280" y="606600"/>
          <a:ext cx="8448480" cy="78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606600"/>
                    <a:ext cx="8448480" cy="78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1120" y="544680"/>
          <a:ext cx="810108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44680"/>
                    <a:ext cx="810108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495360"/>
          <a:ext cx="837396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95360"/>
                    <a:ext cx="837396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495360"/>
          <a:ext cx="826308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95360"/>
                    <a:ext cx="82630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04880" y="606600"/>
          <a:ext cx="812808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06600"/>
                    <a:ext cx="812808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4200" y="630360"/>
          <a:ext cx="7967520" cy="580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30360"/>
                    <a:ext cx="796752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5:03:30Z</dcterms:created>
  <dc:creator>jalvarez</dc:creator>
  <dc:description/>
  <dc:language>en-US</dc:language>
  <cp:lastModifiedBy>jalvarez</cp:lastModifiedBy>
  <cp:lastPrinted>2005-09-02T16:03:30Z</cp:lastPrinted>
  <dcterms:modified xsi:type="dcterms:W3CDTF">2005-09-02T16:23:22Z</dcterms:modified>
  <cp:revision>5</cp:revision>
  <dc:subject/>
  <dc:title>Sin título de diapositiva</dc:title>
</cp:coreProperties>
</file>