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C3C-4B1C-4151-90CB-53E18DDC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AF0-097D-49A5-81D0-ECE0660E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9E6-0CDD-4FE1-A998-6587FCE7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6F6-B223-4195-B665-B06B17F2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AD7-7D2C-4BF7-B5A4-A1A7CF25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789-DF32-4C55-AE1A-E6CA35D5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0DE-67BD-4735-9388-24EBF71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620-FC89-4A43-8124-081A400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FCA-A1ED-4D08-8A59-E22D860D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BDA-DD92-4A87-95E7-99E7B8B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D57-2D30-4649-A019-38DD88C8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7BC-F10A-4E07-9D75-5B6FBCA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05E-574B-4589-87B9-EFCAA5EB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568440"/>
          <a:ext cx="80773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68440"/>
                    <a:ext cx="80773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6600" y="531720"/>
          <a:ext cx="79912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79912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606600"/>
          <a:ext cx="81388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81388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495360"/>
          <a:ext cx="8263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263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433440"/>
          <a:ext cx="8337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33440"/>
                    <a:ext cx="8337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4880" y="557280"/>
          <a:ext cx="81392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1392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4200" y="5810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544680"/>
          <a:ext cx="8275680" cy="59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8275680" cy="59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692280"/>
          <a:ext cx="825192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5192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48276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8276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92000" y="630360"/>
          <a:ext cx="80409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0360"/>
                    <a:ext cx="80409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82760"/>
          <a:ext cx="8312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8312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54200" y="557280"/>
          <a:ext cx="814068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57280"/>
                    <a:ext cx="814068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65080" y="681120"/>
          <a:ext cx="7794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81120"/>
                    <a:ext cx="7794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30080" y="606600"/>
          <a:ext cx="8052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06600"/>
                    <a:ext cx="8052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593640"/>
          <a:ext cx="81518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1518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7280" y="606600"/>
          <a:ext cx="8448480" cy="78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06600"/>
                    <a:ext cx="8448480" cy="78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544680"/>
          <a:ext cx="81010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1010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95360"/>
          <a:ext cx="837396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95360"/>
                    <a:ext cx="837396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495360"/>
          <a:ext cx="82630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5360"/>
                    <a:ext cx="82630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04880" y="606600"/>
          <a:ext cx="812808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12808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30360"/>
          <a:ext cx="796752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30360"/>
                    <a:ext cx="7967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03:30Z</dcterms:created>
  <dc:creator>jalvarez</dc:creator>
  <dc:description/>
  <dc:language>en-US</dc:language>
  <cp:lastModifiedBy>jalvarez</cp:lastModifiedBy>
  <cp:lastPrinted>2005-09-02T16:03:30Z</cp:lastPrinted>
  <dcterms:modified xsi:type="dcterms:W3CDTF">2005-09-02T16:23:22Z</dcterms:modified>
  <cp:revision>5</cp:revision>
  <dc:subject/>
  <dc:title>Sin título de diapositiva</dc:title>
</cp:coreProperties>
</file>