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BE-B9BE-4180-AED7-B35158A8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C7B-3B55-4090-8CEF-924599DB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FCF-A055-4FEA-B7A8-30B91A8D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22B-9442-45EA-88F0-A8B28035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9CE-BB20-4092-853C-C60BBB9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FB4-0F4D-4C06-84E6-73BDDB22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820-E0BC-478D-B4FA-55DB6582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C79-2711-448B-A1BE-24892A1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E7B-3037-4796-BA37-6B8FECAE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275-815E-4CB9-A3A1-ADFCA56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78A-D8B8-417D-A2CB-DF02845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507-ADF5-4ED5-8A4D-5167FE0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9DA1-F440-4C87-A081-EF953BA8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568440"/>
          <a:ext cx="80773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68440"/>
                    <a:ext cx="80773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6600" y="531720"/>
          <a:ext cx="79912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79912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606600"/>
          <a:ext cx="81388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81388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495360"/>
          <a:ext cx="8263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263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433440"/>
          <a:ext cx="8337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33440"/>
                    <a:ext cx="8337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4880" y="557280"/>
          <a:ext cx="81392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1392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4200" y="5810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544680"/>
          <a:ext cx="8275680" cy="59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8275680" cy="59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692280"/>
          <a:ext cx="825192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5192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48276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8276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92000" y="630360"/>
          <a:ext cx="80409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0360"/>
                    <a:ext cx="80409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82760"/>
          <a:ext cx="8312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8312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54200" y="557280"/>
          <a:ext cx="814068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57280"/>
                    <a:ext cx="814068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65080" y="681120"/>
          <a:ext cx="7794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81120"/>
                    <a:ext cx="7794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30080" y="606600"/>
          <a:ext cx="8052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06600"/>
                    <a:ext cx="8052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593640"/>
          <a:ext cx="81518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1518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7280" y="606600"/>
          <a:ext cx="8448480" cy="78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06600"/>
                    <a:ext cx="8448480" cy="78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544680"/>
          <a:ext cx="81010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1010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95360"/>
          <a:ext cx="837396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95360"/>
                    <a:ext cx="837396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495360"/>
          <a:ext cx="82630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5360"/>
                    <a:ext cx="82630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04880" y="606600"/>
          <a:ext cx="812808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12808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30360"/>
          <a:ext cx="796752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30360"/>
                    <a:ext cx="7967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03:30Z</dcterms:created>
  <dc:creator>jalvarez</dc:creator>
  <dc:description/>
  <dc:language>en-US</dc:language>
  <cp:lastModifiedBy>jalvarez</cp:lastModifiedBy>
  <cp:lastPrinted>2005-09-02T16:03:30Z</cp:lastPrinted>
  <dcterms:modified xsi:type="dcterms:W3CDTF">2005-09-02T16:23:22Z</dcterms:modified>
  <cp:revision>5</cp:revision>
  <dc:subject/>
  <dc:title>Sin título de diapositiva</dc:title>
</cp:coreProperties>
</file>