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55B-9512-40D2-82D3-CEDE4BB5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A25-656E-4157-BB51-B1DB9496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2F1-7952-4CF2-B710-2AB2FA35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899-6D25-432C-B004-E981227D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305-E30C-4DA5-B506-4D347CF5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EDF-FF4C-4FC5-8367-58FC560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2B5-B5EC-4679-BB1E-F5F4450E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F22-E3DB-4F82-BEC6-4764F29A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BEF-4A1D-45BD-8864-61F9AFA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3AB-6295-4511-8154-AD04CAC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0A0-A4AC-4C09-A81A-5ACF779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D51-154D-404B-8BD0-2D54987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520-C829-4C68-B540-F1019403E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568440"/>
          <a:ext cx="80773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68440"/>
                    <a:ext cx="80773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6600" y="531720"/>
          <a:ext cx="79912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79912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606600"/>
          <a:ext cx="81388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06600"/>
                    <a:ext cx="81388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495360"/>
          <a:ext cx="82630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2630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30360" y="433440"/>
          <a:ext cx="83376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33440"/>
                    <a:ext cx="83376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4880" y="557280"/>
          <a:ext cx="81392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1392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4200" y="581040"/>
          <a:ext cx="79167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79167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92280" y="544680"/>
          <a:ext cx="8275680" cy="59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8275680" cy="59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692280"/>
          <a:ext cx="8251920" cy="57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25192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48276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8276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92000" y="630360"/>
          <a:ext cx="80409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30360"/>
                    <a:ext cx="80409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482760"/>
          <a:ext cx="8312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8312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54200" y="557280"/>
          <a:ext cx="814068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57280"/>
                    <a:ext cx="814068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65080" y="681120"/>
          <a:ext cx="779472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81120"/>
                    <a:ext cx="7794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730080" y="606600"/>
          <a:ext cx="8052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06600"/>
                    <a:ext cx="8052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593640"/>
          <a:ext cx="8151840" cy="574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151840" cy="57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7280" y="606600"/>
          <a:ext cx="8448480" cy="789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606600"/>
                    <a:ext cx="8448480" cy="78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544680"/>
          <a:ext cx="81010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1010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495360"/>
          <a:ext cx="837396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95360"/>
                    <a:ext cx="837396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495360"/>
          <a:ext cx="82630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95360"/>
                    <a:ext cx="82630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04880" y="606600"/>
          <a:ext cx="812808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606600"/>
                    <a:ext cx="812808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4200" y="630360"/>
          <a:ext cx="7967520" cy="58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30360"/>
                    <a:ext cx="7967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5:03:30Z</dcterms:created>
  <dc:creator>jalvarez</dc:creator>
  <dc:description/>
  <dc:language>en-US</dc:language>
  <cp:lastModifiedBy>jalvarez</cp:lastModifiedBy>
  <cp:lastPrinted>2005-09-02T16:03:30Z</cp:lastPrinted>
  <dcterms:modified xsi:type="dcterms:W3CDTF">2005-09-02T16:23:22Z</dcterms:modified>
  <cp:revision>5</cp:revision>
  <dc:subject/>
  <dc:title>Sin título de diapositiva</dc:title>
</cp:coreProperties>
</file>