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7BAE-6862-4E49-B7AD-B15E9D78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DA32-2EE0-40B5-83C0-C6892A76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820-E329-4AFA-8CBA-1A3D4253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BBA-2493-4DB6-934F-CE45BB81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195-3621-4442-BFC5-7DF72B6C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D0F-6A9F-466D-889E-29EE6C0E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2FC-85D1-4CF4-93CA-A8E6F568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BCA-EAE9-40B2-82D8-B0CA4621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D3D-A097-4477-BD70-75484586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FE0-7BD4-4B3A-BFCB-1B20F515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7506-EBB3-4FCB-86F6-C11DCF74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EA84-650B-4C14-9B5D-DB2CACE7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4210-31BF-45BF-9546-A8F028879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17480" y="841320"/>
          <a:ext cx="81518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841320"/>
                    <a:ext cx="81518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65080" y="692280"/>
          <a:ext cx="758376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92280"/>
                    <a:ext cx="758376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39960" y="717480"/>
          <a:ext cx="741024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4102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76400" y="816120"/>
          <a:ext cx="7372440" cy="52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16120"/>
                    <a:ext cx="737244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41320" y="803160"/>
          <a:ext cx="8028000" cy="572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803160"/>
                    <a:ext cx="8028000" cy="57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581040"/>
          <a:ext cx="779328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81040"/>
                    <a:ext cx="779328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5840" y="593640"/>
          <a:ext cx="764388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93640"/>
                    <a:ext cx="764388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27080" y="890640"/>
          <a:ext cx="766908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890640"/>
                    <a:ext cx="7669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uble toDoubl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double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 toInt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i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palindrom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orme(“rada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numerico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numerico(“123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reemplazar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4200" y="681120"/>
          <a:ext cx="804060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804060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2080" y="841320"/>
          <a:ext cx="725004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841320"/>
                    <a:ext cx="725004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1600" y="803160"/>
          <a:ext cx="76564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803160"/>
                    <a:ext cx="76564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878040"/>
          <a:ext cx="74962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78040"/>
                    <a:ext cx="74962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06600" y="692280"/>
          <a:ext cx="82008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008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79400" y="841320"/>
          <a:ext cx="810252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841320"/>
                    <a:ext cx="81025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5-04-01T16:17:47Z</cp:lastPrinted>
  <dcterms:modified xsi:type="dcterms:W3CDTF">2005-04-04T15:22:01Z</dcterms:modified>
  <cp:revision>13</cp:revision>
  <dc:subject/>
  <dc:title>Sin título de diapositiva</dc:title>
</cp:coreProperties>
</file>