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BF5C-8B8C-445A-A009-875D27479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8D5A-6A1A-46D9-89FF-DFDBEF803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AFC1-C659-450D-8069-AD264AD57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065E-0498-4999-91D4-F47353D51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1A95-4F10-4BEC-8EA8-5A2494BB7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BC44-6A6B-44DC-A16D-F0990441C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C2FF-8E0D-48E5-B884-D92FD3E86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EDC4-E015-4651-80ED-67609AE55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9065-176D-4F26-93D4-33CB8C466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C27C-D9FD-4A29-A5BD-DA6F2815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3BC6-683F-4FC1-91B5-D83F87626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67FD-94CC-4982-BEA2-10FDB82A5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11988-B905-438B-9E00-CCD3DA77A0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249200" y="965160"/>
          <a:ext cx="7236000" cy="5318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9200" y="965160"/>
                    <a:ext cx="7236000" cy="531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717480" y="841320"/>
          <a:ext cx="8151840" cy="541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841320"/>
                    <a:ext cx="8151840" cy="541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865080" y="692280"/>
          <a:ext cx="7583760" cy="550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692280"/>
                    <a:ext cx="758376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939960" y="717480"/>
          <a:ext cx="7410240" cy="525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717480"/>
                    <a:ext cx="741024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1076400" y="816120"/>
          <a:ext cx="7372440" cy="522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816120"/>
                    <a:ext cx="7372440" cy="52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841320" y="803160"/>
          <a:ext cx="8028000" cy="572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803160"/>
                    <a:ext cx="8028000" cy="572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792000" y="581040"/>
          <a:ext cx="7793280" cy="576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" y="581040"/>
                    <a:ext cx="7793280" cy="57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915840" y="593640"/>
          <a:ext cx="7643880" cy="587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593640"/>
                    <a:ext cx="7643880" cy="587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1027080" y="890640"/>
          <a:ext cx="7669080" cy="525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7080" y="890640"/>
                    <a:ext cx="766908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pue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ouble toDouble(String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tring toString(double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t toInt(String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tring toString(int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oolean palindrome(String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: palindorme(“radar”)=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oolean numerico(String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: numerico(“123”)=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tring reemplazar(String x,String y,String 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: reemplazar(“abcde”,”bc”,”BC”)=“aBCd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841320" y="915840"/>
          <a:ext cx="7718400" cy="530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915840"/>
                    <a:ext cx="7718400" cy="530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754200" y="681120"/>
          <a:ext cx="8040600" cy="615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81120"/>
                    <a:ext cx="8040600" cy="61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162080" y="841320"/>
          <a:ext cx="7250040" cy="550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2080" y="841320"/>
                    <a:ext cx="7250040" cy="55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101600" y="803160"/>
          <a:ext cx="7656480" cy="558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1600" y="803160"/>
                    <a:ext cx="7656480" cy="55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050840" y="878040"/>
          <a:ext cx="7496280" cy="63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0840" y="878040"/>
                    <a:ext cx="7496280" cy="63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841320" y="642960"/>
          <a:ext cx="5702400" cy="786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642960"/>
                    <a:ext cx="5702400" cy="786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606600" y="692280"/>
          <a:ext cx="8200800" cy="83865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6600" y="692280"/>
                    <a:ext cx="8200800" cy="83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841320" y="222120"/>
          <a:ext cx="8015400" cy="593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222120"/>
                    <a:ext cx="8015400" cy="593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606600" y="816120"/>
          <a:ext cx="8064360" cy="54324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6600" y="816120"/>
                    <a:ext cx="8064360" cy="543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79400" y="841320"/>
          <a:ext cx="8102520" cy="570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9400" y="841320"/>
                    <a:ext cx="810252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7T12:56:39Z</dcterms:created>
  <dc:creator>jalvarez</dc:creator>
  <dc:description/>
  <dc:language>en-US</dc:language>
  <cp:lastModifiedBy>jalvarez</cp:lastModifiedBy>
  <cp:lastPrinted>2005-04-01T16:17:47Z</cp:lastPrinted>
  <dcterms:modified xsi:type="dcterms:W3CDTF">2005-04-04T15:22:01Z</dcterms:modified>
  <cp:revision>13</cp:revision>
  <dc:subject/>
  <dc:title>Sin título de diapositiva</dc:title>
</cp:coreProperties>
</file>