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992-23CE-4910-A412-9CAD08CC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4265-D31E-47F5-B352-EAA6CFA7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636-FC57-4FAA-9998-255E08C5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1D4-7D7B-430D-B308-AE171A9F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E01-4722-417B-8A5E-B053BCB7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AD3-6413-4488-B809-081ABC1C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A23-E661-4003-988A-A4713FDF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A5D-2E84-46CD-A18F-3172A33D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F64-2B66-4AD3-AA77-8804B9C7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AA4-88F1-43AD-BCCA-48C4410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B1C-AF9B-429F-B05A-503BFDB6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352-078B-4E20-99BC-A8F4ABD7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37FF-118F-47FA-B95F-F2228FC45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57280" y="506520"/>
          <a:ext cx="8286840" cy="63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06520"/>
                    <a:ext cx="8286840" cy="63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95360"/>
          <a:ext cx="81140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81140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7480" y="407880"/>
          <a:ext cx="810252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407880"/>
                    <a:ext cx="81025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54200" y="506520"/>
          <a:ext cx="791676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06520"/>
                    <a:ext cx="791676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581280" y="1981080"/>
            <a:ext cx="11430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259092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733920" y="335268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30360" y="593640"/>
          <a:ext cx="810252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1025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79400" y="531720"/>
          <a:ext cx="804060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31720"/>
                    <a:ext cx="804060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65760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16002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523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33560" y="1523880"/>
            <a:ext cx="2057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809880" y="16002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30360" y="593640"/>
          <a:ext cx="805320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532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30360" y="593640"/>
          <a:ext cx="78310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78310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730080" y="557280"/>
          <a:ext cx="786780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57280"/>
                    <a:ext cx="786780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93640" y="619200"/>
          <a:ext cx="804060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19200"/>
                    <a:ext cx="804060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531720"/>
          <a:ext cx="849960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31720"/>
                    <a:ext cx="849960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06520" y="519120"/>
          <a:ext cx="84740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740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593640"/>
          <a:ext cx="80038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0038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33440"/>
          <a:ext cx="851076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33440"/>
                    <a:ext cx="851076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9120" y="433440"/>
          <a:ext cx="849960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33440"/>
                    <a:ext cx="849960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7280" y="519120"/>
          <a:ext cx="81388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19120"/>
                    <a:ext cx="81388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2760" y="433440"/>
          <a:ext cx="8399160" cy="72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399160" cy="72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68440" y="506520"/>
          <a:ext cx="83628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06520"/>
                    <a:ext cx="83628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3:29:15Z</dcterms:created>
  <dc:creator>jalvarez</dc:creator>
  <dc:description/>
  <dc:language>en-US</dc:language>
  <cp:lastModifiedBy>jalvarez</cp:lastModifiedBy>
  <cp:lastPrinted>2005-10-25T21:27:16Z</cp:lastPrinted>
  <dcterms:modified xsi:type="dcterms:W3CDTF">2005-10-26T12:36:10Z</dcterms:modified>
  <cp:revision>14</cp:revision>
  <dc:subject/>
  <dc:title>Sin título de diapositiva</dc:title>
</cp:coreProperties>
</file>