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57A-7E11-41B3-A74D-C063B3A2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321-A24A-48B5-9AB2-D44A95B7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936-C222-45AC-8DF5-B7CB68F7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A04-F74E-4E13-911C-C8B68C96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6AB-1C39-439A-AC10-8CE8DDED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FD5-DFFD-4A37-877B-B7FDBF25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FDB-018E-4141-A78F-59D61DB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B70-5F73-4FCF-B3B8-71A74D38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6E2-A985-41F4-BC08-D86524BA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7F1-EB3A-4D79-84E7-25A9E7D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218-0D15-473D-947D-6ED0A4ED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E82-820F-4DA1-B5E4-9E84719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3549-73C8-4545-94D5-D598A9A2F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57280" y="506520"/>
          <a:ext cx="828684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06520"/>
                    <a:ext cx="828684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95360"/>
          <a:ext cx="81140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1140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407880"/>
          <a:ext cx="81025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07880"/>
                    <a:ext cx="81025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506520"/>
          <a:ext cx="791676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06520"/>
                    <a:ext cx="791676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581280" y="19810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909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352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30360" y="593640"/>
          <a:ext cx="81025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1025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531720"/>
          <a:ext cx="804060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31720"/>
                    <a:ext cx="804060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760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523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560" y="15238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9880" y="16002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30360" y="593640"/>
          <a:ext cx="80532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532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30360" y="593640"/>
          <a:ext cx="7831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7831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30080" y="557280"/>
          <a:ext cx="78678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57280"/>
                    <a:ext cx="78678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93640" y="619200"/>
          <a:ext cx="804060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0406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531720"/>
          <a:ext cx="84996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996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19120"/>
          <a:ext cx="84740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740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593640"/>
          <a:ext cx="8003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03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33440"/>
          <a:ext cx="851076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33440"/>
                    <a:ext cx="851076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433440"/>
          <a:ext cx="84996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33440"/>
                    <a:ext cx="84996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519120"/>
          <a:ext cx="81388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19120"/>
                    <a:ext cx="81388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33440"/>
          <a:ext cx="8399160" cy="72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399160" cy="72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68440" y="506520"/>
          <a:ext cx="83628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3628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9:15Z</dcterms:created>
  <dc:creator>jalvarez</dc:creator>
  <dc:description/>
  <dc:language>en-US</dc:language>
  <cp:lastModifiedBy>jalvarez</cp:lastModifiedBy>
  <cp:lastPrinted>2005-10-25T21:27:16Z</cp:lastPrinted>
  <dcterms:modified xsi:type="dcterms:W3CDTF">2005-10-26T12:36:10Z</dcterms:modified>
  <cp:revision>14</cp:revision>
  <dc:subject/>
  <dc:title>Sin título de diapositiva</dc:title>
</cp:coreProperties>
</file>