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B2EB-5E15-497B-94AA-E9F30CA18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5772-0794-4ACB-87F5-D8694A81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F780-FEA0-4AD6-8B0B-7C8EEC3A0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745A-8F0F-4104-8A69-7271D756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A99A-AE27-462E-90C3-EE8FDA96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E3BB-999B-459D-AA42-F5F9E30C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C3F5-4372-465B-A1F7-122EF3D0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B918-9F65-4800-8CF8-6992D189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DFA0-63A0-4968-9AE1-7BFD7D08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338B-CE1A-4A94-83E1-71B5C7AD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EA02-653F-4B16-A8AF-EC3F446B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989F-1AAE-4338-B1A1-DC388F6A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F635-21DB-4D60-9A29-38748E950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57280" y="506520"/>
          <a:ext cx="8286840" cy="631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506520"/>
                    <a:ext cx="8286840" cy="63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68160" y="495360"/>
          <a:ext cx="8114040" cy="593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95360"/>
                    <a:ext cx="8114040" cy="59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17480" y="407880"/>
          <a:ext cx="8102520" cy="61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407880"/>
                    <a:ext cx="8102520" cy="61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54200" y="506520"/>
          <a:ext cx="7916760" cy="587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06520"/>
                    <a:ext cx="7916760" cy="58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581280" y="1981080"/>
            <a:ext cx="114300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2590920"/>
            <a:ext cx="10666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33920" y="335268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4038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30360" y="593640"/>
          <a:ext cx="8102520" cy="595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93640"/>
                    <a:ext cx="810252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79400" y="531720"/>
          <a:ext cx="8040600" cy="587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531720"/>
                    <a:ext cx="804060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3657600" y="1523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160020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57400" y="152388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733560" y="1523880"/>
            <a:ext cx="20574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809880" y="1600200"/>
            <a:ext cx="3200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30360" y="593640"/>
          <a:ext cx="8053200" cy="56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93640"/>
                    <a:ext cx="8053200" cy="56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630360" y="593640"/>
          <a:ext cx="783108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93640"/>
                    <a:ext cx="783108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730080" y="557280"/>
          <a:ext cx="786780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557280"/>
                    <a:ext cx="786780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593640" y="619200"/>
          <a:ext cx="8040600" cy="596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619200"/>
                    <a:ext cx="8040600" cy="59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19120" y="531720"/>
          <a:ext cx="8499600" cy="581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531720"/>
                    <a:ext cx="8499600" cy="58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06520" y="519120"/>
          <a:ext cx="84740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19120"/>
                    <a:ext cx="84740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30360" y="593640"/>
          <a:ext cx="800388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93640"/>
                    <a:ext cx="800388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69800" y="433440"/>
          <a:ext cx="851076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33440"/>
                    <a:ext cx="851076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19120" y="433440"/>
          <a:ext cx="8499600" cy="62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33440"/>
                    <a:ext cx="8499600" cy="62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57280" y="519120"/>
          <a:ext cx="81388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519120"/>
                    <a:ext cx="81388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82760" y="433440"/>
          <a:ext cx="8399160" cy="726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33440"/>
                    <a:ext cx="8399160" cy="72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68440" y="506520"/>
          <a:ext cx="8362800" cy="587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506520"/>
                    <a:ext cx="8362800" cy="58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3:29:15Z</dcterms:created>
  <dc:creator>jalvarez</dc:creator>
  <dc:description/>
  <dc:language>en-US</dc:language>
  <cp:lastModifiedBy>jalvarez</cp:lastModifiedBy>
  <cp:lastPrinted>2005-10-25T21:27:16Z</cp:lastPrinted>
  <dcterms:modified xsi:type="dcterms:W3CDTF">2005-10-26T12:36:10Z</dcterms:modified>
  <cp:revision>14</cp:revision>
  <dc:subject/>
  <dc:title>Sin título de diapositiva</dc:title>
</cp:coreProperties>
</file>