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BBB-592C-4185-BEB0-1480A57C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BF7-C431-4206-9891-E41243B2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36B-AE46-4E7D-B66F-12F85FA2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141-59EF-4BEA-9FA4-6C19ED2B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6FB-3C6D-467D-977D-A9BD50EC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93B-8412-4929-8EA3-F665282A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9DC-D429-498D-AF7E-35CC8777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58B-9B8E-4E87-B6DB-A01ED462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656-0442-435E-8663-B8088275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90B-C9CB-4EB5-B7CC-AAF274EE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F168-47D1-45CB-9176-D2A50514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DBE-E3CB-4480-8D03-7335AD88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8F64-A3D2-446B-BA4F-1954A98F0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1720" y="531720"/>
          <a:ext cx="832500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31720"/>
                    <a:ext cx="832500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506520"/>
          <a:ext cx="8523360" cy="61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06520"/>
                    <a:ext cx="852336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46040" y="457200"/>
          <a:ext cx="85345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57200"/>
                    <a:ext cx="85345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95280" y="446040"/>
          <a:ext cx="853596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53596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46040" y="506520"/>
          <a:ext cx="85964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06520"/>
                    <a:ext cx="85964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17480" y="593640"/>
          <a:ext cx="802800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802800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20840"/>
          <a:ext cx="8535960" cy="65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20840"/>
                    <a:ext cx="8535960" cy="65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8440" y="420840"/>
          <a:ext cx="842472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20840"/>
                    <a:ext cx="842472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42960" y="557280"/>
          <a:ext cx="808992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57280"/>
                    <a:ext cx="808992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482760"/>
          <a:ext cx="84614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614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407880"/>
          <a:ext cx="8437680" cy="63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07880"/>
                    <a:ext cx="8437680" cy="63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16120" y="581040"/>
          <a:ext cx="7669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581040"/>
                    <a:ext cx="7669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6040" y="384120"/>
          <a:ext cx="859644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4120"/>
                    <a:ext cx="859644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33440" y="581040"/>
          <a:ext cx="85345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81040"/>
                    <a:ext cx="85345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457200"/>
          <a:ext cx="858528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8528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6040" y="407880"/>
          <a:ext cx="8583840" cy="66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07880"/>
                    <a:ext cx="858384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09600" y="0"/>
          <a:ext cx="8585280" cy="66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0"/>
                    <a:ext cx="8585280" cy="66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20840" y="446040"/>
          <a:ext cx="851040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6040"/>
                    <a:ext cx="851040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23:56:05Z</dcterms:created>
  <dc:creator>jalvarez</dc:creator>
  <dc:description/>
  <dc:language>en-US</dc:language>
  <cp:lastModifiedBy>jalvarez</cp:lastModifiedBy>
  <cp:lastPrinted>2005-08-26T22:23:40Z</cp:lastPrinted>
  <dcterms:modified xsi:type="dcterms:W3CDTF">2005-08-29T17:08:22Z</dcterms:modified>
  <cp:revision>22</cp:revision>
  <dc:subject/>
  <dc:title>Sin título de diapositiva</dc:title>
</cp:coreProperties>
</file>