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3CF-6F88-4C59-8AE8-0186FF43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A53-3802-4327-AE67-40CE68A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540-4FE3-43FD-A8DC-A3981DCF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4E5-8951-4F9F-B224-3ED56995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1E5-C66B-41CA-82C3-0B21B40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E3C-5569-4764-A000-84AE3A4C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CF0-ACAD-4710-88F1-A1D41535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0E2-C5CB-413B-B17F-5B13165B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836-31C8-4799-9D75-4C40FF4C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DD7-2BB2-448A-921C-9E1A723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EE0-EE4D-481A-9B9E-F6A20F5F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96A-FDB9-4BB7-90A9-AC29A78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733A-71A7-427E-94F7-1544E59CD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1720" y="531720"/>
          <a:ext cx="83250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31720"/>
                    <a:ext cx="83250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06520"/>
          <a:ext cx="8523360" cy="61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6520"/>
                    <a:ext cx="852336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6040" y="457200"/>
          <a:ext cx="85345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57200"/>
                    <a:ext cx="85345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53596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53596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506520"/>
          <a:ext cx="85964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06520"/>
                    <a:ext cx="85964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7480" y="593640"/>
          <a:ext cx="802800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2800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20840"/>
          <a:ext cx="853596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20840"/>
                    <a:ext cx="853596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557280"/>
          <a:ext cx="80899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57280"/>
                    <a:ext cx="80899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482760"/>
          <a:ext cx="84614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614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407880"/>
          <a:ext cx="8437680" cy="63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07880"/>
                    <a:ext cx="8437680" cy="63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581040"/>
          <a:ext cx="7669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581040"/>
                    <a:ext cx="7669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6040" y="384120"/>
          <a:ext cx="859644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4120"/>
                    <a:ext cx="859644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3440" y="581040"/>
          <a:ext cx="85345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81040"/>
                    <a:ext cx="85345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57200"/>
          <a:ext cx="858528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8528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407880"/>
          <a:ext cx="85838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07880"/>
                    <a:ext cx="85838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9600" y="0"/>
          <a:ext cx="858528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0"/>
                    <a:ext cx="858528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0840" y="446040"/>
          <a:ext cx="85104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6040"/>
                    <a:ext cx="85104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23:56:05Z</dcterms:created>
  <dc:creator>jalvarez</dc:creator>
  <dc:description/>
  <dc:language>en-US</dc:language>
  <cp:lastModifiedBy>jalvarez</cp:lastModifiedBy>
  <cp:lastPrinted>2005-08-26T22:23:40Z</cp:lastPrinted>
  <dcterms:modified xsi:type="dcterms:W3CDTF">2005-08-29T17:08:22Z</dcterms:modified>
  <cp:revision>22</cp:revision>
  <dc:subject/>
  <dc:title>Sin título de diapositiva</dc:title>
</cp:coreProperties>
</file>