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03E-1952-4217-8A89-530F5DF1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57C-6A08-4F8A-82DE-5B69A7A9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519E-971F-47CC-ABCC-8E591434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3F88-C626-4A7E-8A33-FA022F52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95F-7D3B-4FE8-B8E8-0842D223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23A-A71A-41B0-9C1C-14DC192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4FE-ACAD-46B0-9219-5D620FAF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ABE-8071-4928-B3E3-522A3E0D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7A3-C49E-4555-AF42-4DDFD5A4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7B3-93F4-4C50-A97D-D1F8F840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4DF-A636-4D65-9D2B-B74290CC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CEDB-0AAC-4D32-B71C-38212DC7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2ACD-6196-420C-882B-5C529E163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1720" y="531720"/>
          <a:ext cx="832500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31720"/>
                    <a:ext cx="832500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06520"/>
          <a:ext cx="8523360" cy="61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06520"/>
                    <a:ext cx="8523360" cy="61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46040" y="457200"/>
          <a:ext cx="85345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57200"/>
                    <a:ext cx="85345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95280" y="446040"/>
          <a:ext cx="853596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53596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46040" y="506520"/>
          <a:ext cx="85964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06520"/>
                    <a:ext cx="85964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17480" y="593640"/>
          <a:ext cx="802800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93640"/>
                    <a:ext cx="802800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20840"/>
          <a:ext cx="8535960" cy="653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20840"/>
                    <a:ext cx="8535960" cy="653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68440" y="420840"/>
          <a:ext cx="842472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20840"/>
                    <a:ext cx="842472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42960" y="557280"/>
          <a:ext cx="808992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57280"/>
                    <a:ext cx="808992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57200" y="482760"/>
          <a:ext cx="846144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82760"/>
                    <a:ext cx="846144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1040" y="407880"/>
          <a:ext cx="8437680" cy="63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407880"/>
                    <a:ext cx="8437680" cy="63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16120" y="581040"/>
          <a:ext cx="76690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581040"/>
                    <a:ext cx="76690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6040" y="384120"/>
          <a:ext cx="859644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84120"/>
                    <a:ext cx="859644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33440" y="581040"/>
          <a:ext cx="853452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581040"/>
                    <a:ext cx="85345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457200"/>
          <a:ext cx="858528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8528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6040" y="407880"/>
          <a:ext cx="8583840" cy="66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407880"/>
                    <a:ext cx="8583840" cy="66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09600" y="0"/>
          <a:ext cx="858528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0"/>
                    <a:ext cx="858528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20840" y="446040"/>
          <a:ext cx="85104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446040"/>
                    <a:ext cx="85104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23:56:05Z</dcterms:created>
  <dc:creator>jalvarez</dc:creator>
  <dc:description/>
  <dc:language>en-US</dc:language>
  <cp:lastModifiedBy>jalvarez</cp:lastModifiedBy>
  <cp:lastPrinted>2005-08-26T22:23:40Z</cp:lastPrinted>
  <dcterms:modified xsi:type="dcterms:W3CDTF">2005-08-29T17:08:22Z</dcterms:modified>
  <cp:revision>22</cp:revision>
  <dc:subject/>
  <dc:title>Sin título de diapositiva</dc:title>
</cp:coreProperties>
</file>