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9D9-D645-4A38-816F-D9250D81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E5A-DC4C-4099-81E6-9596209F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8E5-D08F-4DCA-B3BA-C7A1FD0E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808-34C0-4E3A-9A0D-AF9BF1CF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7F7-439C-4069-B4BC-E38E0887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284-B695-4F1D-B7F9-14016607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BC6-EFE9-4E8F-A3F1-0B073DC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E15-4FC3-47EE-A878-B300920C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9EB-1CB7-49D4-B79A-40B9582C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9D1-F94C-4A27-A8B4-B116BCC8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AF4-7C2C-419F-A503-832B6783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F5B-198C-4BC0-B866-FE2F7F52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784E-A678-4C85-AED9-77276BECD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1720" y="531720"/>
          <a:ext cx="83250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31720"/>
                    <a:ext cx="83250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06520"/>
          <a:ext cx="8523360" cy="61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6520"/>
                    <a:ext cx="852336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6040" y="457200"/>
          <a:ext cx="85345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57200"/>
                    <a:ext cx="85345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53596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53596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506520"/>
          <a:ext cx="85964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06520"/>
                    <a:ext cx="85964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7480" y="593640"/>
          <a:ext cx="802800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2800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20840"/>
          <a:ext cx="853596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20840"/>
                    <a:ext cx="853596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557280"/>
          <a:ext cx="80899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57280"/>
                    <a:ext cx="80899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482760"/>
          <a:ext cx="84614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614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407880"/>
          <a:ext cx="8437680" cy="63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07880"/>
                    <a:ext cx="8437680" cy="63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581040"/>
          <a:ext cx="7669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581040"/>
                    <a:ext cx="7669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6040" y="384120"/>
          <a:ext cx="859644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4120"/>
                    <a:ext cx="859644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3440" y="581040"/>
          <a:ext cx="85345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81040"/>
                    <a:ext cx="85345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57200"/>
          <a:ext cx="858528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8528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407880"/>
          <a:ext cx="85838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07880"/>
                    <a:ext cx="85838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9600" y="0"/>
          <a:ext cx="858528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0"/>
                    <a:ext cx="858528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0840" y="446040"/>
          <a:ext cx="85104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6040"/>
                    <a:ext cx="85104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23:56:05Z</dcterms:created>
  <dc:creator>jalvarez</dc:creator>
  <dc:description/>
  <dc:language>en-US</dc:language>
  <cp:lastModifiedBy>jalvarez</cp:lastModifiedBy>
  <cp:lastPrinted>2005-08-26T22:23:40Z</cp:lastPrinted>
  <dcterms:modified xsi:type="dcterms:W3CDTF">2005-08-29T17:08:22Z</dcterms:modified>
  <cp:revision>22</cp:revision>
  <dc:subject/>
  <dc:title>Sin título de diapositiva</dc:title>
</cp:coreProperties>
</file>