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896-B22C-455D-ADFF-8AD36D13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436-66C5-4A4C-8F45-B6C218E4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C04-D504-4D39-B3D6-723BC5CA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FDE-5A4B-4FAC-95D2-810672C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B14-E5AC-4E6E-A422-6BF1879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C66-0A03-445F-8880-F3692ACB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2C9-BBA5-4CA4-8E21-9B53A0AF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D78-95F3-4AC9-A895-5372CF44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2B9-C81C-41B4-97FB-B93A8C07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459-C7E0-4747-BCDE-5599ABC7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D4B-B4F2-4C85-98F6-FF1D408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DDD-FEDC-4BEC-90CB-E6D1576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0B8B-D54E-4413-9B07-3CDC51104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5840" y="519120"/>
          <a:ext cx="774396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74396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4880" y="433440"/>
          <a:ext cx="799128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33440"/>
                    <a:ext cx="799128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5560" y="557280"/>
          <a:ext cx="821376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1376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3160" y="557280"/>
          <a:ext cx="799164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799164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57280" y="743040"/>
          <a:ext cx="82994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43040"/>
                    <a:ext cx="82994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557280"/>
          <a:ext cx="80042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80042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2560" y="754200"/>
          <a:ext cx="7508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54200"/>
                    <a:ext cx="7508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68440"/>
          <a:ext cx="8101080" cy="72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101080" cy="72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2280" y="717480"/>
          <a:ext cx="814068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17480"/>
                    <a:ext cx="814068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06520"/>
          <a:ext cx="820080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06520"/>
                    <a:ext cx="82008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5191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619200"/>
          <a:ext cx="82249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249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5840" y="519120"/>
          <a:ext cx="78296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82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06520"/>
          <a:ext cx="822636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822636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9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9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68160"/>
          <a:ext cx="8004240" cy="56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68160"/>
                    <a:ext cx="8004240" cy="56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5-07-26T21:47:06Z</cp:lastPrinted>
  <dcterms:modified xsi:type="dcterms:W3CDTF">2005-07-27T20:24:26Z</dcterms:modified>
  <cp:revision>6</cp:revision>
  <dc:subject/>
  <dc:title>Sin título de diapositiva</dc:title>
</cp:coreProperties>
</file>