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A8E2-2CFE-4BB8-B36E-A7EAA8B0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92B2-33EA-433D-BC76-6B9ACDB0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383F-BB7A-4EA5-98B7-A5834083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0E8A-88E0-4DF0-A7DC-4DE36DBC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8F9D-815B-476C-8EB7-91FDB0CB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5EE2-1692-4DE8-80A8-D5FCA74A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36F7-1833-49E2-975C-BF8801D1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D1BD-8994-4D4E-9A77-F0D1C05D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A6D3-ADA0-4612-B143-3C106090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F2A2-B571-4225-B9E1-4852B5BD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F39-3912-4A86-83CE-BCA48127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960B-3CD8-45C5-AD90-7AFBC850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9DDC-9206-469F-91A7-DC9557AEF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15840" y="519120"/>
          <a:ext cx="7743960" cy="62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519120"/>
                    <a:ext cx="7743960" cy="62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04880" y="433440"/>
          <a:ext cx="7991280" cy="628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433440"/>
                    <a:ext cx="7991280" cy="62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457200"/>
          <a:ext cx="8177040" cy="66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57200"/>
                    <a:ext cx="8177040" cy="66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55560" y="557280"/>
          <a:ext cx="821376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57280"/>
                    <a:ext cx="821376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03160" y="557280"/>
          <a:ext cx="7991640" cy="653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557280"/>
                    <a:ext cx="7991640" cy="65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57280" y="743040"/>
          <a:ext cx="829944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743040"/>
                    <a:ext cx="82994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803160" y="557280"/>
          <a:ext cx="800424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557280"/>
                    <a:ext cx="800424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952560" y="754200"/>
          <a:ext cx="7508880" cy="551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754200"/>
                    <a:ext cx="7508880" cy="55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43040" y="568440"/>
          <a:ext cx="8101080" cy="72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68440"/>
                    <a:ext cx="8101080" cy="72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92280" y="717480"/>
          <a:ext cx="8140680" cy="559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717480"/>
                    <a:ext cx="814068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44680" y="506520"/>
          <a:ext cx="8200800" cy="583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06520"/>
                    <a:ext cx="8200800" cy="58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43040" y="519120"/>
          <a:ext cx="791676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19120"/>
                    <a:ext cx="791676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1120" y="619200"/>
          <a:ext cx="822492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619200"/>
                    <a:ext cx="822492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15840" y="519120"/>
          <a:ext cx="782964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519120"/>
                    <a:ext cx="782964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30360" y="506520"/>
          <a:ext cx="8226360" cy="61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06520"/>
                    <a:ext cx="8226360" cy="61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90640" y="642960"/>
          <a:ext cx="77929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642960"/>
                    <a:ext cx="77929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28720" y="668160"/>
          <a:ext cx="8004240" cy="561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668160"/>
                    <a:ext cx="8004240" cy="56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18:37:05Z</dcterms:created>
  <dc:creator>jalvarez</dc:creator>
  <dc:description/>
  <dc:language>en-US</dc:language>
  <cp:lastModifiedBy>jalvarez</cp:lastModifiedBy>
  <cp:lastPrinted>2005-07-26T21:47:06Z</cp:lastPrinted>
  <dcterms:modified xsi:type="dcterms:W3CDTF">2005-07-27T20:24:26Z</dcterms:modified>
  <cp:revision>6</cp:revision>
  <dc:subject/>
  <dc:title>Sin título de diapositiva</dc:title>
</cp:coreProperties>
</file>